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5DC6-F2A9-4BA8-968F-BE6772F0A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ing behavior: objective s.t. constraints:  strategic self-interest s.t. info, $,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trained optimization, objective "rational 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cience: interactions, competition for uses of resources determine their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 value : this influences their usage and their al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le Prefs;</a:t>
            </a:r>
            <a:br>
              <a:rPr sz="1200"/>
            </a:br>
            <a:r>
              <a:rPr b="0" lang="en-US" sz="1200" spc="-1" strike="noStrike">
                <a:solidFill>
                  <a:srgbClr val="000000"/>
                </a:solidFill>
                <a:latin typeface="Arial"/>
              </a:rPr>
              <a:t>  The explanation or understanding of a choice or action is not, generally that the desiderata – health, affection, knowledge – "changed."  Tastes do differ among individuals and do change over time, but their change is not an attractive explanation of a social phenomenon:  it's circular: div rates rise because tastes or attitudes toward divorce became more relaxed,  cohabitation is more prevalent because it has become a socially accepted new form of family structure: not really an explanation, not and economic approac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E40CD-0AB2-489D-919B-B6C172DD9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02D4B-8378-4817-8DD6-509F1F1B5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3127A-C5EE-4742-8D58-8041051B8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DB439-76F9-44D5-82C1-7E2169833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63468-CFBA-434D-8094-21A1631AA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3412E-F923-4793-960A-E5DC31B17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42E24-F5C3-448C-9205-6E1EB8697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31C7D-C331-4BB8-98D4-06E10A5A9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B7342-E98A-451C-9643-FFE140FA4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77713-FB53-4CC6-98F6-B8D008B21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E9253-5D8E-4C83-B3C6-B7DF64CA1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D40F8-EE2B-4DA1-B24E-6199C558F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9BB95-0774-4B8F-831F-6344ACB66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F6528-A053-4E76-8FBF-C732234C7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0E63D-3326-44E1-BCC3-5BCB8F931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F2A8A-C2A6-425A-898B-018C5044D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374BD-DE34-412D-B90D-53D0A86D8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DF1F6-B4DC-4F1F-AB7B-F1484DF8A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06B09-D3AC-4916-B527-E4C03E772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248D4-294E-4D14-892C-50986ADB3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C8EA7-4CED-417D-8660-6A8C5FE43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5703-4969-490B-A8D3-DE72FF62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15C2-70E8-484B-A979-ED43D790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152E4-07C2-4F91-BB73-56512CE9B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4100-BE91-422D-B7C0-85D5BDEBFBB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980E-F608-4A16-B95E-64EDA6F3915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ocial interactions beyond the family: peers and community</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nomic perspective and some of the complementary data from the NLS</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NLS User Workshop 2007 -- Michael and Datta, NORC at the University of Chicag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66720" y="608040"/>
            <a:ext cx="6758280" cy="421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dividual’s choice about her own efforts and outco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school, ω</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 can be modelled as a basic linear model, wi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ial interaction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ω</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d</a:t>
            </a:r>
            <a:r>
              <a:rPr b="0" lang="en-US" sz="2400" spc="-1" strike="noStrike">
                <a:solidFill>
                  <a:srgbClr val="000000"/>
                </a:solidFill>
                <a:latin typeface="Times New Roman"/>
              </a:rPr>
              <a:t>Y</a:t>
            </a:r>
            <a:r>
              <a:rPr b="0" lang="en-US" sz="2400" spc="-1" strike="noStrike" baseline="-25000">
                <a:solidFill>
                  <a:srgbClr val="000000"/>
                </a:solidFill>
                <a:latin typeface="Times New Roman"/>
              </a:rPr>
              <a:t>g</a:t>
            </a:r>
            <a:r>
              <a:rPr b="0" lang="en-US" sz="2400" spc="-1" strike="noStrike">
                <a:solidFill>
                  <a:srgbClr val="000000"/>
                </a:solidFill>
                <a:latin typeface="Times New Roman"/>
              </a:rPr>
              <a:t> + </a:t>
            </a:r>
            <a:r>
              <a:rPr b="0" i="1" lang="en-US" sz="2400" spc="-1" strike="noStrike">
                <a:solidFill>
                  <a:srgbClr val="000000"/>
                </a:solidFill>
                <a:latin typeface="Times New Roman"/>
              </a:rPr>
              <a:t>j</a:t>
            </a:r>
            <a:r>
              <a:rPr b="0" lang="en-US" sz="2400" spc="-1" strike="noStrike">
                <a:solidFill>
                  <a:srgbClr val="000000"/>
                </a:solidFill>
                <a:latin typeface="Times New Roman"/>
              </a:rPr>
              <a:t>m</a:t>
            </a:r>
            <a:r>
              <a:rPr b="0" lang="en-US" sz="2400" spc="-1" strike="noStrike" baseline="30000">
                <a:solidFill>
                  <a:srgbClr val="000000"/>
                </a:solidFill>
                <a:latin typeface="Times New Roman"/>
              </a:rPr>
              <a:t>e</a:t>
            </a:r>
            <a:r>
              <a:rPr b="0" lang="en-US" sz="2400" spc="-1" strike="noStrike">
                <a:solidFill>
                  <a:srgbClr val="000000"/>
                </a:solidFill>
                <a:latin typeface="Times New Roman"/>
              </a:rPr>
              <a:t> + 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s a scalar (there’s only 1 m) since m is the group’s average 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a:t>
            </a:r>
            <a:r>
              <a:rPr b="0" i="1" lang="en-US" sz="2000" spc="-1" strike="noStrike">
                <a:solidFill>
                  <a:srgbClr val="000000"/>
                </a:solidFill>
                <a:latin typeface="Times New Roman"/>
              </a:rPr>
              <a:t>c</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 are vectors since there are several Xs and 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ski, 1973)</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71EE03AD-2D11-4859-9CD0-D5BCDDD4A1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1760" y="2009880"/>
            <a:ext cx="8081280" cy="2838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r>
              <a:rPr b="0" lang="en-US" sz="2000" spc="-1" strike="noStrike">
                <a:solidFill>
                  <a:srgbClr val="000000"/>
                </a:solidFill>
                <a:latin typeface="Times New Roman"/>
              </a:rPr>
              <a:t>s and </a:t>
            </a:r>
            <a:r>
              <a:rPr b="0" i="1" lang="en-US" sz="2000" spc="-1" strike="noStrike">
                <a:solidFill>
                  <a:srgbClr val="000000"/>
                </a:solidFill>
                <a:latin typeface="Times New Roman"/>
              </a:rPr>
              <a:t>j</a:t>
            </a:r>
            <a:r>
              <a:rPr b="0" lang="en-US" sz="2000" spc="-1" strike="noStrike">
                <a:solidFill>
                  <a:srgbClr val="000000"/>
                </a:solidFill>
                <a:latin typeface="Times New Roman"/>
              </a:rPr>
              <a:t> reflect “social interac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t>
            </a:r>
            <a:r>
              <a:rPr b="0" i="1" lang="en-US" sz="2000" spc="-1" strike="noStrike">
                <a:solidFill>
                  <a:srgbClr val="000000"/>
                </a:solidFill>
                <a:latin typeface="Times New Roman"/>
              </a:rPr>
              <a:t>d</a:t>
            </a:r>
            <a:r>
              <a:rPr b="0" lang="en-US" sz="2000" spc="-1" strike="noStrike">
                <a:solidFill>
                  <a:srgbClr val="000000"/>
                </a:solidFill>
                <a:latin typeface="Times New Roman"/>
              </a:rPr>
              <a:t> indicates the effect of a neighborhood characteristic on pers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r>
              <a:rPr b="0" i="1" lang="en-US" sz="2000" spc="-1" strike="noStrike">
                <a:solidFill>
                  <a:srgbClr val="000000"/>
                </a:solidFill>
                <a:latin typeface="Times New Roman"/>
              </a:rPr>
              <a:t> j</a:t>
            </a:r>
            <a:r>
              <a:rPr b="0" lang="en-US" sz="2000" spc="-1" strike="noStrike">
                <a:solidFill>
                  <a:srgbClr val="000000"/>
                </a:solidFill>
                <a:latin typeface="Times New Roman"/>
              </a:rPr>
              <a:t> reflects the effect of the group’s collective choice on person-i’s cho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 parallel model is described in Blume &amp; Durlauf that is binar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a   (did it / didn’t do it)   framework.}</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6B3A46A2-5231-4616-ABA7-4BA3FD8D20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5240" y="988920"/>
            <a:ext cx="8107200" cy="4667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el is indeterminant unless restrictions are introduc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o how individuals form expectations about the average behavior of oth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m</a:t>
            </a:r>
            <a:r>
              <a:rPr b="0" lang="en-US" sz="2000" spc="-1" strike="noStrike" baseline="30000">
                <a:solidFill>
                  <a:srgbClr val="000000"/>
                </a:solidFill>
                <a:latin typeface="Times New Roman"/>
              </a:rPr>
              <a:t>e </a:t>
            </a:r>
            <a:r>
              <a:rPr b="0" lang="en-US" sz="2000" spc="-1" strike="noStrike">
                <a:solidFill>
                  <a:srgbClr val="000000"/>
                </a:solidFill>
                <a:latin typeface="Times New Roman"/>
              </a:rPr>
              <a:t> is the expected average choice in the group wrt  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ndard requirement for determinac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pectations are consistent with outcom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e., the expected choice turns out to be the actual cho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eans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expectation of the average choice corresponds to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ditional expectation of the average choice given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formation set of each pers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alled “self-consistency.”</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DC687B4F-D27E-4822-A5D4-F9D73C2BFE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86560" y="1751400"/>
            <a:ext cx="816192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one knows X and Y, so if everyone’s expectation of the averag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ice is in fact the average choice, then the outcome is stable and consist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is does not mean everyone chooses the same outcome, only that a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ct to knowing the average outcome.)</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3815673B-CFEF-406D-8B9A-F5282DD37B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61080" y="663120"/>
            <a:ext cx="8279280" cy="5014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n interesting </a:t>
            </a:r>
            <a:r>
              <a:rPr b="0" lang="en-US" sz="2000" spc="-1" strike="noStrike" u="sng">
                <a:solidFill>
                  <a:srgbClr val="000000"/>
                </a:solidFill>
                <a:uFillTx/>
                <a:latin typeface="Times New Roman"/>
              </a:rPr>
              <a:t>identification problem</a:t>
            </a:r>
            <a:r>
              <a:rPr b="0" lang="en-US" sz="2000" spc="-1" strike="noStrike">
                <a:solidFill>
                  <a:srgbClr val="000000"/>
                </a:solidFill>
                <a:latin typeface="Times New Roman"/>
              </a:rPr>
              <a:t> 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easily seen if all the Xs are also the Ys: (the same factors affect ea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 and the community level affects the gro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if beliefs &amp; expectations are self-consistent, the X’s &amp; Y’s determ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ω</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but the average Y and the distribution of Xs also determines the m</a:t>
            </a:r>
            <a:r>
              <a:rPr b="0" lang="en-US" sz="2000" spc="-1" strike="noStrike" baseline="30000">
                <a:solidFill>
                  <a:srgbClr val="000000"/>
                </a:solidFill>
                <a:latin typeface="Times New Roman"/>
              </a:rPr>
              <a:t>e</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re is linearity among X, Y, and m: the context (community) effect 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verage of the individual characteristic effects so we cannot identif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rom the other .</a:t>
            </a:r>
            <a:r>
              <a:rPr b="0" lang="en-US" sz="2000" spc="-1" strike="noStrike">
                <a:solidFill>
                  <a:srgbClr val="000000"/>
                </a:solidFill>
                <a:latin typeface="Times New Roman"/>
              </a:rPr>
              <a:t>	</a:t>
            </a:r>
            <a:r>
              <a:rPr b="0" lang="en-US" sz="2000" spc="-1" strike="noStrike">
                <a:solidFill>
                  <a:srgbClr val="000000"/>
                </a:solidFill>
                <a:latin typeface="Times New Roman"/>
              </a:rPr>
              <a:t>(This is Manski’s (1993) “reflection probl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dentification, we must have at least one X that is not also in Y – one fa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affects person-i for which the community level doesn’t affect 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didate: person i’s age: if the age of his peers per se doesn’t aff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 choice, given all their other attribute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FD2EFA7E-C66A-46F2-B5C5-9E3A9EDB2F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35960" y="1141200"/>
            <a:ext cx="8404200" cy="4972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ial Interaction and self-sele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l</a:t>
            </a:r>
            <a:r>
              <a:rPr b="0" i="1" lang="en-US" sz="2000" spc="-1" strike="noStrike">
                <a:solidFill>
                  <a:srgbClr val="000000"/>
                </a:solidFill>
                <a:latin typeface="Times New Roman"/>
              </a:rPr>
              <a:t>ocation, or group membership, isn’t random</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ople self-select into commun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ignore the self-selection, we’ll get spurious evidence of social intera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poor neighborhoods contain less-ambitious par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p; </a:t>
            </a:r>
            <a:r>
              <a:rPr b="0" lang="en-US" sz="2000" spc="-1" strike="noStrike">
                <a:solidFill>
                  <a:srgbClr val="000000"/>
                </a:solidFill>
                <a:latin typeface="Times New Roman"/>
              </a:rPr>
              <a:t>	</a:t>
            </a:r>
            <a:r>
              <a:rPr b="0" lang="en-US" sz="2000" spc="-1" strike="noStrike">
                <a:solidFill>
                  <a:srgbClr val="000000"/>
                </a:solidFill>
                <a:latin typeface="Times New Roman"/>
              </a:rPr>
              <a:t>if less-ambitious parents have lower education-performing k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ay yield a false conclus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or neighborhoods lead to poorer-performing k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spurious (false) evidence of adverse social interaction!</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0EBB6BEC-7631-40C2-B5A8-79B95185F0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58920" y="455400"/>
            <a:ext cx="8343360" cy="4667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standard solutions to self-selection, endogenous cho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y #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k the connection between the variable-of-intere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or neighborhood) and the error ter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 </a:t>
            </a:r>
            <a:r>
              <a:rPr b="0" lang="en-US" sz="2000" spc="-1" strike="noStrike" u="sng">
                <a:solidFill>
                  <a:srgbClr val="000000"/>
                </a:solidFill>
                <a:uFillTx/>
                <a:latin typeface="Times New Roman"/>
              </a:rPr>
              <a:t>Instrumental Variable</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hing correlated with the independent variable (the poor neighborho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s not correlated with the offending variable (the less-ambitiousne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hard to fi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y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the self-selection itself:  i.e., </a:t>
            </a:r>
            <a:r>
              <a:rPr b="0" lang="en-US" sz="2000" spc="-1" strike="noStrike" u="sng">
                <a:solidFill>
                  <a:srgbClr val="000000"/>
                </a:solidFill>
                <a:uFillTx/>
                <a:latin typeface="Times New Roman"/>
              </a:rPr>
              <a:t>Heckit</a:t>
            </a:r>
            <a:r>
              <a:rPr b="0" lang="en-US" sz="2000" spc="-1" strike="noStrike">
                <a:solidFill>
                  <a:srgbClr val="000000"/>
                </a:solidFill>
                <a:latin typeface="Times New Roman"/>
              </a:rPr>
              <a:t> (Mills ratio from prob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irst stage determining selection of neighborhood, yielding a new variable, λ,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controls for the selection.</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346F8E35-3D25-4DF8-99DA-DE316C6477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392040"/>
            <a:ext cx="8696160" cy="710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ial Interactions</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sociological “hierarchical” models (i.e., Raudenbush &amp; Sampson; Bry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economics (a la  Blume &amp; Durlauf)</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conception of meaning of a “social intera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Sociology</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ocial group defines the ecology, the environment, in which decis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re ma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y matter because different environments or ecologies induce differen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appings from individual determinants of behaviors &amp; cho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s hierarchic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conom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cial interactions directly affect preferences, constraints and belief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y are themselves additional determinants of choices, they 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alogous to individual specific characteristics, the X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y may or may not interact with the X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837B1449-D680-456B-8BB0-B29DB9C8F9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35240" y="760320"/>
            <a:ext cx="8373600" cy="5277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1" lang="en-US" sz="2000" spc="-1" strike="noStrike">
                <a:solidFill>
                  <a:srgbClr val="000000"/>
                </a:solidFill>
                <a:latin typeface="Times New Roman"/>
              </a:rPr>
              <a:t>sociology</a:t>
            </a:r>
            <a:r>
              <a:rPr b="0" lang="en-US" sz="2000" spc="-1" strike="noStrike">
                <a:solidFill>
                  <a:srgbClr val="000000"/>
                </a:solidFill>
                <a:latin typeface="Times New Roman"/>
              </a:rPr>
              <a:t>, you allow the coefficients of X to depend on group characterist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hierarchy because the mapping from X to Y may differ for each gro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I’m in this group and we do it this w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1" lang="en-US" sz="2000" spc="-1" strike="noStrike">
                <a:solidFill>
                  <a:srgbClr val="000000"/>
                </a:solidFill>
                <a:latin typeface="Times New Roman"/>
              </a:rPr>
              <a:t>economics</a:t>
            </a:r>
            <a:r>
              <a:rPr b="0" lang="en-US" sz="2000" spc="-1" strike="noStrike">
                <a:solidFill>
                  <a:srgbClr val="000000"/>
                </a:solidFill>
                <a:latin typeface="Times New Roman"/>
              </a:rPr>
              <a:t>, you embed the group characteristics in decision rules, in model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because they are additional influences on cho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 do it my way, but I noticed that its done this way in my grou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d I am affected by that f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different conceptions of why group membership matte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pite the disciplinary tensions, both, either, or nether may be corr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y given set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E7F9E365-32DF-480C-99AC-92C659B6A1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LS Data on Peers and Community</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LS cohorts differ in their approach to collecting data on social interac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LSY97 is the most behavioral and quantitativ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YA are more often qualitative and subjectiv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LSY79 youth have relatively little on social interaction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different approaches can measure similar domains, but distinct constructs</a:t>
            </a: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NLS User Workshop 2007 -- Michael and Datta, NORC at the University of Chicago</a:t>
            </a:r>
          </a:p>
        </p:txBody>
      </p:sp>
      <p:sp>
        <p:nvSpPr>
          <p:cNvPr id="5" name="PlaceHolder 4"/>
          <p:cNvSpPr>
            <a:spLocks noGrp="1"/>
          </p:cNvSpPr>
          <p:nvPr>
            <p:ph type="sldNum" idx="3"/>
          </p:nvPr>
        </p:nvSpPr>
        <p:spPr/>
        <p:txBody>
          <a:bodyPr/>
          <a:p>
            <a:fld id="{540D2E3E-72F0-4AF6-BC1B-5A8671A823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83320" y="1293840"/>
            <a:ext cx="8628120" cy="4057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sciences &amp; social policy analyses are intended to provi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of behaviors, choices, actions-with-consequ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ptually, most disciplines structure these behaviors as related to attributes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dividu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roups to which individual belo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amily, neighborhood, race/ethn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stitutional framework governing behaviors and consequen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aws, organizations, institution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98A2708A-D692-48BA-AA8D-94AD3B973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ers and Peer Effects – examples</a:t>
            </a:r>
            <a:endParaRPr b="0" lang="en-US" sz="4200" spc="-1" strike="noStrike">
              <a:solidFill>
                <a:srgbClr val="006633"/>
              </a:solidFill>
              <a:latin typeface="Garamond"/>
            </a:endParaRPr>
          </a:p>
        </p:txBody>
      </p:sp>
      <p:sp>
        <p:nvSpPr>
          <p:cNvPr id="115"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LSY97: What percentage of kids in your grade get drunk at least once a month?  </a:t>
            </a:r>
            <a:r>
              <a:rPr b="0" lang="en-US" sz="2000" spc="-1" strike="noStrike">
                <a:solidFill>
                  <a:srgbClr val="000000"/>
                </a:solidFill>
                <a:latin typeface="Arial"/>
              </a:rPr>
              <a:t>Almost none (less than 10%), about 25 %, about half (50%), about 75%, almost all (more than 90%).</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YA: CHILD SELF-ADMIN. CHILD FEELS PRESSURE FROM FRIENDS TO DRINK ALCOHOL. </a:t>
            </a:r>
            <a:r>
              <a:rPr b="0" lang="en-US" sz="2000" spc="-1" strike="noStrike">
                <a:solidFill>
                  <a:srgbClr val="000000"/>
                </a:solidFill>
                <a:latin typeface="Arial"/>
              </a:rPr>
              <a:t>Yes, n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LS User Workshop 2007 -- Michael and Datta, NORC at the University of Chicago</a:t>
            </a:r>
          </a:p>
        </p:txBody>
      </p:sp>
      <p:sp>
        <p:nvSpPr>
          <p:cNvPr id="5" name="PlaceHolder 4"/>
          <p:cNvSpPr>
            <a:spLocks noGrp="1"/>
          </p:cNvSpPr>
          <p:nvPr>
            <p:ph type="sldNum" idx="3"/>
          </p:nvPr>
        </p:nvSpPr>
        <p:spPr/>
        <p:txBody>
          <a:bodyPr/>
          <a:p>
            <a:fld id="{169950C4-5209-4BE2-A7F2-12544DE003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cial Interactions in the NLS</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ighborhood safety/quality (79, 97, Y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 environment (79, 97, YA,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ubs and organizations (79, 97, YA,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ers and peer pressure (97, YA,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 friends (97, YA,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ing (97, Y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isure time use: television, computers, reading for pleasure (79, 97, YA, 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NLS User Workshop 2007 -- Michael and Datta, NORC at the University of Chicago</a:t>
            </a:r>
          </a:p>
        </p:txBody>
      </p:sp>
      <p:sp>
        <p:nvSpPr>
          <p:cNvPr id="5" name="PlaceHolder 4"/>
          <p:cNvSpPr>
            <a:spLocks noGrp="1"/>
          </p:cNvSpPr>
          <p:nvPr>
            <p:ph type="sldNum" idx="3"/>
          </p:nvPr>
        </p:nvSpPr>
        <p:spPr/>
        <p:txBody>
          <a:bodyPr/>
          <a:p>
            <a:fld id="{68D5DF4D-60EE-4F8F-853A-819B111274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ighborhood safety - examples</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LSY79. R38842.00   Please tell me if it is a big</a:t>
            </a:r>
            <a:r>
              <a:rPr b="1" lang="en-US" sz="2000" spc="-1" strike="noStrike">
                <a:solidFill>
                  <a:srgbClr val="000000"/>
                </a:solidFill>
                <a:latin typeface="Arial"/>
              </a:rPr>
              <a:t> problem in your own neighborhood</a:t>
            </a:r>
            <a:r>
              <a:rPr b="0" lang="en-US" sz="2000" spc="-1" strike="noStrike">
                <a:solidFill>
                  <a:srgbClr val="000000"/>
                </a:solidFill>
                <a:latin typeface="Arial"/>
              </a:rPr>
              <a:t>, somewhat of a problem, or not a problem at all .... </a:t>
            </a:r>
            <a:r>
              <a:rPr b="1" lang="en-US" sz="2000" spc="-1" strike="noStrike">
                <a:solidFill>
                  <a:srgbClr val="000000"/>
                </a:solidFill>
                <a:latin typeface="Arial"/>
              </a:rPr>
              <a:t>people don't have enough respect for rules and law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LSY97. R03603.00</a:t>
            </a:r>
            <a:r>
              <a:rPr b="1" lang="en-US" sz="2400" spc="-1" strike="noStrike">
                <a:solidFill>
                  <a:srgbClr val="000000"/>
                </a:solidFill>
                <a:latin typeface="Arial"/>
              </a:rPr>
              <a:t>    </a:t>
            </a:r>
            <a:r>
              <a:rPr b="1" lang="en-US" sz="2000" spc="-1" strike="noStrike">
                <a:solidFill>
                  <a:srgbClr val="000000"/>
                </a:solidFill>
                <a:latin typeface="Arial"/>
              </a:rPr>
              <a:t>Are there any gangs in your neighborhood or where you go to school?</a:t>
            </a:r>
            <a:r>
              <a:rPr b="0" lang="en-US" sz="2000" spc="-1" strike="noStrike">
                <a:solidFill>
                  <a:srgbClr val="000000"/>
                </a:solidFill>
                <a:latin typeface="Arial"/>
              </a:rPr>
              <a:t> By gangs, we mean a group that hangs out together, wears gang colors or clothes, has set clear boundaries of its territory or turf, protects its members and turf against other rival gangs through fighting or threa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R03604.00</a:t>
            </a:r>
            <a:r>
              <a:rPr b="1" lang="en-US" sz="2000" spc="-1" strike="noStrike">
                <a:solidFill>
                  <a:srgbClr val="000000"/>
                </a:solidFill>
                <a:latin typeface="Arial"/>
              </a:rPr>
              <a:t> Do any of your brothers, sisters, cousins or friends belong to a ga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LS User Workshop 2007 -- Michael and Datta, NORC at the University of Chicago</a:t>
            </a:r>
          </a:p>
        </p:txBody>
      </p:sp>
      <p:sp>
        <p:nvSpPr>
          <p:cNvPr id="5" name="PlaceHolder 4"/>
          <p:cNvSpPr>
            <a:spLocks noGrp="1"/>
          </p:cNvSpPr>
          <p:nvPr>
            <p:ph type="sldNum" idx="3"/>
          </p:nvPr>
        </p:nvSpPr>
        <p:spPr/>
        <p:txBody>
          <a:bodyPr/>
          <a:p>
            <a:fld id="{9CC8AE7E-FC1B-4B76-B054-C6F2911ACE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ocial Support across domains</a:t>
            </a:r>
            <a:br>
              <a:rPr sz="3800"/>
            </a:b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iends (and relatives) can appear in other domains as agents of suppor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ying for college (79, 97, Y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b search (79, 97)</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context as job characteristic (79)</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NLS User Workshop 2007 -- Michael and Datta, NORC at the University of Chicago</a:t>
            </a:r>
          </a:p>
        </p:txBody>
      </p:sp>
      <p:sp>
        <p:nvSpPr>
          <p:cNvPr id="5" name="PlaceHolder 4"/>
          <p:cNvSpPr>
            <a:spLocks noGrp="1"/>
          </p:cNvSpPr>
          <p:nvPr>
            <p:ph type="sldNum" idx="3"/>
          </p:nvPr>
        </p:nvSpPr>
        <p:spPr/>
        <p:txBody>
          <a:bodyPr/>
          <a:p>
            <a:fld id="{C8796934-88F2-4EDC-8A55-0F81BD2D33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on’t forget the family!</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ent-youth relationship (97, YA,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blings (79, 97, YA,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uses/partners (79, 97, YA)</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NLS User Workshop 2007 -- Michael and Datta, NORC at the University of Chicago</a:t>
            </a:r>
          </a:p>
        </p:txBody>
      </p:sp>
      <p:sp>
        <p:nvSpPr>
          <p:cNvPr id="5" name="PlaceHolder 4"/>
          <p:cNvSpPr>
            <a:spLocks noGrp="1"/>
          </p:cNvSpPr>
          <p:nvPr>
            <p:ph type="sldNum" idx="3"/>
          </p:nvPr>
        </p:nvSpPr>
        <p:spPr/>
        <p:txBody>
          <a:bodyPr/>
          <a:p>
            <a:fld id="{81B9DC91-E1D3-4526-A436-6089B06F159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303200" y="1675800"/>
            <a:ext cx="5292360" cy="21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onomic Approach entails three el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ximizing behavior</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rket equilibr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ble preferen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cker. 1976. </a:t>
            </a:r>
            <a:r>
              <a:rPr b="0" lang="en-US" sz="1600" spc="-1" strike="noStrike" u="sng">
                <a:solidFill>
                  <a:srgbClr val="000000"/>
                </a:solidFill>
                <a:uFillTx/>
                <a:latin typeface="Times New Roman"/>
              </a:rPr>
              <a:t>The Economic Approach to Human Behavior</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3C521189-B9E3-4622-B42F-2CEA913103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06680" y="1141560"/>
            <a:ext cx="8457840" cy="40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 economic models have individuals </a:t>
            </a:r>
            <a:r>
              <a:rPr b="1" lang="en-US" sz="2000" spc="-1" strike="noStrike">
                <a:solidFill>
                  <a:srgbClr val="000000"/>
                </a:solidFill>
                <a:latin typeface="Times New Roman"/>
              </a:rPr>
              <a:t>interacting</a:t>
            </a:r>
            <a:r>
              <a:rPr b="0" lang="en-US" sz="2000" spc="-1" strike="noStrike">
                <a:solidFill>
                  <a:srgbClr val="000000"/>
                </a:solidFill>
                <a:latin typeface="Times New Roman"/>
              </a:rPr>
              <a:t> directly with one anoth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ead of interacting anonymously and indirectly thought markets via pr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interdependencies in behaviors are, in economic thinking, the essence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social interactions</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ajority of this lecture based, shamelessly, 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wrence E. Blume, Steven N. Durlauf. 200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ing Social Interactions: A Review." Pre-print. July 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me; Econ, Cornell; Durlauf, Economics, Univ. Wisconsin-Madison]</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D"}</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1FCEA44D-D456-4F52-9F86-F02C435447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14840"/>
            <a:ext cx="10058400" cy="6402240"/>
          </a:xfrm>
          <a:prstGeom prst="rect">
            <a:avLst/>
          </a:prstGeom>
          <a:noFill/>
          <a:ln w="0">
            <a:noFill/>
          </a:ln>
        </p:spPr>
        <p:style>
          <a:lnRef idx="0"/>
          <a:fillRef idx="0"/>
          <a:effectRef idx="0"/>
          <a:fontRef idx="minor"/>
        </p:style>
        <p:txBody>
          <a:bodyPr lIns="1142640" rIns="1142640" tIns="914040" bIns="914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Quo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political economy…does credit to thought because it finds the law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lying a mass of contingent occurrences. It is an interesting spectac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observe here how all the interconnections have repercussions on othe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he particular spheres fall into groups, influence others and are help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hindered by these. This interaction, which seems at first sight incredib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verything seems to depend on the arbitrary will of the individu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rs a resemblance to the planetary system, which presents only irregul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ments to the eye, yet whose laws can nevertheless be recogniz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W. F. Hegel, </a:t>
            </a:r>
            <a:r>
              <a:rPr b="0" i="1" lang="en-US" sz="2000" spc="-1" strike="noStrike">
                <a:solidFill>
                  <a:srgbClr val="000000"/>
                </a:solidFill>
                <a:latin typeface="Times New Roman"/>
              </a:rPr>
              <a:t>Elements of the Philosophy of Righ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BD}</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93625FE7-BA8F-4E81-AC23-D4BD44AF51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33000" y="668520"/>
            <a:ext cx="8157240" cy="5520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ontext</a:t>
            </a:r>
            <a:r>
              <a:rPr b="0" lang="en-US" sz="2000" spc="-1" strike="noStrike">
                <a:solidFill>
                  <a:srgbClr val="000000"/>
                </a:solidFill>
                <a:latin typeface="Times New Roman"/>
              </a:rPr>
              <a:t> affects behavior, just as behavior influences contex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the context might influence cho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mitive psychological reasons – wish to confor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formation transmission – observe usefulness from other's behavi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ke up rates on public assistance program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igma?  Information? Ease of acce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ime in neighborh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tagion, gang-peer-pressure,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valence of or reductions in Smo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llective efficacy?  Information?  Conform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dical techniques such as hospital length of stay (differ by reg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abit? Peer expectation?  (not medically justifi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D-}</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3F9E10D5-700A-4856-A97D-4629D2EB01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46240" y="219240"/>
            <a:ext cx="8916480" cy="6359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Model {B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individual, i, is member of a single group, 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i makes is ω</a:t>
            </a:r>
            <a:r>
              <a:rPr b="0" lang="en-US" sz="2000" spc="-1" strike="noStrike" baseline="-25000">
                <a:solidFill>
                  <a:srgbClr val="000000"/>
                </a:solidFill>
                <a:latin typeface="Times New Roman"/>
              </a:rPr>
              <a:t>i </a:t>
            </a:r>
            <a:r>
              <a:rPr b="0" lang="en-US" sz="2000" spc="-1" strike="noStrike">
                <a:solidFill>
                  <a:srgbClr val="000000"/>
                </a:solidFill>
                <a:latin typeface="Times New Roman"/>
              </a:rPr>
              <a:t>   (think level of schooling comple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ice ω</a:t>
            </a:r>
            <a:r>
              <a:rPr b="0" lang="en-US" sz="2000" spc="-1" strike="noStrike" baseline="-25000">
                <a:solidFill>
                  <a:srgbClr val="000000"/>
                </a:solidFill>
                <a:latin typeface="Times New Roman"/>
              </a:rPr>
              <a:t>i </a:t>
            </a:r>
            <a:r>
              <a:rPr b="0" lang="en-US" sz="2000" spc="-1" strike="noStrike">
                <a:solidFill>
                  <a:srgbClr val="000000"/>
                </a:solidFill>
                <a:latin typeface="Times New Roman"/>
              </a:rPr>
              <a:t>depends on two sets of fact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dividual-specific factors &amp; group-specific fact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facto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eterministic characteristics of individual i  (ie, age; a long li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random term; unobservable characteristics of i  (error term in regres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is independent and individually distributes across individuals (i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doesn't depend on the group, g, to which i belon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fact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a:t>
            </a:r>
            <a:r>
              <a:rPr b="0" lang="en-US" sz="2000" spc="-1" strike="noStrike" baseline="-25000">
                <a:solidFill>
                  <a:srgbClr val="000000"/>
                </a:solidFill>
                <a:latin typeface="Times New Roman"/>
              </a:rPr>
              <a:t>g</a:t>
            </a:r>
            <a:r>
              <a:rPr b="0" lang="en-US" sz="2000" spc="-1" strike="noStrike">
                <a:solidFill>
                  <a:srgbClr val="000000"/>
                </a:solidFill>
                <a:latin typeface="Times New Roman"/>
              </a:rPr>
              <a:t>   predetermined, group-level characteristics (ie age distribution of 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t>
            </a:r>
            <a:r>
              <a:rPr b="0" lang="en-US" sz="2000" spc="-1" strike="noStrike" baseline="30000">
                <a:solidFill>
                  <a:srgbClr val="000000"/>
                </a:solidFill>
                <a:latin typeface="Times New Roman"/>
              </a:rPr>
              <a:t>e</a:t>
            </a:r>
            <a:r>
              <a:rPr b="0" lang="en-US" sz="2000" spc="-1" strike="noStrike">
                <a:solidFill>
                  <a:srgbClr val="000000"/>
                </a:solidFill>
                <a:latin typeface="Times New Roman"/>
              </a:rPr>
              <a:t>   expected average choice in the group wrt  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24926B4A-F1EF-4D03-AD03-68539329C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41160" y="2446560"/>
            <a:ext cx="7818840" cy="1965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g</a:t>
            </a:r>
            <a:r>
              <a:rPr b="0" lang="en-US" sz="2000" spc="-1" strike="noStrike">
                <a:solidFill>
                  <a:srgbClr val="000000"/>
                </a:solidFill>
                <a:latin typeface="Times New Roman"/>
              </a:rPr>
              <a:t> is the exogenous context  (shows how </a:t>
            </a:r>
            <a:r>
              <a:rPr b="0" lang="en-US" sz="2000" spc="-1" strike="noStrike" u="sng">
                <a:solidFill>
                  <a:srgbClr val="000000"/>
                </a:solidFill>
                <a:uFillTx/>
                <a:latin typeface="Times New Roman"/>
              </a:rPr>
              <a:t>characteristics</a:t>
            </a:r>
            <a:r>
              <a:rPr b="0" lang="en-US" sz="2000" spc="-1" strike="noStrike">
                <a:solidFill>
                  <a:srgbClr val="000000"/>
                </a:solidFill>
                <a:latin typeface="Times New Roman"/>
              </a:rPr>
              <a:t> of others affects 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r>
              <a:rPr b="0" lang="en-US" sz="2000" spc="-1" strike="noStrike" baseline="30000">
                <a:solidFill>
                  <a:srgbClr val="000000"/>
                </a:solidFill>
                <a:latin typeface="Times New Roman"/>
              </a:rPr>
              <a:t>e</a:t>
            </a:r>
            <a:r>
              <a:rPr b="0" lang="en-US" sz="2000" spc="-1" strike="noStrike">
                <a:solidFill>
                  <a:srgbClr val="000000"/>
                </a:solidFill>
                <a:latin typeface="Times New Roman"/>
              </a:rPr>
              <a:t> is the endogenous effect  (shows how </a:t>
            </a:r>
            <a:r>
              <a:rPr b="0" lang="en-US" sz="2000" spc="-1" strike="noStrike" u="sng">
                <a:solidFill>
                  <a:srgbClr val="000000"/>
                </a:solidFill>
                <a:uFillTx/>
                <a:latin typeface="Times New Roman"/>
              </a:rPr>
              <a:t>behaviors</a:t>
            </a:r>
            <a:r>
              <a:rPr b="0" lang="en-US" sz="2000" spc="-1" strike="noStrike">
                <a:solidFill>
                  <a:srgbClr val="000000"/>
                </a:solidFill>
                <a:latin typeface="Times New Roman"/>
              </a:rPr>
              <a:t> of others affects 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 effects of m</a:t>
            </a:r>
            <a:r>
              <a:rPr b="0" lang="en-US" sz="2000" spc="-1" strike="noStrike" baseline="30000">
                <a:solidFill>
                  <a:srgbClr val="000000"/>
                </a:solidFill>
                <a:latin typeface="Times New Roman"/>
              </a:rPr>
              <a:t>e</a:t>
            </a:r>
            <a:r>
              <a:rPr b="0" lang="en-US" sz="2000" spc="-1" strike="noStrike">
                <a:solidFill>
                  <a:srgbClr val="000000"/>
                </a:solidFill>
                <a:latin typeface="Times New Roman"/>
              </a:rPr>
              <a:t> are reciprocal – there is feedback among individual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477272F1-A1F8-497F-9EC8-35D26A057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98880" y="1400040"/>
            <a:ext cx="8346240" cy="4057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Determination of schooling outcomes for children, S:</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al characteristics affect S</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e., Parents’ educ affects S: provides role model, more $, etc.}</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is is contained in vector X</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observes her neighborhood characteristics that influence her S</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e., occupations of neighbors;  distribution of incomes in neighborhood}</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is is contained in vector Y</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end’s school efforts affect S</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e., peer’s grades, choice of courses}</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is is contained in scalar m</a:t>
            </a:r>
            <a:r>
              <a:rPr b="0" lang="en-US" sz="2000" spc="-1" strike="noStrike" baseline="30000">
                <a:solidFill>
                  <a:srgbClr val="000000"/>
                </a:solidFill>
                <a:latin typeface="Times New Roman"/>
              </a:rPr>
              <a:t>e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NLS User Workshop 2007 -- Michael and Datta, NORC at the University of Chicago</a:t>
            </a:r>
          </a:p>
        </p:txBody>
      </p:sp>
      <p:sp>
        <p:nvSpPr>
          <p:cNvPr id="3" name="PlaceHolder 2"/>
          <p:cNvSpPr>
            <a:spLocks noGrp="1"/>
          </p:cNvSpPr>
          <p:nvPr>
            <p:ph type="sldNum" idx="3"/>
          </p:nvPr>
        </p:nvSpPr>
        <p:spPr/>
        <p:txBody>
          <a:bodyPr/>
          <a:p>
            <a:fld id="{F2FA5671-A4C9-49F9-9433-AF7E8972A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5:09:22Z</dcterms:created>
  <dc:creator>Robert T. Michael</dc:creator>
  <dc:description/>
  <dc:language>en-US</dc:language>
  <cp:lastModifiedBy>datta-rupa</cp:lastModifiedBy>
  <dcterms:modified xsi:type="dcterms:W3CDTF">2007-09-19T20:01:35Z</dcterms:modified>
  <cp:revision>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87203679</vt:r8>
  </property>
  <property fmtid="{D5CDD505-2E9C-101B-9397-08002B2CF9AE}" pid="3" name="_AuthorEmail">
    <vt:lpwstr>Datta-Rupa@norc.uchicago.edu</vt:lpwstr>
  </property>
  <property fmtid="{D5CDD505-2E9C-101B-9397-08002B2CF9AE}" pid="4" name="_AuthorEmailDisplayName">
    <vt:lpwstr>Datta-Rupa</vt:lpwstr>
  </property>
  <property fmtid="{D5CDD505-2E9C-101B-9397-08002B2CF9AE}" pid="5" name="_EmailSubject">
    <vt:lpwstr>NLS Workshop 2007</vt:lpwstr>
  </property>
</Properties>
</file>