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074-5610-4F18-9266-194157EE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527-1EFF-4312-9F69-798B3E74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6C5-05E7-405E-97B9-0EFF19EF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4FD-A7CE-4921-8905-D7474210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24C-58C0-4B33-A0B0-CE5946BF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36C6F-6AFC-417D-A7BD-CF364657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1F315-C81D-40AF-9CB6-79912C48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FD7E8-8A78-424C-A9AE-25C160B7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C2572-1130-4ECE-87EF-478D19D8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A014D-8A1E-4D80-9854-69093487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553-5728-49FB-95B4-7799F390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4789E-0174-44C9-9ADF-1BF4543C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4FD65-AFA7-4C1A-A693-A62670C2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B0EB6-004D-44E2-ADA3-FA489C02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3A4A0-DFAC-4B4D-B841-0E5F7375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D9896-705E-44AB-9039-C7EC9E91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0AA34-6813-4220-9479-C64C4CFD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66FC0-D01B-4246-9E3F-1F39792A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C78-0620-491A-9402-280F41A8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731-5A84-441C-B28F-3A5BA450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E2E-F88D-4D04-B466-50317E9F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EF4-DEA1-4955-9039-CE48DCB7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D54-4814-40C1-9B51-B796A838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039-C2EE-40EE-A877-65D49ED0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ACF6-1C8B-4D79-91B6-52E507144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96080" y="5562720"/>
            <a:ext cx="993960" cy="868320"/>
            <a:chOff x="7696080" y="5562720"/>
            <a:chExt cx="993960" cy="868320"/>
          </a:xfrm>
        </p:grpSpPr>
        <p:sp>
          <p:nvSpPr>
            <p:cNvPr id="46" name=""/>
            <p:cNvSpPr/>
            <p:nvPr/>
          </p:nvSpPr>
          <p:spPr>
            <a:xfrm>
              <a:off x="7845120" y="5694840"/>
              <a:ext cx="589680" cy="315720"/>
            </a:xfrm>
            <a:custGeom>
              <a:avLst/>
              <a:gdLst/>
              <a:ahLst/>
              <a:rect l="l" t="t" r="r" b="b"/>
              <a:pathLst>
                <a:path w="10339" h="5540">
                  <a:moveTo>
                    <a:pt x="1320" y="5540"/>
                  </a:moveTo>
                  <a:lnTo>
                    <a:pt x="0" y="4583"/>
                  </a:lnTo>
                  <a:lnTo>
                    <a:pt x="4609" y="4583"/>
                  </a:lnTo>
                  <a:lnTo>
                    <a:pt x="6086" y="0"/>
                  </a:lnTo>
                  <a:lnTo>
                    <a:pt x="7044" y="2926"/>
                  </a:lnTo>
                  <a:lnTo>
                    <a:pt x="8350" y="1835"/>
                  </a:lnTo>
                  <a:lnTo>
                    <a:pt x="8990" y="2579"/>
                  </a:lnTo>
                  <a:lnTo>
                    <a:pt x="9579" y="2081"/>
                  </a:lnTo>
                  <a:lnTo>
                    <a:pt x="9394" y="1885"/>
                  </a:lnTo>
                  <a:lnTo>
                    <a:pt x="10339" y="1886"/>
                  </a:lnTo>
                  <a:lnTo>
                    <a:pt x="10254" y="2819"/>
                  </a:lnTo>
                  <a:lnTo>
                    <a:pt x="10075" y="2625"/>
                  </a:lnTo>
                  <a:lnTo>
                    <a:pt x="8846" y="3654"/>
                  </a:lnTo>
                  <a:lnTo>
                    <a:pt x="8254" y="2992"/>
                  </a:lnTo>
                  <a:lnTo>
                    <a:pt x="6465" y="4497"/>
                  </a:lnTo>
                  <a:lnTo>
                    <a:pt x="6086" y="3222"/>
                  </a:lnTo>
                  <a:lnTo>
                    <a:pt x="5365" y="5540"/>
                  </a:lnTo>
                  <a:lnTo>
                    <a:pt x="1320" y="5540"/>
                  </a:lnTo>
                  <a:close/>
                </a:path>
              </a:pathLst>
            </a:custGeom>
            <a:solidFill>
              <a:srgbClr val="28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26120" y="6019560"/>
              <a:ext cx="527760" cy="372960"/>
            </a:xfrm>
            <a:custGeom>
              <a:avLst/>
              <a:gdLst/>
              <a:ahLst/>
              <a:rect l="l" t="t" r="r" b="b"/>
              <a:pathLst>
                <a:path w="9251" h="6544">
                  <a:moveTo>
                    <a:pt x="1525" y="4425"/>
                  </a:moveTo>
                  <a:lnTo>
                    <a:pt x="3646" y="4425"/>
                  </a:lnTo>
                  <a:lnTo>
                    <a:pt x="2343" y="5382"/>
                  </a:lnTo>
                  <a:lnTo>
                    <a:pt x="1217" y="5382"/>
                  </a:lnTo>
                  <a:lnTo>
                    <a:pt x="1525" y="4425"/>
                  </a:lnTo>
                  <a:close/>
                  <a:moveTo>
                    <a:pt x="0" y="0"/>
                  </a:moveTo>
                  <a:lnTo>
                    <a:pt x="9251" y="0"/>
                  </a:lnTo>
                  <a:lnTo>
                    <a:pt x="7952" y="954"/>
                  </a:lnTo>
                  <a:lnTo>
                    <a:pt x="1316" y="954"/>
                  </a:lnTo>
                  <a:lnTo>
                    <a:pt x="0" y="0"/>
                  </a:lnTo>
                  <a:close/>
                  <a:moveTo>
                    <a:pt x="1416" y="1103"/>
                  </a:moveTo>
                  <a:lnTo>
                    <a:pt x="7854" y="1103"/>
                  </a:lnTo>
                  <a:lnTo>
                    <a:pt x="6989" y="1738"/>
                  </a:lnTo>
                  <a:lnTo>
                    <a:pt x="7095" y="2060"/>
                  </a:lnTo>
                  <a:lnTo>
                    <a:pt x="2213" y="2060"/>
                  </a:lnTo>
                  <a:lnTo>
                    <a:pt x="2315" y="1755"/>
                  </a:lnTo>
                  <a:lnTo>
                    <a:pt x="1416" y="1103"/>
                  </a:lnTo>
                  <a:close/>
                  <a:moveTo>
                    <a:pt x="2189" y="2212"/>
                  </a:moveTo>
                  <a:lnTo>
                    <a:pt x="7119" y="2212"/>
                  </a:lnTo>
                  <a:lnTo>
                    <a:pt x="7424" y="3166"/>
                  </a:lnTo>
                  <a:lnTo>
                    <a:pt x="1881" y="3166"/>
                  </a:lnTo>
                  <a:lnTo>
                    <a:pt x="2189" y="2212"/>
                  </a:lnTo>
                  <a:close/>
                  <a:moveTo>
                    <a:pt x="1857" y="3319"/>
                  </a:moveTo>
                  <a:lnTo>
                    <a:pt x="7448" y="3319"/>
                  </a:lnTo>
                  <a:lnTo>
                    <a:pt x="7752" y="4273"/>
                  </a:lnTo>
                  <a:lnTo>
                    <a:pt x="5575" y="4273"/>
                  </a:lnTo>
                  <a:lnTo>
                    <a:pt x="4656" y="3606"/>
                  </a:lnTo>
                  <a:lnTo>
                    <a:pt x="3748" y="4273"/>
                  </a:lnTo>
                  <a:lnTo>
                    <a:pt x="1550" y="4273"/>
                  </a:lnTo>
                  <a:lnTo>
                    <a:pt x="1857" y="3319"/>
                  </a:lnTo>
                  <a:close/>
                  <a:moveTo>
                    <a:pt x="5679" y="4425"/>
                  </a:moveTo>
                  <a:lnTo>
                    <a:pt x="6999" y="5382"/>
                  </a:lnTo>
                  <a:lnTo>
                    <a:pt x="8082" y="5382"/>
                  </a:lnTo>
                  <a:lnTo>
                    <a:pt x="7777" y="4425"/>
                  </a:lnTo>
                  <a:lnTo>
                    <a:pt x="5679" y="4425"/>
                  </a:lnTo>
                  <a:close/>
                  <a:moveTo>
                    <a:pt x="7099" y="5531"/>
                  </a:moveTo>
                  <a:lnTo>
                    <a:pt x="8106" y="5531"/>
                  </a:lnTo>
                  <a:lnTo>
                    <a:pt x="8408" y="6481"/>
                  </a:lnTo>
                  <a:lnTo>
                    <a:pt x="7099" y="5531"/>
                  </a:lnTo>
                  <a:close/>
                  <a:moveTo>
                    <a:pt x="1194" y="5531"/>
                  </a:moveTo>
                  <a:lnTo>
                    <a:pt x="2259" y="5531"/>
                  </a:lnTo>
                  <a:lnTo>
                    <a:pt x="867" y="6544"/>
                  </a:lnTo>
                  <a:lnTo>
                    <a:pt x="1194" y="5531"/>
                  </a:lnTo>
                  <a:close/>
                </a:path>
              </a:pathLst>
            </a:custGeom>
            <a:solidFill>
              <a:srgbClr val="d12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96080" y="5562720"/>
              <a:ext cx="993960" cy="868320"/>
            </a:xfrm>
            <a:custGeom>
              <a:avLst/>
              <a:gdLst/>
              <a:ahLst/>
              <a:rect l="l" t="t" r="r" b="b"/>
              <a:pathLst>
                <a:path w="17424" h="15235">
                  <a:moveTo>
                    <a:pt x="2342" y="14530"/>
                  </a:moveTo>
                  <a:lnTo>
                    <a:pt x="2316" y="14556"/>
                  </a:lnTo>
                  <a:lnTo>
                    <a:pt x="2000" y="14217"/>
                  </a:lnTo>
                  <a:lnTo>
                    <a:pt x="2027" y="14193"/>
                  </a:lnTo>
                  <a:lnTo>
                    <a:pt x="2060" y="14229"/>
                  </a:lnTo>
                  <a:lnTo>
                    <a:pt x="2073" y="14242"/>
                  </a:lnTo>
                  <a:lnTo>
                    <a:pt x="2088" y="14253"/>
                  </a:lnTo>
                  <a:lnTo>
                    <a:pt x="2095" y="14257"/>
                  </a:lnTo>
                  <a:lnTo>
                    <a:pt x="2103" y="14262"/>
                  </a:lnTo>
                  <a:lnTo>
                    <a:pt x="2110" y="14265"/>
                  </a:lnTo>
                  <a:lnTo>
                    <a:pt x="2118" y="14267"/>
                  </a:lnTo>
                  <a:lnTo>
                    <a:pt x="2127" y="14270"/>
                  </a:lnTo>
                  <a:lnTo>
                    <a:pt x="2134" y="14271"/>
                  </a:lnTo>
                  <a:lnTo>
                    <a:pt x="2143" y="14273"/>
                  </a:lnTo>
                  <a:lnTo>
                    <a:pt x="2152" y="14273"/>
                  </a:lnTo>
                  <a:lnTo>
                    <a:pt x="2169" y="14273"/>
                  </a:lnTo>
                  <a:lnTo>
                    <a:pt x="2188" y="14271"/>
                  </a:lnTo>
                  <a:lnTo>
                    <a:pt x="2198" y="14269"/>
                  </a:lnTo>
                  <a:lnTo>
                    <a:pt x="2208" y="14264"/>
                  </a:lnTo>
                  <a:lnTo>
                    <a:pt x="2220" y="14257"/>
                  </a:lnTo>
                  <a:lnTo>
                    <a:pt x="2235" y="14248"/>
                  </a:lnTo>
                  <a:lnTo>
                    <a:pt x="2250" y="14238"/>
                  </a:lnTo>
                  <a:lnTo>
                    <a:pt x="2266" y="14224"/>
                  </a:lnTo>
                  <a:lnTo>
                    <a:pt x="2284" y="14209"/>
                  </a:lnTo>
                  <a:lnTo>
                    <a:pt x="2303" y="14192"/>
                  </a:lnTo>
                  <a:lnTo>
                    <a:pt x="2691" y="13830"/>
                  </a:lnTo>
                  <a:lnTo>
                    <a:pt x="2726" y="13799"/>
                  </a:lnTo>
                  <a:lnTo>
                    <a:pt x="2760" y="13769"/>
                  </a:lnTo>
                  <a:lnTo>
                    <a:pt x="2793" y="13742"/>
                  </a:lnTo>
                  <a:lnTo>
                    <a:pt x="2825" y="13718"/>
                  </a:lnTo>
                  <a:lnTo>
                    <a:pt x="2855" y="13697"/>
                  </a:lnTo>
                  <a:lnTo>
                    <a:pt x="2885" y="13679"/>
                  </a:lnTo>
                  <a:lnTo>
                    <a:pt x="2913" y="13664"/>
                  </a:lnTo>
                  <a:lnTo>
                    <a:pt x="2939" y="13652"/>
                  </a:lnTo>
                  <a:lnTo>
                    <a:pt x="2953" y="13646"/>
                  </a:lnTo>
                  <a:lnTo>
                    <a:pt x="2966" y="13641"/>
                  </a:lnTo>
                  <a:lnTo>
                    <a:pt x="2981" y="13636"/>
                  </a:lnTo>
                  <a:lnTo>
                    <a:pt x="2995" y="13633"/>
                  </a:lnTo>
                  <a:lnTo>
                    <a:pt x="3009" y="13630"/>
                  </a:lnTo>
                  <a:lnTo>
                    <a:pt x="3023" y="13628"/>
                  </a:lnTo>
                  <a:lnTo>
                    <a:pt x="3038" y="13626"/>
                  </a:lnTo>
                  <a:lnTo>
                    <a:pt x="3052" y="13624"/>
                  </a:lnTo>
                  <a:lnTo>
                    <a:pt x="3068" y="13624"/>
                  </a:lnTo>
                  <a:lnTo>
                    <a:pt x="3083" y="13624"/>
                  </a:lnTo>
                  <a:lnTo>
                    <a:pt x="3099" y="13624"/>
                  </a:lnTo>
                  <a:lnTo>
                    <a:pt x="3115" y="13626"/>
                  </a:lnTo>
                  <a:lnTo>
                    <a:pt x="3147" y="13630"/>
                  </a:lnTo>
                  <a:lnTo>
                    <a:pt x="3180" y="13636"/>
                  </a:lnTo>
                  <a:lnTo>
                    <a:pt x="3197" y="13641"/>
                  </a:lnTo>
                  <a:lnTo>
                    <a:pt x="3214" y="13646"/>
                  </a:lnTo>
                  <a:lnTo>
                    <a:pt x="3231" y="13652"/>
                  </a:lnTo>
                  <a:lnTo>
                    <a:pt x="3247" y="13658"/>
                  </a:lnTo>
                  <a:lnTo>
                    <a:pt x="3264" y="13667"/>
                  </a:lnTo>
                  <a:lnTo>
                    <a:pt x="3281" y="13676"/>
                  </a:lnTo>
                  <a:lnTo>
                    <a:pt x="3297" y="13684"/>
                  </a:lnTo>
                  <a:lnTo>
                    <a:pt x="3315" y="13695"/>
                  </a:lnTo>
                  <a:lnTo>
                    <a:pt x="3331" y="13706"/>
                  </a:lnTo>
                  <a:lnTo>
                    <a:pt x="3348" y="13719"/>
                  </a:lnTo>
                  <a:lnTo>
                    <a:pt x="3365" y="13732"/>
                  </a:lnTo>
                  <a:lnTo>
                    <a:pt x="3381" y="13745"/>
                  </a:lnTo>
                  <a:lnTo>
                    <a:pt x="3399" y="13761"/>
                  </a:lnTo>
                  <a:lnTo>
                    <a:pt x="3415" y="13777"/>
                  </a:lnTo>
                  <a:lnTo>
                    <a:pt x="3431" y="13793"/>
                  </a:lnTo>
                  <a:lnTo>
                    <a:pt x="3449" y="13811"/>
                  </a:lnTo>
                  <a:lnTo>
                    <a:pt x="3466" y="13830"/>
                  </a:lnTo>
                  <a:lnTo>
                    <a:pt x="3483" y="13849"/>
                  </a:lnTo>
                  <a:lnTo>
                    <a:pt x="3499" y="13868"/>
                  </a:lnTo>
                  <a:lnTo>
                    <a:pt x="3514" y="13887"/>
                  </a:lnTo>
                  <a:lnTo>
                    <a:pt x="3527" y="13905"/>
                  </a:lnTo>
                  <a:lnTo>
                    <a:pt x="3540" y="13924"/>
                  </a:lnTo>
                  <a:lnTo>
                    <a:pt x="3552" y="13942"/>
                  </a:lnTo>
                  <a:lnTo>
                    <a:pt x="3563" y="13961"/>
                  </a:lnTo>
                  <a:lnTo>
                    <a:pt x="3573" y="13978"/>
                  </a:lnTo>
                  <a:lnTo>
                    <a:pt x="3582" y="13996"/>
                  </a:lnTo>
                  <a:lnTo>
                    <a:pt x="3590" y="14013"/>
                  </a:lnTo>
                  <a:lnTo>
                    <a:pt x="3597" y="14031"/>
                  </a:lnTo>
                  <a:lnTo>
                    <a:pt x="3604" y="14048"/>
                  </a:lnTo>
                  <a:lnTo>
                    <a:pt x="3608" y="14066"/>
                  </a:lnTo>
                  <a:lnTo>
                    <a:pt x="3612" y="14082"/>
                  </a:lnTo>
                  <a:lnTo>
                    <a:pt x="3615" y="14098"/>
                  </a:lnTo>
                  <a:lnTo>
                    <a:pt x="3618" y="14115"/>
                  </a:lnTo>
                  <a:lnTo>
                    <a:pt x="3620" y="14131"/>
                  </a:lnTo>
                  <a:lnTo>
                    <a:pt x="3621" y="14147"/>
                  </a:lnTo>
                  <a:lnTo>
                    <a:pt x="3621" y="14164"/>
                  </a:lnTo>
                  <a:lnTo>
                    <a:pt x="3621" y="14180"/>
                  </a:lnTo>
                  <a:lnTo>
                    <a:pt x="3620" y="14195"/>
                  </a:lnTo>
                  <a:lnTo>
                    <a:pt x="3619" y="14211"/>
                  </a:lnTo>
                  <a:lnTo>
                    <a:pt x="3617" y="14227"/>
                  </a:lnTo>
                  <a:lnTo>
                    <a:pt x="3613" y="14242"/>
                  </a:lnTo>
                  <a:lnTo>
                    <a:pt x="3610" y="14258"/>
                  </a:lnTo>
                  <a:lnTo>
                    <a:pt x="3607" y="14273"/>
                  </a:lnTo>
                  <a:lnTo>
                    <a:pt x="3601" y="14289"/>
                  </a:lnTo>
                  <a:lnTo>
                    <a:pt x="3597" y="14304"/>
                  </a:lnTo>
                  <a:lnTo>
                    <a:pt x="3590" y="14319"/>
                  </a:lnTo>
                  <a:lnTo>
                    <a:pt x="3584" y="14334"/>
                  </a:lnTo>
                  <a:lnTo>
                    <a:pt x="3577" y="14349"/>
                  </a:lnTo>
                  <a:lnTo>
                    <a:pt x="3564" y="14370"/>
                  </a:lnTo>
                  <a:lnTo>
                    <a:pt x="3548" y="14394"/>
                  </a:lnTo>
                  <a:lnTo>
                    <a:pt x="3527" y="14420"/>
                  </a:lnTo>
                  <a:lnTo>
                    <a:pt x="3502" y="14450"/>
                  </a:lnTo>
                  <a:lnTo>
                    <a:pt x="3474" y="14481"/>
                  </a:lnTo>
                  <a:lnTo>
                    <a:pt x="3441" y="14515"/>
                  </a:lnTo>
                  <a:lnTo>
                    <a:pt x="3404" y="14552"/>
                  </a:lnTo>
                  <a:lnTo>
                    <a:pt x="3363" y="14590"/>
                  </a:lnTo>
                  <a:lnTo>
                    <a:pt x="2989" y="14939"/>
                  </a:lnTo>
                  <a:lnTo>
                    <a:pt x="2969" y="14958"/>
                  </a:lnTo>
                  <a:lnTo>
                    <a:pt x="2951" y="14978"/>
                  </a:lnTo>
                  <a:lnTo>
                    <a:pt x="2935" y="14995"/>
                  </a:lnTo>
                  <a:lnTo>
                    <a:pt x="2922" y="15013"/>
                  </a:lnTo>
                  <a:lnTo>
                    <a:pt x="2912" y="15029"/>
                  </a:lnTo>
                  <a:lnTo>
                    <a:pt x="2904" y="15043"/>
                  </a:lnTo>
                  <a:lnTo>
                    <a:pt x="2901" y="15051"/>
                  </a:lnTo>
                  <a:lnTo>
                    <a:pt x="2899" y="15058"/>
                  </a:lnTo>
                  <a:lnTo>
                    <a:pt x="2898" y="15064"/>
                  </a:lnTo>
                  <a:lnTo>
                    <a:pt x="2897" y="15071"/>
                  </a:lnTo>
                  <a:lnTo>
                    <a:pt x="2897" y="15084"/>
                  </a:lnTo>
                  <a:lnTo>
                    <a:pt x="2898" y="15096"/>
                  </a:lnTo>
                  <a:lnTo>
                    <a:pt x="2901" y="15109"/>
                  </a:lnTo>
                  <a:lnTo>
                    <a:pt x="2905" y="15122"/>
                  </a:lnTo>
                  <a:lnTo>
                    <a:pt x="2912" y="15135"/>
                  </a:lnTo>
                  <a:lnTo>
                    <a:pt x="2921" y="15148"/>
                  </a:lnTo>
                  <a:lnTo>
                    <a:pt x="2930" y="15161"/>
                  </a:lnTo>
                  <a:lnTo>
                    <a:pt x="2942" y="15174"/>
                  </a:lnTo>
                  <a:lnTo>
                    <a:pt x="2976" y="15211"/>
                  </a:lnTo>
                  <a:lnTo>
                    <a:pt x="2950" y="15235"/>
                  </a:lnTo>
                  <a:lnTo>
                    <a:pt x="2566" y="14822"/>
                  </a:lnTo>
                  <a:lnTo>
                    <a:pt x="2592" y="14798"/>
                  </a:lnTo>
                  <a:lnTo>
                    <a:pt x="2626" y="14834"/>
                  </a:lnTo>
                  <a:lnTo>
                    <a:pt x="2640" y="14848"/>
                  </a:lnTo>
                  <a:lnTo>
                    <a:pt x="2654" y="14860"/>
                  </a:lnTo>
                  <a:lnTo>
                    <a:pt x="2668" y="14869"/>
                  </a:lnTo>
                  <a:lnTo>
                    <a:pt x="2682" y="14877"/>
                  </a:lnTo>
                  <a:lnTo>
                    <a:pt x="2696" y="14882"/>
                  </a:lnTo>
                  <a:lnTo>
                    <a:pt x="2712" y="14885"/>
                  </a:lnTo>
                  <a:lnTo>
                    <a:pt x="2719" y="14885"/>
                  </a:lnTo>
                  <a:lnTo>
                    <a:pt x="2727" y="14885"/>
                  </a:lnTo>
                  <a:lnTo>
                    <a:pt x="2733" y="14885"/>
                  </a:lnTo>
                  <a:lnTo>
                    <a:pt x="2742" y="14884"/>
                  </a:lnTo>
                  <a:lnTo>
                    <a:pt x="2753" y="14882"/>
                  </a:lnTo>
                  <a:lnTo>
                    <a:pt x="2765" y="14877"/>
                  </a:lnTo>
                  <a:lnTo>
                    <a:pt x="2778" y="14870"/>
                  </a:lnTo>
                  <a:lnTo>
                    <a:pt x="2793" y="14862"/>
                  </a:lnTo>
                  <a:lnTo>
                    <a:pt x="2809" y="14850"/>
                  </a:lnTo>
                  <a:lnTo>
                    <a:pt x="2826" y="14836"/>
                  </a:lnTo>
                  <a:lnTo>
                    <a:pt x="2844" y="14821"/>
                  </a:lnTo>
                  <a:lnTo>
                    <a:pt x="2863" y="14804"/>
                  </a:lnTo>
                  <a:lnTo>
                    <a:pt x="3280" y="14415"/>
                  </a:lnTo>
                  <a:lnTo>
                    <a:pt x="3307" y="14388"/>
                  </a:lnTo>
                  <a:lnTo>
                    <a:pt x="3337" y="14357"/>
                  </a:lnTo>
                  <a:lnTo>
                    <a:pt x="3367" y="14324"/>
                  </a:lnTo>
                  <a:lnTo>
                    <a:pt x="3398" y="14287"/>
                  </a:lnTo>
                  <a:lnTo>
                    <a:pt x="3412" y="14268"/>
                  </a:lnTo>
                  <a:lnTo>
                    <a:pt x="3426" y="14248"/>
                  </a:lnTo>
                  <a:lnTo>
                    <a:pt x="3438" y="14231"/>
                  </a:lnTo>
                  <a:lnTo>
                    <a:pt x="3448" y="14213"/>
                  </a:lnTo>
                  <a:lnTo>
                    <a:pt x="3456" y="14195"/>
                  </a:lnTo>
                  <a:lnTo>
                    <a:pt x="3464" y="14178"/>
                  </a:lnTo>
                  <a:lnTo>
                    <a:pt x="3471" y="14161"/>
                  </a:lnTo>
                  <a:lnTo>
                    <a:pt x="3475" y="14145"/>
                  </a:lnTo>
                  <a:lnTo>
                    <a:pt x="3478" y="14129"/>
                  </a:lnTo>
                  <a:lnTo>
                    <a:pt x="3480" y="14112"/>
                  </a:lnTo>
                  <a:lnTo>
                    <a:pt x="3482" y="14096"/>
                  </a:lnTo>
                  <a:lnTo>
                    <a:pt x="3482" y="14079"/>
                  </a:lnTo>
                  <a:lnTo>
                    <a:pt x="3479" y="14061"/>
                  </a:lnTo>
                  <a:lnTo>
                    <a:pt x="3477" y="14044"/>
                  </a:lnTo>
                  <a:lnTo>
                    <a:pt x="3474" y="14025"/>
                  </a:lnTo>
                  <a:lnTo>
                    <a:pt x="3470" y="14007"/>
                  </a:lnTo>
                  <a:lnTo>
                    <a:pt x="3463" y="13988"/>
                  </a:lnTo>
                  <a:lnTo>
                    <a:pt x="3455" y="13970"/>
                  </a:lnTo>
                  <a:lnTo>
                    <a:pt x="3447" y="13951"/>
                  </a:lnTo>
                  <a:lnTo>
                    <a:pt x="3437" y="13932"/>
                  </a:lnTo>
                  <a:lnTo>
                    <a:pt x="3425" y="13914"/>
                  </a:lnTo>
                  <a:lnTo>
                    <a:pt x="3412" y="13896"/>
                  </a:lnTo>
                  <a:lnTo>
                    <a:pt x="3397" y="13877"/>
                  </a:lnTo>
                  <a:lnTo>
                    <a:pt x="3380" y="13859"/>
                  </a:lnTo>
                  <a:lnTo>
                    <a:pt x="3358" y="13836"/>
                  </a:lnTo>
                  <a:lnTo>
                    <a:pt x="3336" y="13815"/>
                  </a:lnTo>
                  <a:lnTo>
                    <a:pt x="3312" y="13797"/>
                  </a:lnTo>
                  <a:lnTo>
                    <a:pt x="3288" y="13779"/>
                  </a:lnTo>
                  <a:lnTo>
                    <a:pt x="3263" y="13764"/>
                  </a:lnTo>
                  <a:lnTo>
                    <a:pt x="3237" y="13751"/>
                  </a:lnTo>
                  <a:lnTo>
                    <a:pt x="3210" y="13739"/>
                  </a:lnTo>
                  <a:lnTo>
                    <a:pt x="3183" y="13729"/>
                  </a:lnTo>
                  <a:lnTo>
                    <a:pt x="3156" y="13721"/>
                  </a:lnTo>
                  <a:lnTo>
                    <a:pt x="3130" y="13716"/>
                  </a:lnTo>
                  <a:lnTo>
                    <a:pt x="3104" y="13712"/>
                  </a:lnTo>
                  <a:lnTo>
                    <a:pt x="3079" y="13711"/>
                  </a:lnTo>
                  <a:lnTo>
                    <a:pt x="3054" y="13711"/>
                  </a:lnTo>
                  <a:lnTo>
                    <a:pt x="3030" y="13714"/>
                  </a:lnTo>
                  <a:lnTo>
                    <a:pt x="3019" y="13716"/>
                  </a:lnTo>
                  <a:lnTo>
                    <a:pt x="3007" y="13718"/>
                  </a:lnTo>
                  <a:lnTo>
                    <a:pt x="2996" y="13721"/>
                  </a:lnTo>
                  <a:lnTo>
                    <a:pt x="2984" y="13726"/>
                  </a:lnTo>
                  <a:lnTo>
                    <a:pt x="2973" y="13730"/>
                  </a:lnTo>
                  <a:lnTo>
                    <a:pt x="2961" y="13736"/>
                  </a:lnTo>
                  <a:lnTo>
                    <a:pt x="2949" y="13741"/>
                  </a:lnTo>
                  <a:lnTo>
                    <a:pt x="2936" y="13749"/>
                  </a:lnTo>
                  <a:lnTo>
                    <a:pt x="2909" y="13765"/>
                  </a:lnTo>
                  <a:lnTo>
                    <a:pt x="2879" y="13786"/>
                  </a:lnTo>
                  <a:lnTo>
                    <a:pt x="2849" y="13809"/>
                  </a:lnTo>
                  <a:lnTo>
                    <a:pt x="2815" y="13836"/>
                  </a:lnTo>
                  <a:lnTo>
                    <a:pt x="2780" y="13866"/>
                  </a:lnTo>
                  <a:lnTo>
                    <a:pt x="2743" y="13900"/>
                  </a:lnTo>
                  <a:lnTo>
                    <a:pt x="2357" y="14260"/>
                  </a:lnTo>
                  <a:lnTo>
                    <a:pt x="2336" y="14280"/>
                  </a:lnTo>
                  <a:lnTo>
                    <a:pt x="2317" y="14300"/>
                  </a:lnTo>
                  <a:lnTo>
                    <a:pt x="2301" y="14317"/>
                  </a:lnTo>
                  <a:lnTo>
                    <a:pt x="2289" y="14332"/>
                  </a:lnTo>
                  <a:lnTo>
                    <a:pt x="2278" y="14348"/>
                  </a:lnTo>
                  <a:lnTo>
                    <a:pt x="2271" y="14361"/>
                  </a:lnTo>
                  <a:lnTo>
                    <a:pt x="2265" y="14374"/>
                  </a:lnTo>
                  <a:lnTo>
                    <a:pt x="2263" y="14383"/>
                  </a:lnTo>
                  <a:lnTo>
                    <a:pt x="2263" y="14398"/>
                  </a:lnTo>
                  <a:lnTo>
                    <a:pt x="2264" y="14412"/>
                  </a:lnTo>
                  <a:lnTo>
                    <a:pt x="2267" y="14426"/>
                  </a:lnTo>
                  <a:lnTo>
                    <a:pt x="2272" y="14440"/>
                  </a:lnTo>
                  <a:lnTo>
                    <a:pt x="2278" y="14454"/>
                  </a:lnTo>
                  <a:lnTo>
                    <a:pt x="2287" y="14467"/>
                  </a:lnTo>
                  <a:lnTo>
                    <a:pt x="2297" y="14481"/>
                  </a:lnTo>
                  <a:lnTo>
                    <a:pt x="2309" y="14495"/>
                  </a:lnTo>
                  <a:lnTo>
                    <a:pt x="2342" y="14530"/>
                  </a:lnTo>
                  <a:close/>
                  <a:moveTo>
                    <a:pt x="2594" y="13134"/>
                  </a:moveTo>
                  <a:lnTo>
                    <a:pt x="2587" y="13125"/>
                  </a:lnTo>
                  <a:lnTo>
                    <a:pt x="2583" y="13115"/>
                  </a:lnTo>
                  <a:lnTo>
                    <a:pt x="2579" y="13105"/>
                  </a:lnTo>
                  <a:lnTo>
                    <a:pt x="2575" y="13095"/>
                  </a:lnTo>
                  <a:lnTo>
                    <a:pt x="2574" y="13085"/>
                  </a:lnTo>
                  <a:lnTo>
                    <a:pt x="2573" y="13076"/>
                  </a:lnTo>
                  <a:lnTo>
                    <a:pt x="2574" y="13065"/>
                  </a:lnTo>
                  <a:lnTo>
                    <a:pt x="2575" y="13054"/>
                  </a:lnTo>
                  <a:lnTo>
                    <a:pt x="2578" y="13043"/>
                  </a:lnTo>
                  <a:lnTo>
                    <a:pt x="2581" y="13033"/>
                  </a:lnTo>
                  <a:lnTo>
                    <a:pt x="2585" y="13025"/>
                  </a:lnTo>
                  <a:lnTo>
                    <a:pt x="2591" y="13016"/>
                  </a:lnTo>
                  <a:lnTo>
                    <a:pt x="2596" y="13007"/>
                  </a:lnTo>
                  <a:lnTo>
                    <a:pt x="2604" y="12999"/>
                  </a:lnTo>
                  <a:lnTo>
                    <a:pt x="2611" y="12992"/>
                  </a:lnTo>
                  <a:lnTo>
                    <a:pt x="2620" y="12985"/>
                  </a:lnTo>
                  <a:lnTo>
                    <a:pt x="2629" y="12980"/>
                  </a:lnTo>
                  <a:lnTo>
                    <a:pt x="2639" y="12974"/>
                  </a:lnTo>
                  <a:lnTo>
                    <a:pt x="2648" y="12971"/>
                  </a:lnTo>
                  <a:lnTo>
                    <a:pt x="2658" y="12968"/>
                  </a:lnTo>
                  <a:lnTo>
                    <a:pt x="2668" y="12967"/>
                  </a:lnTo>
                  <a:lnTo>
                    <a:pt x="2678" y="12966"/>
                  </a:lnTo>
                  <a:lnTo>
                    <a:pt x="2689" y="12967"/>
                  </a:lnTo>
                  <a:lnTo>
                    <a:pt x="2700" y="12968"/>
                  </a:lnTo>
                  <a:lnTo>
                    <a:pt x="2711" y="12970"/>
                  </a:lnTo>
                  <a:lnTo>
                    <a:pt x="2720" y="12973"/>
                  </a:lnTo>
                  <a:lnTo>
                    <a:pt x="2729" y="12978"/>
                  </a:lnTo>
                  <a:lnTo>
                    <a:pt x="2739" y="12982"/>
                  </a:lnTo>
                  <a:lnTo>
                    <a:pt x="2746" y="12989"/>
                  </a:lnTo>
                  <a:lnTo>
                    <a:pt x="2754" y="12995"/>
                  </a:lnTo>
                  <a:lnTo>
                    <a:pt x="2762" y="13003"/>
                  </a:lnTo>
                  <a:lnTo>
                    <a:pt x="2768" y="13011"/>
                  </a:lnTo>
                  <a:lnTo>
                    <a:pt x="2775" y="13021"/>
                  </a:lnTo>
                  <a:lnTo>
                    <a:pt x="2779" y="13030"/>
                  </a:lnTo>
                  <a:lnTo>
                    <a:pt x="2782" y="13040"/>
                  </a:lnTo>
                  <a:lnTo>
                    <a:pt x="2786" y="13050"/>
                  </a:lnTo>
                  <a:lnTo>
                    <a:pt x="2788" y="13060"/>
                  </a:lnTo>
                  <a:lnTo>
                    <a:pt x="2788" y="13070"/>
                  </a:lnTo>
                  <a:lnTo>
                    <a:pt x="2788" y="13081"/>
                  </a:lnTo>
                  <a:lnTo>
                    <a:pt x="2787" y="13091"/>
                  </a:lnTo>
                  <a:lnTo>
                    <a:pt x="2783" y="13102"/>
                  </a:lnTo>
                  <a:lnTo>
                    <a:pt x="2780" y="13112"/>
                  </a:lnTo>
                  <a:lnTo>
                    <a:pt x="2776" y="13121"/>
                  </a:lnTo>
                  <a:lnTo>
                    <a:pt x="2772" y="13130"/>
                  </a:lnTo>
                  <a:lnTo>
                    <a:pt x="2765" y="13139"/>
                  </a:lnTo>
                  <a:lnTo>
                    <a:pt x="2758" y="13146"/>
                  </a:lnTo>
                  <a:lnTo>
                    <a:pt x="2751" y="13154"/>
                  </a:lnTo>
                  <a:lnTo>
                    <a:pt x="2742" y="13161"/>
                  </a:lnTo>
                  <a:lnTo>
                    <a:pt x="2733" y="13166"/>
                  </a:lnTo>
                  <a:lnTo>
                    <a:pt x="2724" y="13172"/>
                  </a:lnTo>
                  <a:lnTo>
                    <a:pt x="2714" y="13175"/>
                  </a:lnTo>
                  <a:lnTo>
                    <a:pt x="2704" y="13178"/>
                  </a:lnTo>
                  <a:lnTo>
                    <a:pt x="2693" y="13179"/>
                  </a:lnTo>
                  <a:lnTo>
                    <a:pt x="2683" y="13180"/>
                  </a:lnTo>
                  <a:lnTo>
                    <a:pt x="2672" y="13180"/>
                  </a:lnTo>
                  <a:lnTo>
                    <a:pt x="2662" y="13178"/>
                  </a:lnTo>
                  <a:lnTo>
                    <a:pt x="2652" y="13176"/>
                  </a:lnTo>
                  <a:lnTo>
                    <a:pt x="2642" y="13173"/>
                  </a:lnTo>
                  <a:lnTo>
                    <a:pt x="2632" y="13168"/>
                  </a:lnTo>
                  <a:lnTo>
                    <a:pt x="2623" y="13164"/>
                  </a:lnTo>
                  <a:lnTo>
                    <a:pt x="2615" y="13157"/>
                  </a:lnTo>
                  <a:lnTo>
                    <a:pt x="2607" y="13151"/>
                  </a:lnTo>
                  <a:lnTo>
                    <a:pt x="2601" y="13143"/>
                  </a:lnTo>
                  <a:lnTo>
                    <a:pt x="2594" y="13134"/>
                  </a:lnTo>
                  <a:close/>
                  <a:moveTo>
                    <a:pt x="923" y="12632"/>
                  </a:moveTo>
                  <a:lnTo>
                    <a:pt x="1319" y="12414"/>
                  </a:lnTo>
                  <a:lnTo>
                    <a:pt x="1336" y="12444"/>
                  </a:lnTo>
                  <a:lnTo>
                    <a:pt x="1311" y="12464"/>
                  </a:lnTo>
                  <a:lnTo>
                    <a:pt x="1287" y="12483"/>
                  </a:lnTo>
                  <a:lnTo>
                    <a:pt x="1265" y="12503"/>
                  </a:lnTo>
                  <a:lnTo>
                    <a:pt x="1246" y="12523"/>
                  </a:lnTo>
                  <a:lnTo>
                    <a:pt x="1227" y="12542"/>
                  </a:lnTo>
                  <a:lnTo>
                    <a:pt x="1212" y="12561"/>
                  </a:lnTo>
                  <a:lnTo>
                    <a:pt x="1198" y="12580"/>
                  </a:lnTo>
                  <a:lnTo>
                    <a:pt x="1185" y="12599"/>
                  </a:lnTo>
                  <a:lnTo>
                    <a:pt x="1174" y="12618"/>
                  </a:lnTo>
                  <a:lnTo>
                    <a:pt x="1165" y="12639"/>
                  </a:lnTo>
                  <a:lnTo>
                    <a:pt x="1158" y="12659"/>
                  </a:lnTo>
                  <a:lnTo>
                    <a:pt x="1151" y="12680"/>
                  </a:lnTo>
                  <a:lnTo>
                    <a:pt x="1146" y="12702"/>
                  </a:lnTo>
                  <a:lnTo>
                    <a:pt x="1142" y="12724"/>
                  </a:lnTo>
                  <a:lnTo>
                    <a:pt x="1140" y="12747"/>
                  </a:lnTo>
                  <a:lnTo>
                    <a:pt x="1140" y="12770"/>
                  </a:lnTo>
                  <a:lnTo>
                    <a:pt x="1141" y="12794"/>
                  </a:lnTo>
                  <a:lnTo>
                    <a:pt x="1143" y="12817"/>
                  </a:lnTo>
                  <a:lnTo>
                    <a:pt x="1147" y="12838"/>
                  </a:lnTo>
                  <a:lnTo>
                    <a:pt x="1151" y="12860"/>
                  </a:lnTo>
                  <a:lnTo>
                    <a:pt x="1158" y="12882"/>
                  </a:lnTo>
                  <a:lnTo>
                    <a:pt x="1164" y="12901"/>
                  </a:lnTo>
                  <a:lnTo>
                    <a:pt x="1173" y="12922"/>
                  </a:lnTo>
                  <a:lnTo>
                    <a:pt x="1184" y="12942"/>
                  </a:lnTo>
                  <a:lnTo>
                    <a:pt x="1196" y="12962"/>
                  </a:lnTo>
                  <a:lnTo>
                    <a:pt x="1210" y="12982"/>
                  </a:lnTo>
                  <a:lnTo>
                    <a:pt x="1225" y="12999"/>
                  </a:lnTo>
                  <a:lnTo>
                    <a:pt x="1241" y="13015"/>
                  </a:lnTo>
                  <a:lnTo>
                    <a:pt x="1249" y="13021"/>
                  </a:lnTo>
                  <a:lnTo>
                    <a:pt x="1259" y="13028"/>
                  </a:lnTo>
                  <a:lnTo>
                    <a:pt x="1268" y="13034"/>
                  </a:lnTo>
                  <a:lnTo>
                    <a:pt x="1277" y="13040"/>
                  </a:lnTo>
                  <a:lnTo>
                    <a:pt x="1286" y="13044"/>
                  </a:lnTo>
                  <a:lnTo>
                    <a:pt x="1296" y="13050"/>
                  </a:lnTo>
                  <a:lnTo>
                    <a:pt x="1307" y="13053"/>
                  </a:lnTo>
                  <a:lnTo>
                    <a:pt x="1318" y="13057"/>
                  </a:lnTo>
                  <a:lnTo>
                    <a:pt x="1338" y="13063"/>
                  </a:lnTo>
                  <a:lnTo>
                    <a:pt x="1359" y="13067"/>
                  </a:lnTo>
                  <a:lnTo>
                    <a:pt x="1379" y="13068"/>
                  </a:lnTo>
                  <a:lnTo>
                    <a:pt x="1398" y="13068"/>
                  </a:lnTo>
                  <a:lnTo>
                    <a:pt x="1417" y="13066"/>
                  </a:lnTo>
                  <a:lnTo>
                    <a:pt x="1435" y="13062"/>
                  </a:lnTo>
                  <a:lnTo>
                    <a:pt x="1453" y="13055"/>
                  </a:lnTo>
                  <a:lnTo>
                    <a:pt x="1470" y="13046"/>
                  </a:lnTo>
                  <a:lnTo>
                    <a:pt x="1483" y="13039"/>
                  </a:lnTo>
                  <a:lnTo>
                    <a:pt x="1495" y="13030"/>
                  </a:lnTo>
                  <a:lnTo>
                    <a:pt x="1505" y="13021"/>
                  </a:lnTo>
                  <a:lnTo>
                    <a:pt x="1516" y="13010"/>
                  </a:lnTo>
                  <a:lnTo>
                    <a:pt x="1525" y="12998"/>
                  </a:lnTo>
                  <a:lnTo>
                    <a:pt x="1532" y="12986"/>
                  </a:lnTo>
                  <a:lnTo>
                    <a:pt x="1540" y="12972"/>
                  </a:lnTo>
                  <a:lnTo>
                    <a:pt x="1545" y="12958"/>
                  </a:lnTo>
                  <a:lnTo>
                    <a:pt x="1550" y="12946"/>
                  </a:lnTo>
                  <a:lnTo>
                    <a:pt x="1554" y="12933"/>
                  </a:lnTo>
                  <a:lnTo>
                    <a:pt x="1557" y="12919"/>
                  </a:lnTo>
                  <a:lnTo>
                    <a:pt x="1561" y="12904"/>
                  </a:lnTo>
                  <a:lnTo>
                    <a:pt x="1566" y="12869"/>
                  </a:lnTo>
                  <a:lnTo>
                    <a:pt x="1570" y="12828"/>
                  </a:lnTo>
                  <a:lnTo>
                    <a:pt x="1574" y="12784"/>
                  </a:lnTo>
                  <a:lnTo>
                    <a:pt x="1576" y="12733"/>
                  </a:lnTo>
                  <a:lnTo>
                    <a:pt x="1577" y="12677"/>
                  </a:lnTo>
                  <a:lnTo>
                    <a:pt x="1576" y="12616"/>
                  </a:lnTo>
                  <a:lnTo>
                    <a:pt x="1576" y="12566"/>
                  </a:lnTo>
                  <a:lnTo>
                    <a:pt x="1576" y="12520"/>
                  </a:lnTo>
                  <a:lnTo>
                    <a:pt x="1577" y="12478"/>
                  </a:lnTo>
                  <a:lnTo>
                    <a:pt x="1578" y="12440"/>
                  </a:lnTo>
                  <a:lnTo>
                    <a:pt x="1579" y="12405"/>
                  </a:lnTo>
                  <a:lnTo>
                    <a:pt x="1581" y="12374"/>
                  </a:lnTo>
                  <a:lnTo>
                    <a:pt x="1583" y="12347"/>
                  </a:lnTo>
                  <a:lnTo>
                    <a:pt x="1587" y="12324"/>
                  </a:lnTo>
                  <a:lnTo>
                    <a:pt x="1591" y="12304"/>
                  </a:lnTo>
                  <a:lnTo>
                    <a:pt x="1595" y="12284"/>
                  </a:lnTo>
                  <a:lnTo>
                    <a:pt x="1602" y="12264"/>
                  </a:lnTo>
                  <a:lnTo>
                    <a:pt x="1608" y="12245"/>
                  </a:lnTo>
                  <a:lnTo>
                    <a:pt x="1616" y="12226"/>
                  </a:lnTo>
                  <a:lnTo>
                    <a:pt x="1625" y="12209"/>
                  </a:lnTo>
                  <a:lnTo>
                    <a:pt x="1635" y="12191"/>
                  </a:lnTo>
                  <a:lnTo>
                    <a:pt x="1645" y="12175"/>
                  </a:lnTo>
                  <a:lnTo>
                    <a:pt x="1656" y="12159"/>
                  </a:lnTo>
                  <a:lnTo>
                    <a:pt x="1669" y="12144"/>
                  </a:lnTo>
                  <a:lnTo>
                    <a:pt x="1683" y="12129"/>
                  </a:lnTo>
                  <a:lnTo>
                    <a:pt x="1696" y="12115"/>
                  </a:lnTo>
                  <a:lnTo>
                    <a:pt x="1711" y="12103"/>
                  </a:lnTo>
                  <a:lnTo>
                    <a:pt x="1725" y="12091"/>
                  </a:lnTo>
                  <a:lnTo>
                    <a:pt x="1741" y="12080"/>
                  </a:lnTo>
                  <a:lnTo>
                    <a:pt x="1758" y="12071"/>
                  </a:lnTo>
                  <a:lnTo>
                    <a:pt x="1774" y="12062"/>
                  </a:lnTo>
                  <a:lnTo>
                    <a:pt x="1790" y="12054"/>
                  </a:lnTo>
                  <a:lnTo>
                    <a:pt x="1808" y="12048"/>
                  </a:lnTo>
                  <a:lnTo>
                    <a:pt x="1824" y="12042"/>
                  </a:lnTo>
                  <a:lnTo>
                    <a:pt x="1841" y="12038"/>
                  </a:lnTo>
                  <a:lnTo>
                    <a:pt x="1858" y="12034"/>
                  </a:lnTo>
                  <a:lnTo>
                    <a:pt x="1875" y="12031"/>
                  </a:lnTo>
                  <a:lnTo>
                    <a:pt x="1893" y="12029"/>
                  </a:lnTo>
                  <a:lnTo>
                    <a:pt x="1910" y="12028"/>
                  </a:lnTo>
                  <a:lnTo>
                    <a:pt x="1928" y="12028"/>
                  </a:lnTo>
                  <a:lnTo>
                    <a:pt x="1946" y="12029"/>
                  </a:lnTo>
                  <a:lnTo>
                    <a:pt x="1963" y="12030"/>
                  </a:lnTo>
                  <a:lnTo>
                    <a:pt x="1982" y="12034"/>
                  </a:lnTo>
                  <a:lnTo>
                    <a:pt x="2000" y="12037"/>
                  </a:lnTo>
                  <a:lnTo>
                    <a:pt x="2019" y="12042"/>
                  </a:lnTo>
                  <a:lnTo>
                    <a:pt x="2038" y="12048"/>
                  </a:lnTo>
                  <a:lnTo>
                    <a:pt x="2056" y="12054"/>
                  </a:lnTo>
                  <a:lnTo>
                    <a:pt x="2073" y="12061"/>
                  </a:lnTo>
                  <a:lnTo>
                    <a:pt x="2091" y="12070"/>
                  </a:lnTo>
                  <a:lnTo>
                    <a:pt x="2108" y="12078"/>
                  </a:lnTo>
                  <a:lnTo>
                    <a:pt x="2125" y="12088"/>
                  </a:lnTo>
                  <a:lnTo>
                    <a:pt x="2141" y="12099"/>
                  </a:lnTo>
                  <a:lnTo>
                    <a:pt x="2156" y="12111"/>
                  </a:lnTo>
                  <a:lnTo>
                    <a:pt x="2171" y="12124"/>
                  </a:lnTo>
                  <a:lnTo>
                    <a:pt x="2187" y="12137"/>
                  </a:lnTo>
                  <a:lnTo>
                    <a:pt x="2201" y="12151"/>
                  </a:lnTo>
                  <a:lnTo>
                    <a:pt x="2214" y="12166"/>
                  </a:lnTo>
                  <a:lnTo>
                    <a:pt x="2227" y="12182"/>
                  </a:lnTo>
                  <a:lnTo>
                    <a:pt x="2240" y="12199"/>
                  </a:lnTo>
                  <a:lnTo>
                    <a:pt x="2252" y="12217"/>
                  </a:lnTo>
                  <a:lnTo>
                    <a:pt x="2264" y="12235"/>
                  </a:lnTo>
                  <a:lnTo>
                    <a:pt x="2275" y="12255"/>
                  </a:lnTo>
                  <a:lnTo>
                    <a:pt x="2288" y="12279"/>
                  </a:lnTo>
                  <a:lnTo>
                    <a:pt x="2300" y="12304"/>
                  </a:lnTo>
                  <a:lnTo>
                    <a:pt x="2310" y="12328"/>
                  </a:lnTo>
                  <a:lnTo>
                    <a:pt x="2320" y="12353"/>
                  </a:lnTo>
                  <a:lnTo>
                    <a:pt x="2325" y="12370"/>
                  </a:lnTo>
                  <a:lnTo>
                    <a:pt x="2332" y="12397"/>
                  </a:lnTo>
                  <a:lnTo>
                    <a:pt x="2339" y="12433"/>
                  </a:lnTo>
                  <a:lnTo>
                    <a:pt x="2349" y="12477"/>
                  </a:lnTo>
                  <a:lnTo>
                    <a:pt x="2358" y="12520"/>
                  </a:lnTo>
                  <a:lnTo>
                    <a:pt x="2365" y="12555"/>
                  </a:lnTo>
                  <a:lnTo>
                    <a:pt x="2370" y="12569"/>
                  </a:lnTo>
                  <a:lnTo>
                    <a:pt x="2373" y="12580"/>
                  </a:lnTo>
                  <a:lnTo>
                    <a:pt x="2376" y="12589"/>
                  </a:lnTo>
                  <a:lnTo>
                    <a:pt x="2379" y="12595"/>
                  </a:lnTo>
                  <a:lnTo>
                    <a:pt x="2386" y="12605"/>
                  </a:lnTo>
                  <a:lnTo>
                    <a:pt x="2393" y="12613"/>
                  </a:lnTo>
                  <a:lnTo>
                    <a:pt x="2401" y="12618"/>
                  </a:lnTo>
                  <a:lnTo>
                    <a:pt x="2411" y="12623"/>
                  </a:lnTo>
                  <a:lnTo>
                    <a:pt x="2415" y="12623"/>
                  </a:lnTo>
                  <a:lnTo>
                    <a:pt x="2422" y="12624"/>
                  </a:lnTo>
                  <a:lnTo>
                    <a:pt x="2428" y="12623"/>
                  </a:lnTo>
                  <a:lnTo>
                    <a:pt x="2436" y="12622"/>
                  </a:lnTo>
                  <a:lnTo>
                    <a:pt x="2452" y="12618"/>
                  </a:lnTo>
                  <a:lnTo>
                    <a:pt x="2473" y="12612"/>
                  </a:lnTo>
                  <a:lnTo>
                    <a:pt x="2491" y="12642"/>
                  </a:lnTo>
                  <a:lnTo>
                    <a:pt x="2099" y="12859"/>
                  </a:lnTo>
                  <a:lnTo>
                    <a:pt x="2081" y="12828"/>
                  </a:lnTo>
                  <a:lnTo>
                    <a:pt x="2108" y="12806"/>
                  </a:lnTo>
                  <a:lnTo>
                    <a:pt x="2132" y="12785"/>
                  </a:lnTo>
                  <a:lnTo>
                    <a:pt x="2154" y="12763"/>
                  </a:lnTo>
                  <a:lnTo>
                    <a:pt x="2175" y="12742"/>
                  </a:lnTo>
                  <a:lnTo>
                    <a:pt x="2192" y="12723"/>
                  </a:lnTo>
                  <a:lnTo>
                    <a:pt x="2207" y="12704"/>
                  </a:lnTo>
                  <a:lnTo>
                    <a:pt x="2222" y="12685"/>
                  </a:lnTo>
                  <a:lnTo>
                    <a:pt x="2232" y="12667"/>
                  </a:lnTo>
                  <a:lnTo>
                    <a:pt x="2242" y="12649"/>
                  </a:lnTo>
                  <a:lnTo>
                    <a:pt x="2250" y="12630"/>
                  </a:lnTo>
                  <a:lnTo>
                    <a:pt x="2256" y="12611"/>
                  </a:lnTo>
                  <a:lnTo>
                    <a:pt x="2263" y="12589"/>
                  </a:lnTo>
                  <a:lnTo>
                    <a:pt x="2266" y="12568"/>
                  </a:lnTo>
                  <a:lnTo>
                    <a:pt x="2269" y="12545"/>
                  </a:lnTo>
                  <a:lnTo>
                    <a:pt x="2271" y="12523"/>
                  </a:lnTo>
                  <a:lnTo>
                    <a:pt x="2272" y="12497"/>
                  </a:lnTo>
                  <a:lnTo>
                    <a:pt x="2271" y="12474"/>
                  </a:lnTo>
                  <a:lnTo>
                    <a:pt x="2267" y="12450"/>
                  </a:lnTo>
                  <a:lnTo>
                    <a:pt x="2263" y="12426"/>
                  </a:lnTo>
                  <a:lnTo>
                    <a:pt x="2257" y="12402"/>
                  </a:lnTo>
                  <a:lnTo>
                    <a:pt x="2250" y="12378"/>
                  </a:lnTo>
                  <a:lnTo>
                    <a:pt x="2241" y="12355"/>
                  </a:lnTo>
                  <a:lnTo>
                    <a:pt x="2230" y="12331"/>
                  </a:lnTo>
                  <a:lnTo>
                    <a:pt x="2219" y="12308"/>
                  </a:lnTo>
                  <a:lnTo>
                    <a:pt x="2204" y="12283"/>
                  </a:lnTo>
                  <a:lnTo>
                    <a:pt x="2188" y="12260"/>
                  </a:lnTo>
                  <a:lnTo>
                    <a:pt x="2179" y="12250"/>
                  </a:lnTo>
                  <a:lnTo>
                    <a:pt x="2170" y="12240"/>
                  </a:lnTo>
                  <a:lnTo>
                    <a:pt x="2162" y="12231"/>
                  </a:lnTo>
                  <a:lnTo>
                    <a:pt x="2153" y="12222"/>
                  </a:lnTo>
                  <a:lnTo>
                    <a:pt x="2143" y="12214"/>
                  </a:lnTo>
                  <a:lnTo>
                    <a:pt x="2134" y="12207"/>
                  </a:lnTo>
                  <a:lnTo>
                    <a:pt x="2125" y="12199"/>
                  </a:lnTo>
                  <a:lnTo>
                    <a:pt x="2114" y="12193"/>
                  </a:lnTo>
                  <a:lnTo>
                    <a:pt x="2104" y="12187"/>
                  </a:lnTo>
                  <a:lnTo>
                    <a:pt x="2093" y="12182"/>
                  </a:lnTo>
                  <a:lnTo>
                    <a:pt x="2082" y="12177"/>
                  </a:lnTo>
                  <a:lnTo>
                    <a:pt x="2071" y="12173"/>
                  </a:lnTo>
                  <a:lnTo>
                    <a:pt x="2049" y="12166"/>
                  </a:lnTo>
                  <a:lnTo>
                    <a:pt x="2028" y="12162"/>
                  </a:lnTo>
                  <a:lnTo>
                    <a:pt x="2006" y="12161"/>
                  </a:lnTo>
                  <a:lnTo>
                    <a:pt x="1985" y="12161"/>
                  </a:lnTo>
                  <a:lnTo>
                    <a:pt x="1975" y="12162"/>
                  </a:lnTo>
                  <a:lnTo>
                    <a:pt x="1965" y="12163"/>
                  </a:lnTo>
                  <a:lnTo>
                    <a:pt x="1955" y="12165"/>
                  </a:lnTo>
                  <a:lnTo>
                    <a:pt x="1945" y="12169"/>
                  </a:lnTo>
                  <a:lnTo>
                    <a:pt x="1935" y="12172"/>
                  </a:lnTo>
                  <a:lnTo>
                    <a:pt x="1925" y="12175"/>
                  </a:lnTo>
                  <a:lnTo>
                    <a:pt x="1916" y="12180"/>
                  </a:lnTo>
                  <a:lnTo>
                    <a:pt x="1906" y="12185"/>
                  </a:lnTo>
                  <a:lnTo>
                    <a:pt x="1896" y="12191"/>
                  </a:lnTo>
                  <a:lnTo>
                    <a:pt x="1886" y="12198"/>
                  </a:lnTo>
                  <a:lnTo>
                    <a:pt x="1876" y="12206"/>
                  </a:lnTo>
                  <a:lnTo>
                    <a:pt x="1867" y="12214"/>
                  </a:lnTo>
                  <a:lnTo>
                    <a:pt x="1858" y="12223"/>
                  </a:lnTo>
                  <a:lnTo>
                    <a:pt x="1850" y="12233"/>
                  </a:lnTo>
                  <a:lnTo>
                    <a:pt x="1841" y="12244"/>
                  </a:lnTo>
                  <a:lnTo>
                    <a:pt x="1834" y="12255"/>
                  </a:lnTo>
                  <a:lnTo>
                    <a:pt x="1826" y="12267"/>
                  </a:lnTo>
                  <a:lnTo>
                    <a:pt x="1820" y="12280"/>
                  </a:lnTo>
                  <a:lnTo>
                    <a:pt x="1814" y="12294"/>
                  </a:lnTo>
                  <a:lnTo>
                    <a:pt x="1809" y="12308"/>
                  </a:lnTo>
                  <a:lnTo>
                    <a:pt x="1804" y="12322"/>
                  </a:lnTo>
                  <a:lnTo>
                    <a:pt x="1800" y="12338"/>
                  </a:lnTo>
                  <a:lnTo>
                    <a:pt x="1797" y="12355"/>
                  </a:lnTo>
                  <a:lnTo>
                    <a:pt x="1794" y="12371"/>
                  </a:lnTo>
                  <a:lnTo>
                    <a:pt x="1792" y="12385"/>
                  </a:lnTo>
                  <a:lnTo>
                    <a:pt x="1790" y="12404"/>
                  </a:lnTo>
                  <a:lnTo>
                    <a:pt x="1789" y="12427"/>
                  </a:lnTo>
                  <a:lnTo>
                    <a:pt x="1788" y="12454"/>
                  </a:lnTo>
                  <a:lnTo>
                    <a:pt x="1787" y="12487"/>
                  </a:lnTo>
                  <a:lnTo>
                    <a:pt x="1787" y="12524"/>
                  </a:lnTo>
                  <a:lnTo>
                    <a:pt x="1786" y="12564"/>
                  </a:lnTo>
                  <a:lnTo>
                    <a:pt x="1786" y="12610"/>
                  </a:lnTo>
                  <a:lnTo>
                    <a:pt x="1786" y="12656"/>
                  </a:lnTo>
                  <a:lnTo>
                    <a:pt x="1785" y="12700"/>
                  </a:lnTo>
                  <a:lnTo>
                    <a:pt x="1784" y="12739"/>
                  </a:lnTo>
                  <a:lnTo>
                    <a:pt x="1782" y="12776"/>
                  </a:lnTo>
                  <a:lnTo>
                    <a:pt x="1779" y="12810"/>
                  </a:lnTo>
                  <a:lnTo>
                    <a:pt x="1777" y="12840"/>
                  </a:lnTo>
                  <a:lnTo>
                    <a:pt x="1774" y="12867"/>
                  </a:lnTo>
                  <a:lnTo>
                    <a:pt x="1771" y="12891"/>
                  </a:lnTo>
                  <a:lnTo>
                    <a:pt x="1766" y="12912"/>
                  </a:lnTo>
                  <a:lnTo>
                    <a:pt x="1762" y="12934"/>
                  </a:lnTo>
                  <a:lnTo>
                    <a:pt x="1755" y="12955"/>
                  </a:lnTo>
                  <a:lnTo>
                    <a:pt x="1749" y="12974"/>
                  </a:lnTo>
                  <a:lnTo>
                    <a:pt x="1742" y="12993"/>
                  </a:lnTo>
                  <a:lnTo>
                    <a:pt x="1734" y="13010"/>
                  </a:lnTo>
                  <a:lnTo>
                    <a:pt x="1725" y="13028"/>
                  </a:lnTo>
                  <a:lnTo>
                    <a:pt x="1715" y="13044"/>
                  </a:lnTo>
                  <a:lnTo>
                    <a:pt x="1704" y="13060"/>
                  </a:lnTo>
                  <a:lnTo>
                    <a:pt x="1692" y="13076"/>
                  </a:lnTo>
                  <a:lnTo>
                    <a:pt x="1679" y="13090"/>
                  </a:lnTo>
                  <a:lnTo>
                    <a:pt x="1666" y="13103"/>
                  </a:lnTo>
                  <a:lnTo>
                    <a:pt x="1652" y="13116"/>
                  </a:lnTo>
                  <a:lnTo>
                    <a:pt x="1637" y="13127"/>
                  </a:lnTo>
                  <a:lnTo>
                    <a:pt x="1620" y="13139"/>
                  </a:lnTo>
                  <a:lnTo>
                    <a:pt x="1603" y="13149"/>
                  </a:lnTo>
                  <a:lnTo>
                    <a:pt x="1588" y="13156"/>
                  </a:lnTo>
                  <a:lnTo>
                    <a:pt x="1571" y="13164"/>
                  </a:lnTo>
                  <a:lnTo>
                    <a:pt x="1556" y="13170"/>
                  </a:lnTo>
                  <a:lnTo>
                    <a:pt x="1540" y="13176"/>
                  </a:lnTo>
                  <a:lnTo>
                    <a:pt x="1525" y="13180"/>
                  </a:lnTo>
                  <a:lnTo>
                    <a:pt x="1508" y="13183"/>
                  </a:lnTo>
                  <a:lnTo>
                    <a:pt x="1492" y="13187"/>
                  </a:lnTo>
                  <a:lnTo>
                    <a:pt x="1476" y="13188"/>
                  </a:lnTo>
                  <a:lnTo>
                    <a:pt x="1459" y="13189"/>
                  </a:lnTo>
                  <a:lnTo>
                    <a:pt x="1442" y="13189"/>
                  </a:lnTo>
                  <a:lnTo>
                    <a:pt x="1426" y="13189"/>
                  </a:lnTo>
                  <a:lnTo>
                    <a:pt x="1408" y="13187"/>
                  </a:lnTo>
                  <a:lnTo>
                    <a:pt x="1392" y="13185"/>
                  </a:lnTo>
                  <a:lnTo>
                    <a:pt x="1374" y="13181"/>
                  </a:lnTo>
                  <a:lnTo>
                    <a:pt x="1357" y="13177"/>
                  </a:lnTo>
                  <a:lnTo>
                    <a:pt x="1339" y="13172"/>
                  </a:lnTo>
                  <a:lnTo>
                    <a:pt x="1322" y="13165"/>
                  </a:lnTo>
                  <a:lnTo>
                    <a:pt x="1305" y="13158"/>
                  </a:lnTo>
                  <a:lnTo>
                    <a:pt x="1288" y="13151"/>
                  </a:lnTo>
                  <a:lnTo>
                    <a:pt x="1272" y="13142"/>
                  </a:lnTo>
                  <a:lnTo>
                    <a:pt x="1257" y="13133"/>
                  </a:lnTo>
                  <a:lnTo>
                    <a:pt x="1241" y="13124"/>
                  </a:lnTo>
                  <a:lnTo>
                    <a:pt x="1227" y="13113"/>
                  </a:lnTo>
                  <a:lnTo>
                    <a:pt x="1213" y="13101"/>
                  </a:lnTo>
                  <a:lnTo>
                    <a:pt x="1199" y="13089"/>
                  </a:lnTo>
                  <a:lnTo>
                    <a:pt x="1186" y="13076"/>
                  </a:lnTo>
                  <a:lnTo>
                    <a:pt x="1174" y="13062"/>
                  </a:lnTo>
                  <a:lnTo>
                    <a:pt x="1161" y="13047"/>
                  </a:lnTo>
                  <a:lnTo>
                    <a:pt x="1150" y="13032"/>
                  </a:lnTo>
                  <a:lnTo>
                    <a:pt x="1138" y="13016"/>
                  </a:lnTo>
                  <a:lnTo>
                    <a:pt x="1127" y="12998"/>
                  </a:lnTo>
                  <a:lnTo>
                    <a:pt x="1117" y="12981"/>
                  </a:lnTo>
                  <a:lnTo>
                    <a:pt x="1105" y="12957"/>
                  </a:lnTo>
                  <a:lnTo>
                    <a:pt x="1094" y="12933"/>
                  </a:lnTo>
                  <a:lnTo>
                    <a:pt x="1085" y="12908"/>
                  </a:lnTo>
                  <a:lnTo>
                    <a:pt x="1076" y="12881"/>
                  </a:lnTo>
                  <a:lnTo>
                    <a:pt x="1069" y="12854"/>
                  </a:lnTo>
                  <a:lnTo>
                    <a:pt x="1063" y="12824"/>
                  </a:lnTo>
                  <a:lnTo>
                    <a:pt x="1059" y="12795"/>
                  </a:lnTo>
                  <a:lnTo>
                    <a:pt x="1055" y="12763"/>
                  </a:lnTo>
                  <a:lnTo>
                    <a:pt x="1052" y="12736"/>
                  </a:lnTo>
                  <a:lnTo>
                    <a:pt x="1049" y="12714"/>
                  </a:lnTo>
                  <a:lnTo>
                    <a:pt x="1044" y="12698"/>
                  </a:lnTo>
                  <a:lnTo>
                    <a:pt x="1039" y="12685"/>
                  </a:lnTo>
                  <a:lnTo>
                    <a:pt x="1032" y="12675"/>
                  </a:lnTo>
                  <a:lnTo>
                    <a:pt x="1025" y="12667"/>
                  </a:lnTo>
                  <a:lnTo>
                    <a:pt x="1016" y="12661"/>
                  </a:lnTo>
                  <a:lnTo>
                    <a:pt x="1006" y="12656"/>
                  </a:lnTo>
                  <a:lnTo>
                    <a:pt x="1001" y="12655"/>
                  </a:lnTo>
                  <a:lnTo>
                    <a:pt x="994" y="12654"/>
                  </a:lnTo>
                  <a:lnTo>
                    <a:pt x="987" y="12654"/>
                  </a:lnTo>
                  <a:lnTo>
                    <a:pt x="979" y="12655"/>
                  </a:lnTo>
                  <a:lnTo>
                    <a:pt x="962" y="12658"/>
                  </a:lnTo>
                  <a:lnTo>
                    <a:pt x="941" y="12663"/>
                  </a:lnTo>
                  <a:lnTo>
                    <a:pt x="923" y="12632"/>
                  </a:lnTo>
                  <a:close/>
                  <a:moveTo>
                    <a:pt x="1704" y="11548"/>
                  </a:moveTo>
                  <a:lnTo>
                    <a:pt x="1701" y="11537"/>
                  </a:lnTo>
                  <a:lnTo>
                    <a:pt x="1699" y="11527"/>
                  </a:lnTo>
                  <a:lnTo>
                    <a:pt x="1697" y="11516"/>
                  </a:lnTo>
                  <a:lnTo>
                    <a:pt x="1697" y="11507"/>
                  </a:lnTo>
                  <a:lnTo>
                    <a:pt x="1698" y="11496"/>
                  </a:lnTo>
                  <a:lnTo>
                    <a:pt x="1700" y="11486"/>
                  </a:lnTo>
                  <a:lnTo>
                    <a:pt x="1702" y="11476"/>
                  </a:lnTo>
                  <a:lnTo>
                    <a:pt x="1706" y="11466"/>
                  </a:lnTo>
                  <a:lnTo>
                    <a:pt x="1711" y="11456"/>
                  </a:lnTo>
                  <a:lnTo>
                    <a:pt x="1717" y="11448"/>
                  </a:lnTo>
                  <a:lnTo>
                    <a:pt x="1723" y="11439"/>
                  </a:lnTo>
                  <a:lnTo>
                    <a:pt x="1730" y="11431"/>
                  </a:lnTo>
                  <a:lnTo>
                    <a:pt x="1738" y="11425"/>
                  </a:lnTo>
                  <a:lnTo>
                    <a:pt x="1747" y="11419"/>
                  </a:lnTo>
                  <a:lnTo>
                    <a:pt x="1755" y="11414"/>
                  </a:lnTo>
                  <a:lnTo>
                    <a:pt x="1766" y="11410"/>
                  </a:lnTo>
                  <a:lnTo>
                    <a:pt x="1776" y="11406"/>
                  </a:lnTo>
                  <a:lnTo>
                    <a:pt x="1786" y="11404"/>
                  </a:lnTo>
                  <a:lnTo>
                    <a:pt x="1797" y="11403"/>
                  </a:lnTo>
                  <a:lnTo>
                    <a:pt x="1807" y="11403"/>
                  </a:lnTo>
                  <a:lnTo>
                    <a:pt x="1818" y="11403"/>
                  </a:lnTo>
                  <a:lnTo>
                    <a:pt x="1827" y="11405"/>
                  </a:lnTo>
                  <a:lnTo>
                    <a:pt x="1837" y="11409"/>
                  </a:lnTo>
                  <a:lnTo>
                    <a:pt x="1848" y="11412"/>
                  </a:lnTo>
                  <a:lnTo>
                    <a:pt x="1858" y="11417"/>
                  </a:lnTo>
                  <a:lnTo>
                    <a:pt x="1867" y="11423"/>
                  </a:lnTo>
                  <a:lnTo>
                    <a:pt x="1874" y="11429"/>
                  </a:lnTo>
                  <a:lnTo>
                    <a:pt x="1882" y="11436"/>
                  </a:lnTo>
                  <a:lnTo>
                    <a:pt x="1888" y="11443"/>
                  </a:lnTo>
                  <a:lnTo>
                    <a:pt x="1895" y="11452"/>
                  </a:lnTo>
                  <a:lnTo>
                    <a:pt x="1899" y="11462"/>
                  </a:lnTo>
                  <a:lnTo>
                    <a:pt x="1904" y="11472"/>
                  </a:lnTo>
                  <a:lnTo>
                    <a:pt x="1907" y="11482"/>
                  </a:lnTo>
                  <a:lnTo>
                    <a:pt x="1910" y="11492"/>
                  </a:lnTo>
                  <a:lnTo>
                    <a:pt x="1911" y="11502"/>
                  </a:lnTo>
                  <a:lnTo>
                    <a:pt x="1911" y="11513"/>
                  </a:lnTo>
                  <a:lnTo>
                    <a:pt x="1910" y="11523"/>
                  </a:lnTo>
                  <a:lnTo>
                    <a:pt x="1909" y="11533"/>
                  </a:lnTo>
                  <a:lnTo>
                    <a:pt x="1906" y="11544"/>
                  </a:lnTo>
                  <a:lnTo>
                    <a:pt x="1901" y="11553"/>
                  </a:lnTo>
                  <a:lnTo>
                    <a:pt x="1897" y="11563"/>
                  </a:lnTo>
                  <a:lnTo>
                    <a:pt x="1892" y="11572"/>
                  </a:lnTo>
                  <a:lnTo>
                    <a:pt x="1885" y="11580"/>
                  </a:lnTo>
                  <a:lnTo>
                    <a:pt x="1877" y="11587"/>
                  </a:lnTo>
                  <a:lnTo>
                    <a:pt x="1870" y="11594"/>
                  </a:lnTo>
                  <a:lnTo>
                    <a:pt x="1861" y="11600"/>
                  </a:lnTo>
                  <a:lnTo>
                    <a:pt x="1852" y="11605"/>
                  </a:lnTo>
                  <a:lnTo>
                    <a:pt x="1843" y="11609"/>
                  </a:lnTo>
                  <a:lnTo>
                    <a:pt x="1832" y="11613"/>
                  </a:lnTo>
                  <a:lnTo>
                    <a:pt x="1822" y="11615"/>
                  </a:lnTo>
                  <a:lnTo>
                    <a:pt x="1811" y="11617"/>
                  </a:lnTo>
                  <a:lnTo>
                    <a:pt x="1801" y="11617"/>
                  </a:lnTo>
                  <a:lnTo>
                    <a:pt x="1790" y="11617"/>
                  </a:lnTo>
                  <a:lnTo>
                    <a:pt x="1781" y="11614"/>
                  </a:lnTo>
                  <a:lnTo>
                    <a:pt x="1770" y="11611"/>
                  </a:lnTo>
                  <a:lnTo>
                    <a:pt x="1760" y="11608"/>
                  </a:lnTo>
                  <a:lnTo>
                    <a:pt x="1750" y="11602"/>
                  </a:lnTo>
                  <a:lnTo>
                    <a:pt x="1741" y="11597"/>
                  </a:lnTo>
                  <a:lnTo>
                    <a:pt x="1734" y="11590"/>
                  </a:lnTo>
                  <a:lnTo>
                    <a:pt x="1726" y="11584"/>
                  </a:lnTo>
                  <a:lnTo>
                    <a:pt x="1720" y="11576"/>
                  </a:lnTo>
                  <a:lnTo>
                    <a:pt x="1714" y="11568"/>
                  </a:lnTo>
                  <a:lnTo>
                    <a:pt x="1709" y="11558"/>
                  </a:lnTo>
                  <a:lnTo>
                    <a:pt x="1704" y="11548"/>
                  </a:lnTo>
                  <a:close/>
                  <a:moveTo>
                    <a:pt x="756" y="9925"/>
                  </a:moveTo>
                  <a:lnTo>
                    <a:pt x="758" y="9892"/>
                  </a:lnTo>
                  <a:lnTo>
                    <a:pt x="761" y="9859"/>
                  </a:lnTo>
                  <a:lnTo>
                    <a:pt x="766" y="9830"/>
                  </a:lnTo>
                  <a:lnTo>
                    <a:pt x="772" y="9801"/>
                  </a:lnTo>
                  <a:lnTo>
                    <a:pt x="780" y="9775"/>
                  </a:lnTo>
                  <a:lnTo>
                    <a:pt x="788" y="9751"/>
                  </a:lnTo>
                  <a:lnTo>
                    <a:pt x="799" y="9729"/>
                  </a:lnTo>
                  <a:lnTo>
                    <a:pt x="811" y="9709"/>
                  </a:lnTo>
                  <a:lnTo>
                    <a:pt x="820" y="9696"/>
                  </a:lnTo>
                  <a:lnTo>
                    <a:pt x="830" y="9683"/>
                  </a:lnTo>
                  <a:lnTo>
                    <a:pt x="840" y="9672"/>
                  </a:lnTo>
                  <a:lnTo>
                    <a:pt x="851" y="9661"/>
                  </a:lnTo>
                  <a:lnTo>
                    <a:pt x="861" y="9650"/>
                  </a:lnTo>
                  <a:lnTo>
                    <a:pt x="872" y="9640"/>
                  </a:lnTo>
                  <a:lnTo>
                    <a:pt x="884" y="9631"/>
                  </a:lnTo>
                  <a:lnTo>
                    <a:pt x="896" y="9623"/>
                  </a:lnTo>
                  <a:lnTo>
                    <a:pt x="908" y="9615"/>
                  </a:lnTo>
                  <a:lnTo>
                    <a:pt x="921" y="9607"/>
                  </a:lnTo>
                  <a:lnTo>
                    <a:pt x="934" y="9601"/>
                  </a:lnTo>
                  <a:lnTo>
                    <a:pt x="949" y="9596"/>
                  </a:lnTo>
                  <a:lnTo>
                    <a:pt x="963" y="9590"/>
                  </a:lnTo>
                  <a:lnTo>
                    <a:pt x="978" y="9586"/>
                  </a:lnTo>
                  <a:lnTo>
                    <a:pt x="993" y="9582"/>
                  </a:lnTo>
                  <a:lnTo>
                    <a:pt x="1008" y="9579"/>
                  </a:lnTo>
                  <a:lnTo>
                    <a:pt x="1032" y="9576"/>
                  </a:lnTo>
                  <a:lnTo>
                    <a:pt x="1056" y="9575"/>
                  </a:lnTo>
                  <a:lnTo>
                    <a:pt x="1080" y="9575"/>
                  </a:lnTo>
                  <a:lnTo>
                    <a:pt x="1104" y="9578"/>
                  </a:lnTo>
                  <a:lnTo>
                    <a:pt x="1129" y="9582"/>
                  </a:lnTo>
                  <a:lnTo>
                    <a:pt x="1153" y="9589"/>
                  </a:lnTo>
                  <a:lnTo>
                    <a:pt x="1178" y="9598"/>
                  </a:lnTo>
                  <a:lnTo>
                    <a:pt x="1202" y="9607"/>
                  </a:lnTo>
                  <a:lnTo>
                    <a:pt x="1226" y="9619"/>
                  </a:lnTo>
                  <a:lnTo>
                    <a:pt x="1249" y="9634"/>
                  </a:lnTo>
                  <a:lnTo>
                    <a:pt x="1271" y="9649"/>
                  </a:lnTo>
                  <a:lnTo>
                    <a:pt x="1290" y="9666"/>
                  </a:lnTo>
                  <a:lnTo>
                    <a:pt x="1310" y="9685"/>
                  </a:lnTo>
                  <a:lnTo>
                    <a:pt x="1327" y="9705"/>
                  </a:lnTo>
                  <a:lnTo>
                    <a:pt x="1344" y="9727"/>
                  </a:lnTo>
                  <a:lnTo>
                    <a:pt x="1359" y="9751"/>
                  </a:lnTo>
                  <a:lnTo>
                    <a:pt x="1374" y="9778"/>
                  </a:lnTo>
                  <a:lnTo>
                    <a:pt x="1387" y="9808"/>
                  </a:lnTo>
                  <a:lnTo>
                    <a:pt x="1400" y="9842"/>
                  </a:lnTo>
                  <a:lnTo>
                    <a:pt x="1414" y="9880"/>
                  </a:lnTo>
                  <a:lnTo>
                    <a:pt x="1426" y="9921"/>
                  </a:lnTo>
                  <a:lnTo>
                    <a:pt x="1436" y="9966"/>
                  </a:lnTo>
                  <a:lnTo>
                    <a:pt x="1447" y="10015"/>
                  </a:lnTo>
                  <a:lnTo>
                    <a:pt x="1457" y="10067"/>
                  </a:lnTo>
                  <a:lnTo>
                    <a:pt x="1564" y="10674"/>
                  </a:lnTo>
                  <a:lnTo>
                    <a:pt x="1529" y="10680"/>
                  </a:lnTo>
                  <a:lnTo>
                    <a:pt x="1520" y="10631"/>
                  </a:lnTo>
                  <a:lnTo>
                    <a:pt x="1516" y="10613"/>
                  </a:lnTo>
                  <a:lnTo>
                    <a:pt x="1510" y="10594"/>
                  </a:lnTo>
                  <a:lnTo>
                    <a:pt x="1504" y="10579"/>
                  </a:lnTo>
                  <a:lnTo>
                    <a:pt x="1495" y="10565"/>
                  </a:lnTo>
                  <a:lnTo>
                    <a:pt x="1485" y="10552"/>
                  </a:lnTo>
                  <a:lnTo>
                    <a:pt x="1475" y="10542"/>
                  </a:lnTo>
                  <a:lnTo>
                    <a:pt x="1463" y="10532"/>
                  </a:lnTo>
                  <a:lnTo>
                    <a:pt x="1448" y="10525"/>
                  </a:lnTo>
                  <a:lnTo>
                    <a:pt x="1439" y="10521"/>
                  </a:lnTo>
                  <a:lnTo>
                    <a:pt x="1426" y="10519"/>
                  </a:lnTo>
                  <a:lnTo>
                    <a:pt x="1411" y="10518"/>
                  </a:lnTo>
                  <a:lnTo>
                    <a:pt x="1394" y="10518"/>
                  </a:lnTo>
                  <a:lnTo>
                    <a:pt x="1374" y="10519"/>
                  </a:lnTo>
                  <a:lnTo>
                    <a:pt x="1354" y="10521"/>
                  </a:lnTo>
                  <a:lnTo>
                    <a:pt x="1330" y="10523"/>
                  </a:lnTo>
                  <a:lnTo>
                    <a:pt x="1304" y="10528"/>
                  </a:lnTo>
                  <a:lnTo>
                    <a:pt x="473" y="10675"/>
                  </a:lnTo>
                  <a:lnTo>
                    <a:pt x="444" y="10680"/>
                  </a:lnTo>
                  <a:lnTo>
                    <a:pt x="419" y="10686"/>
                  </a:lnTo>
                  <a:lnTo>
                    <a:pt x="396" y="10692"/>
                  </a:lnTo>
                  <a:lnTo>
                    <a:pt x="377" y="10699"/>
                  </a:lnTo>
                  <a:lnTo>
                    <a:pt x="360" y="10705"/>
                  </a:lnTo>
                  <a:lnTo>
                    <a:pt x="346" y="10713"/>
                  </a:lnTo>
                  <a:lnTo>
                    <a:pt x="335" y="10720"/>
                  </a:lnTo>
                  <a:lnTo>
                    <a:pt x="328" y="10728"/>
                  </a:lnTo>
                  <a:lnTo>
                    <a:pt x="319" y="10740"/>
                  </a:lnTo>
                  <a:lnTo>
                    <a:pt x="313" y="10752"/>
                  </a:lnTo>
                  <a:lnTo>
                    <a:pt x="308" y="10766"/>
                  </a:lnTo>
                  <a:lnTo>
                    <a:pt x="304" y="10780"/>
                  </a:lnTo>
                  <a:lnTo>
                    <a:pt x="302" y="10795"/>
                  </a:lnTo>
                  <a:lnTo>
                    <a:pt x="302" y="10811"/>
                  </a:lnTo>
                  <a:lnTo>
                    <a:pt x="303" y="10828"/>
                  </a:lnTo>
                  <a:lnTo>
                    <a:pt x="305" y="10846"/>
                  </a:lnTo>
                  <a:lnTo>
                    <a:pt x="314" y="10893"/>
                  </a:lnTo>
                  <a:lnTo>
                    <a:pt x="279" y="10900"/>
                  </a:lnTo>
                  <a:lnTo>
                    <a:pt x="181" y="10345"/>
                  </a:lnTo>
                  <a:lnTo>
                    <a:pt x="174" y="10307"/>
                  </a:lnTo>
                  <a:lnTo>
                    <a:pt x="169" y="10271"/>
                  </a:lnTo>
                  <a:lnTo>
                    <a:pt x="164" y="10236"/>
                  </a:lnTo>
                  <a:lnTo>
                    <a:pt x="161" y="10203"/>
                  </a:lnTo>
                  <a:lnTo>
                    <a:pt x="159" y="10173"/>
                  </a:lnTo>
                  <a:lnTo>
                    <a:pt x="158" y="10144"/>
                  </a:lnTo>
                  <a:lnTo>
                    <a:pt x="158" y="10117"/>
                  </a:lnTo>
                  <a:lnTo>
                    <a:pt x="159" y="10091"/>
                  </a:lnTo>
                  <a:lnTo>
                    <a:pt x="161" y="10074"/>
                  </a:lnTo>
                  <a:lnTo>
                    <a:pt x="162" y="10055"/>
                  </a:lnTo>
                  <a:lnTo>
                    <a:pt x="164" y="10038"/>
                  </a:lnTo>
                  <a:lnTo>
                    <a:pt x="168" y="10021"/>
                  </a:lnTo>
                  <a:lnTo>
                    <a:pt x="171" y="10005"/>
                  </a:lnTo>
                  <a:lnTo>
                    <a:pt x="175" y="9989"/>
                  </a:lnTo>
                  <a:lnTo>
                    <a:pt x="180" y="9973"/>
                  </a:lnTo>
                  <a:lnTo>
                    <a:pt x="184" y="9958"/>
                  </a:lnTo>
                  <a:lnTo>
                    <a:pt x="189" y="9943"/>
                  </a:lnTo>
                  <a:lnTo>
                    <a:pt x="196" y="9929"/>
                  </a:lnTo>
                  <a:lnTo>
                    <a:pt x="203" y="9915"/>
                  </a:lnTo>
                  <a:lnTo>
                    <a:pt x="209" y="9901"/>
                  </a:lnTo>
                  <a:lnTo>
                    <a:pt x="217" y="9888"/>
                  </a:lnTo>
                  <a:lnTo>
                    <a:pt x="224" y="9876"/>
                  </a:lnTo>
                  <a:lnTo>
                    <a:pt x="233" y="9864"/>
                  </a:lnTo>
                  <a:lnTo>
                    <a:pt x="242" y="9852"/>
                  </a:lnTo>
                  <a:lnTo>
                    <a:pt x="252" y="9842"/>
                  </a:lnTo>
                  <a:lnTo>
                    <a:pt x="261" y="9832"/>
                  </a:lnTo>
                  <a:lnTo>
                    <a:pt x="271" y="9822"/>
                  </a:lnTo>
                  <a:lnTo>
                    <a:pt x="281" y="9812"/>
                  </a:lnTo>
                  <a:lnTo>
                    <a:pt x="292" y="9803"/>
                  </a:lnTo>
                  <a:lnTo>
                    <a:pt x="303" y="9796"/>
                  </a:lnTo>
                  <a:lnTo>
                    <a:pt x="314" y="9788"/>
                  </a:lnTo>
                  <a:lnTo>
                    <a:pt x="326" y="9781"/>
                  </a:lnTo>
                  <a:lnTo>
                    <a:pt x="337" y="9774"/>
                  </a:lnTo>
                  <a:lnTo>
                    <a:pt x="350" y="9768"/>
                  </a:lnTo>
                  <a:lnTo>
                    <a:pt x="362" y="9762"/>
                  </a:lnTo>
                  <a:lnTo>
                    <a:pt x="375" y="9758"/>
                  </a:lnTo>
                  <a:lnTo>
                    <a:pt x="388" y="9753"/>
                  </a:lnTo>
                  <a:lnTo>
                    <a:pt x="401" y="9749"/>
                  </a:lnTo>
                  <a:lnTo>
                    <a:pt x="414" y="9746"/>
                  </a:lnTo>
                  <a:lnTo>
                    <a:pt x="428" y="9744"/>
                  </a:lnTo>
                  <a:lnTo>
                    <a:pt x="452" y="9740"/>
                  </a:lnTo>
                  <a:lnTo>
                    <a:pt x="476" y="9738"/>
                  </a:lnTo>
                  <a:lnTo>
                    <a:pt x="499" y="9739"/>
                  </a:lnTo>
                  <a:lnTo>
                    <a:pt x="523" y="9741"/>
                  </a:lnTo>
                  <a:lnTo>
                    <a:pt x="546" y="9746"/>
                  </a:lnTo>
                  <a:lnTo>
                    <a:pt x="567" y="9752"/>
                  </a:lnTo>
                  <a:lnTo>
                    <a:pt x="590" y="9761"/>
                  </a:lnTo>
                  <a:lnTo>
                    <a:pt x="612" y="9771"/>
                  </a:lnTo>
                  <a:lnTo>
                    <a:pt x="633" y="9784"/>
                  </a:lnTo>
                  <a:lnTo>
                    <a:pt x="653" y="9798"/>
                  </a:lnTo>
                  <a:lnTo>
                    <a:pt x="672" y="9814"/>
                  </a:lnTo>
                  <a:lnTo>
                    <a:pt x="690" y="9832"/>
                  </a:lnTo>
                  <a:lnTo>
                    <a:pt x="708" y="9852"/>
                  </a:lnTo>
                  <a:lnTo>
                    <a:pt x="725" y="9874"/>
                  </a:lnTo>
                  <a:lnTo>
                    <a:pt x="741" y="9899"/>
                  </a:lnTo>
                  <a:lnTo>
                    <a:pt x="756" y="9925"/>
                  </a:lnTo>
                  <a:close/>
                  <a:moveTo>
                    <a:pt x="792" y="10431"/>
                  </a:moveTo>
                  <a:lnTo>
                    <a:pt x="792" y="10412"/>
                  </a:lnTo>
                  <a:lnTo>
                    <a:pt x="791" y="10392"/>
                  </a:lnTo>
                  <a:lnTo>
                    <a:pt x="790" y="10371"/>
                  </a:lnTo>
                  <a:lnTo>
                    <a:pt x="787" y="10349"/>
                  </a:lnTo>
                  <a:lnTo>
                    <a:pt x="785" y="10325"/>
                  </a:lnTo>
                  <a:lnTo>
                    <a:pt x="782" y="10301"/>
                  </a:lnTo>
                  <a:lnTo>
                    <a:pt x="778" y="10275"/>
                  </a:lnTo>
                  <a:lnTo>
                    <a:pt x="773" y="10249"/>
                  </a:lnTo>
                  <a:lnTo>
                    <a:pt x="767" y="10215"/>
                  </a:lnTo>
                  <a:lnTo>
                    <a:pt x="760" y="10185"/>
                  </a:lnTo>
                  <a:lnTo>
                    <a:pt x="752" y="10155"/>
                  </a:lnTo>
                  <a:lnTo>
                    <a:pt x="745" y="10129"/>
                  </a:lnTo>
                  <a:lnTo>
                    <a:pt x="736" y="10105"/>
                  </a:lnTo>
                  <a:lnTo>
                    <a:pt x="726" y="10083"/>
                  </a:lnTo>
                  <a:lnTo>
                    <a:pt x="718" y="10064"/>
                  </a:lnTo>
                  <a:lnTo>
                    <a:pt x="707" y="10046"/>
                  </a:lnTo>
                  <a:lnTo>
                    <a:pt x="696" y="10031"/>
                  </a:lnTo>
                  <a:lnTo>
                    <a:pt x="684" y="10017"/>
                  </a:lnTo>
                  <a:lnTo>
                    <a:pt x="672" y="10003"/>
                  </a:lnTo>
                  <a:lnTo>
                    <a:pt x="658" y="9991"/>
                  </a:lnTo>
                  <a:lnTo>
                    <a:pt x="644" y="9981"/>
                  </a:lnTo>
                  <a:lnTo>
                    <a:pt x="629" y="9971"/>
                  </a:lnTo>
                  <a:lnTo>
                    <a:pt x="613" y="9962"/>
                  </a:lnTo>
                  <a:lnTo>
                    <a:pt x="597" y="9956"/>
                  </a:lnTo>
                  <a:lnTo>
                    <a:pt x="579" y="9949"/>
                  </a:lnTo>
                  <a:lnTo>
                    <a:pt x="562" y="9945"/>
                  </a:lnTo>
                  <a:lnTo>
                    <a:pt x="545" y="9942"/>
                  </a:lnTo>
                  <a:lnTo>
                    <a:pt x="527" y="9940"/>
                  </a:lnTo>
                  <a:lnTo>
                    <a:pt x="510" y="9939"/>
                  </a:lnTo>
                  <a:lnTo>
                    <a:pt x="492" y="9939"/>
                  </a:lnTo>
                  <a:lnTo>
                    <a:pt x="474" y="9940"/>
                  </a:lnTo>
                  <a:lnTo>
                    <a:pt x="455" y="9943"/>
                  </a:lnTo>
                  <a:lnTo>
                    <a:pt x="441" y="9945"/>
                  </a:lnTo>
                  <a:lnTo>
                    <a:pt x="428" y="9948"/>
                  </a:lnTo>
                  <a:lnTo>
                    <a:pt x="415" y="9953"/>
                  </a:lnTo>
                  <a:lnTo>
                    <a:pt x="402" y="9958"/>
                  </a:lnTo>
                  <a:lnTo>
                    <a:pt x="390" y="9964"/>
                  </a:lnTo>
                  <a:lnTo>
                    <a:pt x="378" y="9969"/>
                  </a:lnTo>
                  <a:lnTo>
                    <a:pt x="366" y="9977"/>
                  </a:lnTo>
                  <a:lnTo>
                    <a:pt x="355" y="9984"/>
                  </a:lnTo>
                  <a:lnTo>
                    <a:pt x="344" y="9992"/>
                  </a:lnTo>
                  <a:lnTo>
                    <a:pt x="334" y="10001"/>
                  </a:lnTo>
                  <a:lnTo>
                    <a:pt x="323" y="10010"/>
                  </a:lnTo>
                  <a:lnTo>
                    <a:pt x="315" y="10021"/>
                  </a:lnTo>
                  <a:lnTo>
                    <a:pt x="305" y="10032"/>
                  </a:lnTo>
                  <a:lnTo>
                    <a:pt x="296" y="10043"/>
                  </a:lnTo>
                  <a:lnTo>
                    <a:pt x="287" y="10055"/>
                  </a:lnTo>
                  <a:lnTo>
                    <a:pt x="280" y="10068"/>
                  </a:lnTo>
                  <a:lnTo>
                    <a:pt x="272" y="10082"/>
                  </a:lnTo>
                  <a:lnTo>
                    <a:pt x="265" y="10096"/>
                  </a:lnTo>
                  <a:lnTo>
                    <a:pt x="259" y="10111"/>
                  </a:lnTo>
                  <a:lnTo>
                    <a:pt x="254" y="10126"/>
                  </a:lnTo>
                  <a:lnTo>
                    <a:pt x="249" y="10141"/>
                  </a:lnTo>
                  <a:lnTo>
                    <a:pt x="245" y="10157"/>
                  </a:lnTo>
                  <a:lnTo>
                    <a:pt x="242" y="10175"/>
                  </a:lnTo>
                  <a:lnTo>
                    <a:pt x="240" y="10192"/>
                  </a:lnTo>
                  <a:lnTo>
                    <a:pt x="238" y="10210"/>
                  </a:lnTo>
                  <a:lnTo>
                    <a:pt x="237" y="10228"/>
                  </a:lnTo>
                  <a:lnTo>
                    <a:pt x="237" y="10248"/>
                  </a:lnTo>
                  <a:lnTo>
                    <a:pt x="237" y="10267"/>
                  </a:lnTo>
                  <a:lnTo>
                    <a:pt x="238" y="10287"/>
                  </a:lnTo>
                  <a:lnTo>
                    <a:pt x="241" y="10308"/>
                  </a:lnTo>
                  <a:lnTo>
                    <a:pt x="244" y="10328"/>
                  </a:lnTo>
                  <a:lnTo>
                    <a:pt x="247" y="10350"/>
                  </a:lnTo>
                  <a:lnTo>
                    <a:pt x="252" y="10374"/>
                  </a:lnTo>
                  <a:lnTo>
                    <a:pt x="257" y="10397"/>
                  </a:lnTo>
                  <a:lnTo>
                    <a:pt x="262" y="10419"/>
                  </a:lnTo>
                  <a:lnTo>
                    <a:pt x="268" y="10439"/>
                  </a:lnTo>
                  <a:lnTo>
                    <a:pt x="274" y="10460"/>
                  </a:lnTo>
                  <a:lnTo>
                    <a:pt x="282" y="10480"/>
                  </a:lnTo>
                  <a:lnTo>
                    <a:pt x="290" y="10499"/>
                  </a:lnTo>
                  <a:lnTo>
                    <a:pt x="298" y="10518"/>
                  </a:lnTo>
                  <a:lnTo>
                    <a:pt x="792" y="10431"/>
                  </a:lnTo>
                  <a:close/>
                  <a:moveTo>
                    <a:pt x="1406" y="10322"/>
                  </a:moveTo>
                  <a:lnTo>
                    <a:pt x="1407" y="10294"/>
                  </a:lnTo>
                  <a:lnTo>
                    <a:pt x="1408" y="10265"/>
                  </a:lnTo>
                  <a:lnTo>
                    <a:pt x="1407" y="10237"/>
                  </a:lnTo>
                  <a:lnTo>
                    <a:pt x="1406" y="10210"/>
                  </a:lnTo>
                  <a:lnTo>
                    <a:pt x="1404" y="10182"/>
                  </a:lnTo>
                  <a:lnTo>
                    <a:pt x="1402" y="10154"/>
                  </a:lnTo>
                  <a:lnTo>
                    <a:pt x="1398" y="10128"/>
                  </a:lnTo>
                  <a:lnTo>
                    <a:pt x="1394" y="10101"/>
                  </a:lnTo>
                  <a:lnTo>
                    <a:pt x="1390" y="10080"/>
                  </a:lnTo>
                  <a:lnTo>
                    <a:pt x="1385" y="10059"/>
                  </a:lnTo>
                  <a:lnTo>
                    <a:pt x="1380" y="10040"/>
                  </a:lnTo>
                  <a:lnTo>
                    <a:pt x="1374" y="10021"/>
                  </a:lnTo>
                  <a:lnTo>
                    <a:pt x="1369" y="10003"/>
                  </a:lnTo>
                  <a:lnTo>
                    <a:pt x="1362" y="9985"/>
                  </a:lnTo>
                  <a:lnTo>
                    <a:pt x="1355" y="9969"/>
                  </a:lnTo>
                  <a:lnTo>
                    <a:pt x="1347" y="9953"/>
                  </a:lnTo>
                  <a:lnTo>
                    <a:pt x="1339" y="9937"/>
                  </a:lnTo>
                  <a:lnTo>
                    <a:pt x="1331" y="9923"/>
                  </a:lnTo>
                  <a:lnTo>
                    <a:pt x="1322" y="9910"/>
                  </a:lnTo>
                  <a:lnTo>
                    <a:pt x="1312" y="9897"/>
                  </a:lnTo>
                  <a:lnTo>
                    <a:pt x="1302" y="9885"/>
                  </a:lnTo>
                  <a:lnTo>
                    <a:pt x="1293" y="9873"/>
                  </a:lnTo>
                  <a:lnTo>
                    <a:pt x="1282" y="9862"/>
                  </a:lnTo>
                  <a:lnTo>
                    <a:pt x="1270" y="9852"/>
                  </a:lnTo>
                  <a:lnTo>
                    <a:pt x="1258" y="9844"/>
                  </a:lnTo>
                  <a:lnTo>
                    <a:pt x="1247" y="9835"/>
                  </a:lnTo>
                  <a:lnTo>
                    <a:pt x="1234" y="9827"/>
                  </a:lnTo>
                  <a:lnTo>
                    <a:pt x="1222" y="9821"/>
                  </a:lnTo>
                  <a:lnTo>
                    <a:pt x="1210" y="9814"/>
                  </a:lnTo>
                  <a:lnTo>
                    <a:pt x="1197" y="9809"/>
                  </a:lnTo>
                  <a:lnTo>
                    <a:pt x="1185" y="9805"/>
                  </a:lnTo>
                  <a:lnTo>
                    <a:pt x="1172" y="9800"/>
                  </a:lnTo>
                  <a:lnTo>
                    <a:pt x="1159" y="9797"/>
                  </a:lnTo>
                  <a:lnTo>
                    <a:pt x="1146" y="9795"/>
                  </a:lnTo>
                  <a:lnTo>
                    <a:pt x="1133" y="9794"/>
                  </a:lnTo>
                  <a:lnTo>
                    <a:pt x="1118" y="9793"/>
                  </a:lnTo>
                  <a:lnTo>
                    <a:pt x="1105" y="9793"/>
                  </a:lnTo>
                  <a:lnTo>
                    <a:pt x="1091" y="9793"/>
                  </a:lnTo>
                  <a:lnTo>
                    <a:pt x="1077" y="9794"/>
                  </a:lnTo>
                  <a:lnTo>
                    <a:pt x="1063" y="9796"/>
                  </a:lnTo>
                  <a:lnTo>
                    <a:pt x="1044" y="9800"/>
                  </a:lnTo>
                  <a:lnTo>
                    <a:pt x="1027" y="9806"/>
                  </a:lnTo>
                  <a:lnTo>
                    <a:pt x="1008" y="9812"/>
                  </a:lnTo>
                  <a:lnTo>
                    <a:pt x="992" y="9820"/>
                  </a:lnTo>
                  <a:lnTo>
                    <a:pt x="975" y="9829"/>
                  </a:lnTo>
                  <a:lnTo>
                    <a:pt x="958" y="9838"/>
                  </a:lnTo>
                  <a:lnTo>
                    <a:pt x="942" y="9850"/>
                  </a:lnTo>
                  <a:lnTo>
                    <a:pt x="927" y="9862"/>
                  </a:lnTo>
                  <a:lnTo>
                    <a:pt x="911" y="9876"/>
                  </a:lnTo>
                  <a:lnTo>
                    <a:pt x="897" y="9892"/>
                  </a:lnTo>
                  <a:lnTo>
                    <a:pt x="885" y="9909"/>
                  </a:lnTo>
                  <a:lnTo>
                    <a:pt x="873" y="9927"/>
                  </a:lnTo>
                  <a:lnTo>
                    <a:pt x="864" y="9946"/>
                  </a:lnTo>
                  <a:lnTo>
                    <a:pt x="855" y="9968"/>
                  </a:lnTo>
                  <a:lnTo>
                    <a:pt x="847" y="9991"/>
                  </a:lnTo>
                  <a:lnTo>
                    <a:pt x="841" y="10015"/>
                  </a:lnTo>
                  <a:lnTo>
                    <a:pt x="835" y="10040"/>
                  </a:lnTo>
                  <a:lnTo>
                    <a:pt x="832" y="10066"/>
                  </a:lnTo>
                  <a:lnTo>
                    <a:pt x="830" y="10093"/>
                  </a:lnTo>
                  <a:lnTo>
                    <a:pt x="829" y="10123"/>
                  </a:lnTo>
                  <a:lnTo>
                    <a:pt x="830" y="10152"/>
                  </a:lnTo>
                  <a:lnTo>
                    <a:pt x="832" y="10184"/>
                  </a:lnTo>
                  <a:lnTo>
                    <a:pt x="835" y="10215"/>
                  </a:lnTo>
                  <a:lnTo>
                    <a:pt x="841" y="10249"/>
                  </a:lnTo>
                  <a:lnTo>
                    <a:pt x="846" y="10277"/>
                  </a:lnTo>
                  <a:lnTo>
                    <a:pt x="852" y="10303"/>
                  </a:lnTo>
                  <a:lnTo>
                    <a:pt x="856" y="10327"/>
                  </a:lnTo>
                  <a:lnTo>
                    <a:pt x="860" y="10349"/>
                  </a:lnTo>
                  <a:lnTo>
                    <a:pt x="865" y="10369"/>
                  </a:lnTo>
                  <a:lnTo>
                    <a:pt x="870" y="10386"/>
                  </a:lnTo>
                  <a:lnTo>
                    <a:pt x="874" y="10401"/>
                  </a:lnTo>
                  <a:lnTo>
                    <a:pt x="879" y="10415"/>
                  </a:lnTo>
                  <a:lnTo>
                    <a:pt x="1406" y="10322"/>
                  </a:lnTo>
                  <a:close/>
                  <a:moveTo>
                    <a:pt x="69" y="8323"/>
                  </a:moveTo>
                  <a:lnTo>
                    <a:pt x="33" y="8321"/>
                  </a:lnTo>
                  <a:lnTo>
                    <a:pt x="49" y="7859"/>
                  </a:lnTo>
                  <a:lnTo>
                    <a:pt x="84" y="7860"/>
                  </a:lnTo>
                  <a:lnTo>
                    <a:pt x="83" y="7910"/>
                  </a:lnTo>
                  <a:lnTo>
                    <a:pt x="83" y="7928"/>
                  </a:lnTo>
                  <a:lnTo>
                    <a:pt x="85" y="7946"/>
                  </a:lnTo>
                  <a:lnTo>
                    <a:pt x="87" y="7955"/>
                  </a:lnTo>
                  <a:lnTo>
                    <a:pt x="89" y="7962"/>
                  </a:lnTo>
                  <a:lnTo>
                    <a:pt x="93" y="7971"/>
                  </a:lnTo>
                  <a:lnTo>
                    <a:pt x="96" y="7978"/>
                  </a:lnTo>
                  <a:lnTo>
                    <a:pt x="100" y="7985"/>
                  </a:lnTo>
                  <a:lnTo>
                    <a:pt x="105" y="7993"/>
                  </a:lnTo>
                  <a:lnTo>
                    <a:pt x="110" y="7999"/>
                  </a:lnTo>
                  <a:lnTo>
                    <a:pt x="115" y="8006"/>
                  </a:lnTo>
                  <a:lnTo>
                    <a:pt x="122" y="8012"/>
                  </a:lnTo>
                  <a:lnTo>
                    <a:pt x="129" y="8019"/>
                  </a:lnTo>
                  <a:lnTo>
                    <a:pt x="135" y="8024"/>
                  </a:lnTo>
                  <a:lnTo>
                    <a:pt x="143" y="8030"/>
                  </a:lnTo>
                  <a:lnTo>
                    <a:pt x="151" y="8035"/>
                  </a:lnTo>
                  <a:lnTo>
                    <a:pt x="162" y="8039"/>
                  </a:lnTo>
                  <a:lnTo>
                    <a:pt x="176" y="8044"/>
                  </a:lnTo>
                  <a:lnTo>
                    <a:pt x="192" y="8047"/>
                  </a:lnTo>
                  <a:lnTo>
                    <a:pt x="210" y="8050"/>
                  </a:lnTo>
                  <a:lnTo>
                    <a:pt x="231" y="8053"/>
                  </a:lnTo>
                  <a:lnTo>
                    <a:pt x="255" y="8054"/>
                  </a:lnTo>
                  <a:lnTo>
                    <a:pt x="281" y="8055"/>
                  </a:lnTo>
                  <a:lnTo>
                    <a:pt x="810" y="8073"/>
                  </a:lnTo>
                  <a:lnTo>
                    <a:pt x="857" y="8075"/>
                  </a:lnTo>
                  <a:lnTo>
                    <a:pt x="903" y="8080"/>
                  </a:lnTo>
                  <a:lnTo>
                    <a:pt x="944" y="8084"/>
                  </a:lnTo>
                  <a:lnTo>
                    <a:pt x="983" y="8090"/>
                  </a:lnTo>
                  <a:lnTo>
                    <a:pt x="1020" y="8096"/>
                  </a:lnTo>
                  <a:lnTo>
                    <a:pt x="1054" y="8104"/>
                  </a:lnTo>
                  <a:lnTo>
                    <a:pt x="1085" y="8112"/>
                  </a:lnTo>
                  <a:lnTo>
                    <a:pt x="1113" y="8123"/>
                  </a:lnTo>
                  <a:lnTo>
                    <a:pt x="1126" y="8129"/>
                  </a:lnTo>
                  <a:lnTo>
                    <a:pt x="1139" y="8135"/>
                  </a:lnTo>
                  <a:lnTo>
                    <a:pt x="1152" y="8142"/>
                  </a:lnTo>
                  <a:lnTo>
                    <a:pt x="1164" y="8149"/>
                  </a:lnTo>
                  <a:lnTo>
                    <a:pt x="1176" y="8157"/>
                  </a:lnTo>
                  <a:lnTo>
                    <a:pt x="1188" y="8166"/>
                  </a:lnTo>
                  <a:lnTo>
                    <a:pt x="1200" y="8174"/>
                  </a:lnTo>
                  <a:lnTo>
                    <a:pt x="1211" y="8184"/>
                  </a:lnTo>
                  <a:lnTo>
                    <a:pt x="1223" y="8195"/>
                  </a:lnTo>
                  <a:lnTo>
                    <a:pt x="1234" y="8205"/>
                  </a:lnTo>
                  <a:lnTo>
                    <a:pt x="1244" y="8217"/>
                  </a:lnTo>
                  <a:lnTo>
                    <a:pt x="1255" y="8229"/>
                  </a:lnTo>
                  <a:lnTo>
                    <a:pt x="1274" y="8255"/>
                  </a:lnTo>
                  <a:lnTo>
                    <a:pt x="1294" y="8282"/>
                  </a:lnTo>
                  <a:lnTo>
                    <a:pt x="1302" y="8298"/>
                  </a:lnTo>
                  <a:lnTo>
                    <a:pt x="1310" y="8313"/>
                  </a:lnTo>
                  <a:lnTo>
                    <a:pt x="1318" y="8329"/>
                  </a:lnTo>
                  <a:lnTo>
                    <a:pt x="1325" y="8345"/>
                  </a:lnTo>
                  <a:lnTo>
                    <a:pt x="1331" y="8363"/>
                  </a:lnTo>
                  <a:lnTo>
                    <a:pt x="1337" y="8381"/>
                  </a:lnTo>
                  <a:lnTo>
                    <a:pt x="1342" y="8400"/>
                  </a:lnTo>
                  <a:lnTo>
                    <a:pt x="1347" y="8419"/>
                  </a:lnTo>
                  <a:lnTo>
                    <a:pt x="1350" y="8439"/>
                  </a:lnTo>
                  <a:lnTo>
                    <a:pt x="1354" y="8460"/>
                  </a:lnTo>
                  <a:lnTo>
                    <a:pt x="1356" y="8480"/>
                  </a:lnTo>
                  <a:lnTo>
                    <a:pt x="1358" y="8502"/>
                  </a:lnTo>
                  <a:lnTo>
                    <a:pt x="1359" y="8525"/>
                  </a:lnTo>
                  <a:lnTo>
                    <a:pt x="1360" y="8548"/>
                  </a:lnTo>
                  <a:lnTo>
                    <a:pt x="1360" y="8571"/>
                  </a:lnTo>
                  <a:lnTo>
                    <a:pt x="1360" y="8596"/>
                  </a:lnTo>
                  <a:lnTo>
                    <a:pt x="1359" y="8622"/>
                  </a:lnTo>
                  <a:lnTo>
                    <a:pt x="1357" y="8647"/>
                  </a:lnTo>
                  <a:lnTo>
                    <a:pt x="1355" y="8672"/>
                  </a:lnTo>
                  <a:lnTo>
                    <a:pt x="1351" y="8696"/>
                  </a:lnTo>
                  <a:lnTo>
                    <a:pt x="1348" y="8719"/>
                  </a:lnTo>
                  <a:lnTo>
                    <a:pt x="1345" y="8741"/>
                  </a:lnTo>
                  <a:lnTo>
                    <a:pt x="1339" y="8762"/>
                  </a:lnTo>
                  <a:lnTo>
                    <a:pt x="1335" y="8783"/>
                  </a:lnTo>
                  <a:lnTo>
                    <a:pt x="1330" y="8803"/>
                  </a:lnTo>
                  <a:lnTo>
                    <a:pt x="1323" y="8821"/>
                  </a:lnTo>
                  <a:lnTo>
                    <a:pt x="1317" y="8840"/>
                  </a:lnTo>
                  <a:lnTo>
                    <a:pt x="1309" y="8856"/>
                  </a:lnTo>
                  <a:lnTo>
                    <a:pt x="1301" y="8872"/>
                  </a:lnTo>
                  <a:lnTo>
                    <a:pt x="1293" y="8889"/>
                  </a:lnTo>
                  <a:lnTo>
                    <a:pt x="1284" y="8903"/>
                  </a:lnTo>
                  <a:lnTo>
                    <a:pt x="1274" y="8917"/>
                  </a:lnTo>
                  <a:lnTo>
                    <a:pt x="1264" y="8930"/>
                  </a:lnTo>
                  <a:lnTo>
                    <a:pt x="1255" y="8943"/>
                  </a:lnTo>
                  <a:lnTo>
                    <a:pt x="1244" y="8955"/>
                  </a:lnTo>
                  <a:lnTo>
                    <a:pt x="1233" y="8967"/>
                  </a:lnTo>
                  <a:lnTo>
                    <a:pt x="1221" y="8978"/>
                  </a:lnTo>
                  <a:lnTo>
                    <a:pt x="1209" y="8989"/>
                  </a:lnTo>
                  <a:lnTo>
                    <a:pt x="1197" y="8999"/>
                  </a:lnTo>
                  <a:lnTo>
                    <a:pt x="1185" y="9009"/>
                  </a:lnTo>
                  <a:lnTo>
                    <a:pt x="1172" y="9017"/>
                  </a:lnTo>
                  <a:lnTo>
                    <a:pt x="1158" y="9026"/>
                  </a:lnTo>
                  <a:lnTo>
                    <a:pt x="1145" y="9035"/>
                  </a:lnTo>
                  <a:lnTo>
                    <a:pt x="1130" y="9042"/>
                  </a:lnTo>
                  <a:lnTo>
                    <a:pt x="1116" y="9049"/>
                  </a:lnTo>
                  <a:lnTo>
                    <a:pt x="1101" y="9055"/>
                  </a:lnTo>
                  <a:lnTo>
                    <a:pt x="1086" y="9062"/>
                  </a:lnTo>
                  <a:lnTo>
                    <a:pt x="1070" y="9067"/>
                  </a:lnTo>
                  <a:lnTo>
                    <a:pt x="1045" y="9073"/>
                  </a:lnTo>
                  <a:lnTo>
                    <a:pt x="1017" y="9078"/>
                  </a:lnTo>
                  <a:lnTo>
                    <a:pt x="983" y="9083"/>
                  </a:lnTo>
                  <a:lnTo>
                    <a:pt x="946" y="9086"/>
                  </a:lnTo>
                  <a:lnTo>
                    <a:pt x="903" y="9088"/>
                  </a:lnTo>
                  <a:lnTo>
                    <a:pt x="856" y="9088"/>
                  </a:lnTo>
                  <a:lnTo>
                    <a:pt x="804" y="9088"/>
                  </a:lnTo>
                  <a:lnTo>
                    <a:pt x="747" y="9087"/>
                  </a:lnTo>
                  <a:lnTo>
                    <a:pt x="237" y="9068"/>
                  </a:lnTo>
                  <a:lnTo>
                    <a:pt x="209" y="9068"/>
                  </a:lnTo>
                  <a:lnTo>
                    <a:pt x="183" y="9068"/>
                  </a:lnTo>
                  <a:lnTo>
                    <a:pt x="159" y="9071"/>
                  </a:lnTo>
                  <a:lnTo>
                    <a:pt x="137" y="9074"/>
                  </a:lnTo>
                  <a:lnTo>
                    <a:pt x="119" y="9077"/>
                  </a:lnTo>
                  <a:lnTo>
                    <a:pt x="103" y="9083"/>
                  </a:lnTo>
                  <a:lnTo>
                    <a:pt x="96" y="9086"/>
                  </a:lnTo>
                  <a:lnTo>
                    <a:pt x="89" y="9089"/>
                  </a:lnTo>
                  <a:lnTo>
                    <a:pt x="84" y="9092"/>
                  </a:lnTo>
                  <a:lnTo>
                    <a:pt x="78" y="9097"/>
                  </a:lnTo>
                  <a:lnTo>
                    <a:pt x="70" y="9106"/>
                  </a:lnTo>
                  <a:lnTo>
                    <a:pt x="62" y="9115"/>
                  </a:lnTo>
                  <a:lnTo>
                    <a:pt x="54" y="9126"/>
                  </a:lnTo>
                  <a:lnTo>
                    <a:pt x="49" y="9139"/>
                  </a:lnTo>
                  <a:lnTo>
                    <a:pt x="45" y="9152"/>
                  </a:lnTo>
                  <a:lnTo>
                    <a:pt x="41" y="9168"/>
                  </a:lnTo>
                  <a:lnTo>
                    <a:pt x="39" y="9184"/>
                  </a:lnTo>
                  <a:lnTo>
                    <a:pt x="37" y="9202"/>
                  </a:lnTo>
                  <a:lnTo>
                    <a:pt x="36" y="9251"/>
                  </a:lnTo>
                  <a:lnTo>
                    <a:pt x="0" y="9250"/>
                  </a:lnTo>
                  <a:lnTo>
                    <a:pt x="20" y="8686"/>
                  </a:lnTo>
                  <a:lnTo>
                    <a:pt x="56" y="8687"/>
                  </a:lnTo>
                  <a:lnTo>
                    <a:pt x="53" y="8737"/>
                  </a:lnTo>
                  <a:lnTo>
                    <a:pt x="53" y="8757"/>
                  </a:lnTo>
                  <a:lnTo>
                    <a:pt x="56" y="8776"/>
                  </a:lnTo>
                  <a:lnTo>
                    <a:pt x="59" y="8792"/>
                  </a:lnTo>
                  <a:lnTo>
                    <a:pt x="64" y="8807"/>
                  </a:lnTo>
                  <a:lnTo>
                    <a:pt x="71" y="8821"/>
                  </a:lnTo>
                  <a:lnTo>
                    <a:pt x="78" y="8834"/>
                  </a:lnTo>
                  <a:lnTo>
                    <a:pt x="84" y="8840"/>
                  </a:lnTo>
                  <a:lnTo>
                    <a:pt x="89" y="8845"/>
                  </a:lnTo>
                  <a:lnTo>
                    <a:pt x="95" y="8851"/>
                  </a:lnTo>
                  <a:lnTo>
                    <a:pt x="100" y="8855"/>
                  </a:lnTo>
                  <a:lnTo>
                    <a:pt x="110" y="8860"/>
                  </a:lnTo>
                  <a:lnTo>
                    <a:pt x="122" y="8866"/>
                  </a:lnTo>
                  <a:lnTo>
                    <a:pt x="136" y="8871"/>
                  </a:lnTo>
                  <a:lnTo>
                    <a:pt x="154" y="8875"/>
                  </a:lnTo>
                  <a:lnTo>
                    <a:pt x="172" y="8878"/>
                  </a:lnTo>
                  <a:lnTo>
                    <a:pt x="194" y="8881"/>
                  </a:lnTo>
                  <a:lnTo>
                    <a:pt x="218" y="8882"/>
                  </a:lnTo>
                  <a:lnTo>
                    <a:pt x="244" y="8884"/>
                  </a:lnTo>
                  <a:lnTo>
                    <a:pt x="812" y="8904"/>
                  </a:lnTo>
                  <a:lnTo>
                    <a:pt x="832" y="8904"/>
                  </a:lnTo>
                  <a:lnTo>
                    <a:pt x="852" y="8904"/>
                  </a:lnTo>
                  <a:lnTo>
                    <a:pt x="872" y="8904"/>
                  </a:lnTo>
                  <a:lnTo>
                    <a:pt x="894" y="8903"/>
                  </a:lnTo>
                  <a:lnTo>
                    <a:pt x="916" y="8902"/>
                  </a:lnTo>
                  <a:lnTo>
                    <a:pt x="939" y="8901"/>
                  </a:lnTo>
                  <a:lnTo>
                    <a:pt x="963" y="8899"/>
                  </a:lnTo>
                  <a:lnTo>
                    <a:pt x="987" y="8896"/>
                  </a:lnTo>
                  <a:lnTo>
                    <a:pt x="1011" y="8893"/>
                  </a:lnTo>
                  <a:lnTo>
                    <a:pt x="1033" y="8889"/>
                  </a:lnTo>
                  <a:lnTo>
                    <a:pt x="1055" y="8884"/>
                  </a:lnTo>
                  <a:lnTo>
                    <a:pt x="1075" y="8879"/>
                  </a:lnTo>
                  <a:lnTo>
                    <a:pt x="1093" y="8874"/>
                  </a:lnTo>
                  <a:lnTo>
                    <a:pt x="1111" y="8867"/>
                  </a:lnTo>
                  <a:lnTo>
                    <a:pt x="1127" y="8859"/>
                  </a:lnTo>
                  <a:lnTo>
                    <a:pt x="1142" y="8851"/>
                  </a:lnTo>
                  <a:lnTo>
                    <a:pt x="1155" y="8842"/>
                  </a:lnTo>
                  <a:lnTo>
                    <a:pt x="1168" y="8831"/>
                  </a:lnTo>
                  <a:lnTo>
                    <a:pt x="1182" y="8820"/>
                  </a:lnTo>
                  <a:lnTo>
                    <a:pt x="1194" y="8808"/>
                  </a:lnTo>
                  <a:lnTo>
                    <a:pt x="1204" y="8795"/>
                  </a:lnTo>
                  <a:lnTo>
                    <a:pt x="1215" y="8780"/>
                  </a:lnTo>
                  <a:lnTo>
                    <a:pt x="1226" y="8765"/>
                  </a:lnTo>
                  <a:lnTo>
                    <a:pt x="1236" y="8748"/>
                  </a:lnTo>
                  <a:lnTo>
                    <a:pt x="1245" y="8731"/>
                  </a:lnTo>
                  <a:lnTo>
                    <a:pt x="1252" y="8712"/>
                  </a:lnTo>
                  <a:lnTo>
                    <a:pt x="1260" y="8694"/>
                  </a:lnTo>
                  <a:lnTo>
                    <a:pt x="1265" y="8673"/>
                  </a:lnTo>
                  <a:lnTo>
                    <a:pt x="1270" y="8651"/>
                  </a:lnTo>
                  <a:lnTo>
                    <a:pt x="1274" y="8629"/>
                  </a:lnTo>
                  <a:lnTo>
                    <a:pt x="1276" y="8606"/>
                  </a:lnTo>
                  <a:lnTo>
                    <a:pt x="1277" y="8581"/>
                  </a:lnTo>
                  <a:lnTo>
                    <a:pt x="1277" y="8549"/>
                  </a:lnTo>
                  <a:lnTo>
                    <a:pt x="1276" y="8519"/>
                  </a:lnTo>
                  <a:lnTo>
                    <a:pt x="1273" y="8489"/>
                  </a:lnTo>
                  <a:lnTo>
                    <a:pt x="1268" y="8460"/>
                  </a:lnTo>
                  <a:lnTo>
                    <a:pt x="1261" y="8431"/>
                  </a:lnTo>
                  <a:lnTo>
                    <a:pt x="1252" y="8403"/>
                  </a:lnTo>
                  <a:lnTo>
                    <a:pt x="1241" y="8376"/>
                  </a:lnTo>
                  <a:lnTo>
                    <a:pt x="1229" y="8350"/>
                  </a:lnTo>
                  <a:lnTo>
                    <a:pt x="1216" y="8326"/>
                  </a:lnTo>
                  <a:lnTo>
                    <a:pt x="1201" y="8303"/>
                  </a:lnTo>
                  <a:lnTo>
                    <a:pt x="1186" y="8282"/>
                  </a:lnTo>
                  <a:lnTo>
                    <a:pt x="1170" y="8263"/>
                  </a:lnTo>
                  <a:lnTo>
                    <a:pt x="1151" y="8246"/>
                  </a:lnTo>
                  <a:lnTo>
                    <a:pt x="1133" y="8231"/>
                  </a:lnTo>
                  <a:lnTo>
                    <a:pt x="1113" y="8218"/>
                  </a:lnTo>
                  <a:lnTo>
                    <a:pt x="1092" y="8207"/>
                  </a:lnTo>
                  <a:lnTo>
                    <a:pt x="1080" y="8203"/>
                  </a:lnTo>
                  <a:lnTo>
                    <a:pt x="1068" y="8197"/>
                  </a:lnTo>
                  <a:lnTo>
                    <a:pt x="1055" y="8193"/>
                  </a:lnTo>
                  <a:lnTo>
                    <a:pt x="1041" y="8189"/>
                  </a:lnTo>
                  <a:lnTo>
                    <a:pt x="1011" y="8182"/>
                  </a:lnTo>
                  <a:lnTo>
                    <a:pt x="976" y="8176"/>
                  </a:lnTo>
                  <a:lnTo>
                    <a:pt x="937" y="8170"/>
                  </a:lnTo>
                  <a:lnTo>
                    <a:pt x="894" y="8166"/>
                  </a:lnTo>
                  <a:lnTo>
                    <a:pt x="848" y="8163"/>
                  </a:lnTo>
                  <a:lnTo>
                    <a:pt x="798" y="8159"/>
                  </a:lnTo>
                  <a:lnTo>
                    <a:pt x="270" y="8141"/>
                  </a:lnTo>
                  <a:lnTo>
                    <a:pt x="241" y="8141"/>
                  </a:lnTo>
                  <a:lnTo>
                    <a:pt x="215" y="8141"/>
                  </a:lnTo>
                  <a:lnTo>
                    <a:pt x="191" y="8143"/>
                  </a:lnTo>
                  <a:lnTo>
                    <a:pt x="170" y="8145"/>
                  </a:lnTo>
                  <a:lnTo>
                    <a:pt x="152" y="8148"/>
                  </a:lnTo>
                  <a:lnTo>
                    <a:pt x="137" y="8152"/>
                  </a:lnTo>
                  <a:lnTo>
                    <a:pt x="125" y="8157"/>
                  </a:lnTo>
                  <a:lnTo>
                    <a:pt x="117" y="8163"/>
                  </a:lnTo>
                  <a:lnTo>
                    <a:pt x="106" y="8172"/>
                  </a:lnTo>
                  <a:lnTo>
                    <a:pt x="97" y="8183"/>
                  </a:lnTo>
                  <a:lnTo>
                    <a:pt x="89" y="8195"/>
                  </a:lnTo>
                  <a:lnTo>
                    <a:pt x="83" y="8208"/>
                  </a:lnTo>
                  <a:lnTo>
                    <a:pt x="77" y="8223"/>
                  </a:lnTo>
                  <a:lnTo>
                    <a:pt x="74" y="8239"/>
                  </a:lnTo>
                  <a:lnTo>
                    <a:pt x="71" y="8255"/>
                  </a:lnTo>
                  <a:lnTo>
                    <a:pt x="70" y="8272"/>
                  </a:lnTo>
                  <a:lnTo>
                    <a:pt x="69" y="8323"/>
                  </a:lnTo>
                  <a:close/>
                  <a:moveTo>
                    <a:pt x="1644" y="6490"/>
                  </a:moveTo>
                  <a:lnTo>
                    <a:pt x="1566" y="6830"/>
                  </a:lnTo>
                  <a:lnTo>
                    <a:pt x="872" y="7124"/>
                  </a:lnTo>
                  <a:lnTo>
                    <a:pt x="868" y="7147"/>
                  </a:lnTo>
                  <a:lnTo>
                    <a:pt x="864" y="7167"/>
                  </a:lnTo>
                  <a:lnTo>
                    <a:pt x="859" y="7186"/>
                  </a:lnTo>
                  <a:lnTo>
                    <a:pt x="856" y="7201"/>
                  </a:lnTo>
                  <a:lnTo>
                    <a:pt x="853" y="7214"/>
                  </a:lnTo>
                  <a:lnTo>
                    <a:pt x="849" y="7227"/>
                  </a:lnTo>
                  <a:lnTo>
                    <a:pt x="845" y="7241"/>
                  </a:lnTo>
                  <a:lnTo>
                    <a:pt x="842" y="7257"/>
                  </a:lnTo>
                  <a:lnTo>
                    <a:pt x="1211" y="7341"/>
                  </a:lnTo>
                  <a:lnTo>
                    <a:pt x="1239" y="7348"/>
                  </a:lnTo>
                  <a:lnTo>
                    <a:pt x="1265" y="7352"/>
                  </a:lnTo>
                  <a:lnTo>
                    <a:pt x="1289" y="7356"/>
                  </a:lnTo>
                  <a:lnTo>
                    <a:pt x="1310" y="7358"/>
                  </a:lnTo>
                  <a:lnTo>
                    <a:pt x="1327" y="7358"/>
                  </a:lnTo>
                  <a:lnTo>
                    <a:pt x="1343" y="7357"/>
                  </a:lnTo>
                  <a:lnTo>
                    <a:pt x="1356" y="7355"/>
                  </a:lnTo>
                  <a:lnTo>
                    <a:pt x="1366" y="7350"/>
                  </a:lnTo>
                  <a:lnTo>
                    <a:pt x="1378" y="7343"/>
                  </a:lnTo>
                  <a:lnTo>
                    <a:pt x="1388" y="7334"/>
                  </a:lnTo>
                  <a:lnTo>
                    <a:pt x="1398" y="7324"/>
                  </a:lnTo>
                  <a:lnTo>
                    <a:pt x="1407" y="7312"/>
                  </a:lnTo>
                  <a:lnTo>
                    <a:pt x="1415" y="7300"/>
                  </a:lnTo>
                  <a:lnTo>
                    <a:pt x="1422" y="7285"/>
                  </a:lnTo>
                  <a:lnTo>
                    <a:pt x="1428" y="7270"/>
                  </a:lnTo>
                  <a:lnTo>
                    <a:pt x="1432" y="7252"/>
                  </a:lnTo>
                  <a:lnTo>
                    <a:pt x="1444" y="7203"/>
                  </a:lnTo>
                  <a:lnTo>
                    <a:pt x="1478" y="7211"/>
                  </a:lnTo>
                  <a:lnTo>
                    <a:pt x="1353" y="7755"/>
                  </a:lnTo>
                  <a:lnTo>
                    <a:pt x="1318" y="7748"/>
                  </a:lnTo>
                  <a:lnTo>
                    <a:pt x="1329" y="7700"/>
                  </a:lnTo>
                  <a:lnTo>
                    <a:pt x="1333" y="7680"/>
                  </a:lnTo>
                  <a:lnTo>
                    <a:pt x="1334" y="7662"/>
                  </a:lnTo>
                  <a:lnTo>
                    <a:pt x="1334" y="7644"/>
                  </a:lnTo>
                  <a:lnTo>
                    <a:pt x="1332" y="7628"/>
                  </a:lnTo>
                  <a:lnTo>
                    <a:pt x="1327" y="7613"/>
                  </a:lnTo>
                  <a:lnTo>
                    <a:pt x="1321" y="7597"/>
                  </a:lnTo>
                  <a:lnTo>
                    <a:pt x="1313" y="7584"/>
                  </a:lnTo>
                  <a:lnTo>
                    <a:pt x="1302" y="7572"/>
                  </a:lnTo>
                  <a:lnTo>
                    <a:pt x="1296" y="7566"/>
                  </a:lnTo>
                  <a:lnTo>
                    <a:pt x="1285" y="7559"/>
                  </a:lnTo>
                  <a:lnTo>
                    <a:pt x="1273" y="7553"/>
                  </a:lnTo>
                  <a:lnTo>
                    <a:pt x="1257" y="7546"/>
                  </a:lnTo>
                  <a:lnTo>
                    <a:pt x="1239" y="7540"/>
                  </a:lnTo>
                  <a:lnTo>
                    <a:pt x="1219" y="7533"/>
                  </a:lnTo>
                  <a:lnTo>
                    <a:pt x="1196" y="7527"/>
                  </a:lnTo>
                  <a:lnTo>
                    <a:pt x="1170" y="7521"/>
                  </a:lnTo>
                  <a:lnTo>
                    <a:pt x="347" y="7331"/>
                  </a:lnTo>
                  <a:lnTo>
                    <a:pt x="319" y="7325"/>
                  </a:lnTo>
                  <a:lnTo>
                    <a:pt x="293" y="7320"/>
                  </a:lnTo>
                  <a:lnTo>
                    <a:pt x="270" y="7318"/>
                  </a:lnTo>
                  <a:lnTo>
                    <a:pt x="249" y="7315"/>
                  </a:lnTo>
                  <a:lnTo>
                    <a:pt x="231" y="7315"/>
                  </a:lnTo>
                  <a:lnTo>
                    <a:pt x="216" y="7316"/>
                  </a:lnTo>
                  <a:lnTo>
                    <a:pt x="203" y="7319"/>
                  </a:lnTo>
                  <a:lnTo>
                    <a:pt x="193" y="7323"/>
                  </a:lnTo>
                  <a:lnTo>
                    <a:pt x="181" y="7331"/>
                  </a:lnTo>
                  <a:lnTo>
                    <a:pt x="170" y="7339"/>
                  </a:lnTo>
                  <a:lnTo>
                    <a:pt x="160" y="7349"/>
                  </a:lnTo>
                  <a:lnTo>
                    <a:pt x="151" y="7361"/>
                  </a:lnTo>
                  <a:lnTo>
                    <a:pt x="144" y="7374"/>
                  </a:lnTo>
                  <a:lnTo>
                    <a:pt x="137" y="7389"/>
                  </a:lnTo>
                  <a:lnTo>
                    <a:pt x="131" y="7405"/>
                  </a:lnTo>
                  <a:lnTo>
                    <a:pt x="126" y="7422"/>
                  </a:lnTo>
                  <a:lnTo>
                    <a:pt x="115" y="7470"/>
                  </a:lnTo>
                  <a:lnTo>
                    <a:pt x="81" y="7462"/>
                  </a:lnTo>
                  <a:lnTo>
                    <a:pt x="187" y="6998"/>
                  </a:lnTo>
                  <a:lnTo>
                    <a:pt x="199" y="6949"/>
                  </a:lnTo>
                  <a:lnTo>
                    <a:pt x="211" y="6905"/>
                  </a:lnTo>
                  <a:lnTo>
                    <a:pt x="223" y="6862"/>
                  </a:lnTo>
                  <a:lnTo>
                    <a:pt x="235" y="6824"/>
                  </a:lnTo>
                  <a:lnTo>
                    <a:pt x="248" y="6789"/>
                  </a:lnTo>
                  <a:lnTo>
                    <a:pt x="260" y="6759"/>
                  </a:lnTo>
                  <a:lnTo>
                    <a:pt x="273" y="6731"/>
                  </a:lnTo>
                  <a:lnTo>
                    <a:pt x="286" y="6707"/>
                  </a:lnTo>
                  <a:lnTo>
                    <a:pt x="299" y="6685"/>
                  </a:lnTo>
                  <a:lnTo>
                    <a:pt x="315" y="6665"/>
                  </a:lnTo>
                  <a:lnTo>
                    <a:pt x="331" y="6646"/>
                  </a:lnTo>
                  <a:lnTo>
                    <a:pt x="348" y="6627"/>
                  </a:lnTo>
                  <a:lnTo>
                    <a:pt x="367" y="6611"/>
                  </a:lnTo>
                  <a:lnTo>
                    <a:pt x="388" y="6596"/>
                  </a:lnTo>
                  <a:lnTo>
                    <a:pt x="409" y="6581"/>
                  </a:lnTo>
                  <a:lnTo>
                    <a:pt x="432" y="6568"/>
                  </a:lnTo>
                  <a:lnTo>
                    <a:pt x="444" y="6563"/>
                  </a:lnTo>
                  <a:lnTo>
                    <a:pt x="456" y="6557"/>
                  </a:lnTo>
                  <a:lnTo>
                    <a:pt x="468" y="6553"/>
                  </a:lnTo>
                  <a:lnTo>
                    <a:pt x="480" y="6549"/>
                  </a:lnTo>
                  <a:lnTo>
                    <a:pt x="493" y="6545"/>
                  </a:lnTo>
                  <a:lnTo>
                    <a:pt x="505" y="6542"/>
                  </a:lnTo>
                  <a:lnTo>
                    <a:pt x="518" y="6540"/>
                  </a:lnTo>
                  <a:lnTo>
                    <a:pt x="531" y="6539"/>
                  </a:lnTo>
                  <a:lnTo>
                    <a:pt x="543" y="6538"/>
                  </a:lnTo>
                  <a:lnTo>
                    <a:pt x="556" y="6537"/>
                  </a:lnTo>
                  <a:lnTo>
                    <a:pt x="570" y="6537"/>
                  </a:lnTo>
                  <a:lnTo>
                    <a:pt x="583" y="6538"/>
                  </a:lnTo>
                  <a:lnTo>
                    <a:pt x="610" y="6540"/>
                  </a:lnTo>
                  <a:lnTo>
                    <a:pt x="637" y="6545"/>
                  </a:lnTo>
                  <a:lnTo>
                    <a:pt x="651" y="6549"/>
                  </a:lnTo>
                  <a:lnTo>
                    <a:pt x="665" y="6553"/>
                  </a:lnTo>
                  <a:lnTo>
                    <a:pt x="680" y="6559"/>
                  </a:lnTo>
                  <a:lnTo>
                    <a:pt x="693" y="6563"/>
                  </a:lnTo>
                  <a:lnTo>
                    <a:pt x="706" y="6569"/>
                  </a:lnTo>
                  <a:lnTo>
                    <a:pt x="718" y="6576"/>
                  </a:lnTo>
                  <a:lnTo>
                    <a:pt x="731" y="6582"/>
                  </a:lnTo>
                  <a:lnTo>
                    <a:pt x="742" y="6590"/>
                  </a:lnTo>
                  <a:lnTo>
                    <a:pt x="754" y="6598"/>
                  </a:lnTo>
                  <a:lnTo>
                    <a:pt x="764" y="6606"/>
                  </a:lnTo>
                  <a:lnTo>
                    <a:pt x="775" y="6615"/>
                  </a:lnTo>
                  <a:lnTo>
                    <a:pt x="785" y="6625"/>
                  </a:lnTo>
                  <a:lnTo>
                    <a:pt x="795" y="6635"/>
                  </a:lnTo>
                  <a:lnTo>
                    <a:pt x="805" y="6646"/>
                  </a:lnTo>
                  <a:lnTo>
                    <a:pt x="815" y="6658"/>
                  </a:lnTo>
                  <a:lnTo>
                    <a:pt x="823" y="6669"/>
                  </a:lnTo>
                  <a:lnTo>
                    <a:pt x="831" y="6682"/>
                  </a:lnTo>
                  <a:lnTo>
                    <a:pt x="839" y="6695"/>
                  </a:lnTo>
                  <a:lnTo>
                    <a:pt x="846" y="6708"/>
                  </a:lnTo>
                  <a:lnTo>
                    <a:pt x="853" y="6722"/>
                  </a:lnTo>
                  <a:lnTo>
                    <a:pt x="859" y="6736"/>
                  </a:lnTo>
                  <a:lnTo>
                    <a:pt x="865" y="6751"/>
                  </a:lnTo>
                  <a:lnTo>
                    <a:pt x="869" y="6767"/>
                  </a:lnTo>
                  <a:lnTo>
                    <a:pt x="873" y="6783"/>
                  </a:lnTo>
                  <a:lnTo>
                    <a:pt x="878" y="6800"/>
                  </a:lnTo>
                  <a:lnTo>
                    <a:pt x="881" y="6818"/>
                  </a:lnTo>
                  <a:lnTo>
                    <a:pt x="884" y="6835"/>
                  </a:lnTo>
                  <a:lnTo>
                    <a:pt x="886" y="6854"/>
                  </a:lnTo>
                  <a:lnTo>
                    <a:pt x="888" y="6873"/>
                  </a:lnTo>
                  <a:lnTo>
                    <a:pt x="890" y="6893"/>
                  </a:lnTo>
                  <a:lnTo>
                    <a:pt x="890" y="6912"/>
                  </a:lnTo>
                  <a:lnTo>
                    <a:pt x="890" y="6933"/>
                  </a:lnTo>
                  <a:lnTo>
                    <a:pt x="1316" y="6756"/>
                  </a:lnTo>
                  <a:lnTo>
                    <a:pt x="1350" y="6740"/>
                  </a:lnTo>
                  <a:lnTo>
                    <a:pt x="1383" y="6725"/>
                  </a:lnTo>
                  <a:lnTo>
                    <a:pt x="1412" y="6711"/>
                  </a:lnTo>
                  <a:lnTo>
                    <a:pt x="1440" y="6696"/>
                  </a:lnTo>
                  <a:lnTo>
                    <a:pt x="1464" y="6682"/>
                  </a:lnTo>
                  <a:lnTo>
                    <a:pt x="1484" y="6667"/>
                  </a:lnTo>
                  <a:lnTo>
                    <a:pt x="1503" y="6653"/>
                  </a:lnTo>
                  <a:lnTo>
                    <a:pt x="1518" y="6639"/>
                  </a:lnTo>
                  <a:lnTo>
                    <a:pt x="1532" y="6625"/>
                  </a:lnTo>
                  <a:lnTo>
                    <a:pt x="1545" y="6609"/>
                  </a:lnTo>
                  <a:lnTo>
                    <a:pt x="1557" y="6591"/>
                  </a:lnTo>
                  <a:lnTo>
                    <a:pt x="1569" y="6573"/>
                  </a:lnTo>
                  <a:lnTo>
                    <a:pt x="1580" y="6552"/>
                  </a:lnTo>
                  <a:lnTo>
                    <a:pt x="1591" y="6530"/>
                  </a:lnTo>
                  <a:lnTo>
                    <a:pt x="1601" y="6507"/>
                  </a:lnTo>
                  <a:lnTo>
                    <a:pt x="1610" y="6482"/>
                  </a:lnTo>
                  <a:lnTo>
                    <a:pt x="1644" y="6490"/>
                  </a:lnTo>
                  <a:close/>
                  <a:moveTo>
                    <a:pt x="782" y="7242"/>
                  </a:moveTo>
                  <a:lnTo>
                    <a:pt x="786" y="7226"/>
                  </a:lnTo>
                  <a:lnTo>
                    <a:pt x="790" y="7212"/>
                  </a:lnTo>
                  <a:lnTo>
                    <a:pt x="793" y="7200"/>
                  </a:lnTo>
                  <a:lnTo>
                    <a:pt x="795" y="7190"/>
                  </a:lnTo>
                  <a:lnTo>
                    <a:pt x="800" y="7168"/>
                  </a:lnTo>
                  <a:lnTo>
                    <a:pt x="804" y="7147"/>
                  </a:lnTo>
                  <a:lnTo>
                    <a:pt x="807" y="7125"/>
                  </a:lnTo>
                  <a:lnTo>
                    <a:pt x="810" y="7104"/>
                  </a:lnTo>
                  <a:lnTo>
                    <a:pt x="811" y="7083"/>
                  </a:lnTo>
                  <a:lnTo>
                    <a:pt x="812" y="7064"/>
                  </a:lnTo>
                  <a:lnTo>
                    <a:pt x="812" y="7045"/>
                  </a:lnTo>
                  <a:lnTo>
                    <a:pt x="812" y="7027"/>
                  </a:lnTo>
                  <a:lnTo>
                    <a:pt x="811" y="7008"/>
                  </a:lnTo>
                  <a:lnTo>
                    <a:pt x="809" y="6991"/>
                  </a:lnTo>
                  <a:lnTo>
                    <a:pt x="806" y="6974"/>
                  </a:lnTo>
                  <a:lnTo>
                    <a:pt x="803" y="6958"/>
                  </a:lnTo>
                  <a:lnTo>
                    <a:pt x="798" y="6942"/>
                  </a:lnTo>
                  <a:lnTo>
                    <a:pt x="793" y="6927"/>
                  </a:lnTo>
                  <a:lnTo>
                    <a:pt x="786" y="6912"/>
                  </a:lnTo>
                  <a:lnTo>
                    <a:pt x="780" y="6898"/>
                  </a:lnTo>
                  <a:lnTo>
                    <a:pt x="772" y="6884"/>
                  </a:lnTo>
                  <a:lnTo>
                    <a:pt x="764" y="6872"/>
                  </a:lnTo>
                  <a:lnTo>
                    <a:pt x="756" y="6859"/>
                  </a:lnTo>
                  <a:lnTo>
                    <a:pt x="747" y="6848"/>
                  </a:lnTo>
                  <a:lnTo>
                    <a:pt x="737" y="6837"/>
                  </a:lnTo>
                  <a:lnTo>
                    <a:pt x="727" y="6826"/>
                  </a:lnTo>
                  <a:lnTo>
                    <a:pt x="718" y="6817"/>
                  </a:lnTo>
                  <a:lnTo>
                    <a:pt x="707" y="6808"/>
                  </a:lnTo>
                  <a:lnTo>
                    <a:pt x="695" y="6799"/>
                  </a:lnTo>
                  <a:lnTo>
                    <a:pt x="683" y="6792"/>
                  </a:lnTo>
                  <a:lnTo>
                    <a:pt x="671" y="6785"/>
                  </a:lnTo>
                  <a:lnTo>
                    <a:pt x="658" y="6778"/>
                  </a:lnTo>
                  <a:lnTo>
                    <a:pt x="644" y="6773"/>
                  </a:lnTo>
                  <a:lnTo>
                    <a:pt x="629" y="6768"/>
                  </a:lnTo>
                  <a:lnTo>
                    <a:pt x="615" y="6763"/>
                  </a:lnTo>
                  <a:lnTo>
                    <a:pt x="600" y="6759"/>
                  </a:lnTo>
                  <a:lnTo>
                    <a:pt x="586" y="6756"/>
                  </a:lnTo>
                  <a:lnTo>
                    <a:pt x="571" y="6753"/>
                  </a:lnTo>
                  <a:lnTo>
                    <a:pt x="556" y="6752"/>
                  </a:lnTo>
                  <a:lnTo>
                    <a:pt x="542" y="6751"/>
                  </a:lnTo>
                  <a:lnTo>
                    <a:pt x="528" y="6750"/>
                  </a:lnTo>
                  <a:lnTo>
                    <a:pt x="515" y="6750"/>
                  </a:lnTo>
                  <a:lnTo>
                    <a:pt x="501" y="6751"/>
                  </a:lnTo>
                  <a:lnTo>
                    <a:pt x="488" y="6753"/>
                  </a:lnTo>
                  <a:lnTo>
                    <a:pt x="475" y="6756"/>
                  </a:lnTo>
                  <a:lnTo>
                    <a:pt x="462" y="6758"/>
                  </a:lnTo>
                  <a:lnTo>
                    <a:pt x="450" y="6761"/>
                  </a:lnTo>
                  <a:lnTo>
                    <a:pt x="437" y="6765"/>
                  </a:lnTo>
                  <a:lnTo>
                    <a:pt x="425" y="6771"/>
                  </a:lnTo>
                  <a:lnTo>
                    <a:pt x="413" y="6776"/>
                  </a:lnTo>
                  <a:lnTo>
                    <a:pt x="401" y="6782"/>
                  </a:lnTo>
                  <a:lnTo>
                    <a:pt x="390" y="6789"/>
                  </a:lnTo>
                  <a:lnTo>
                    <a:pt x="378" y="6797"/>
                  </a:lnTo>
                  <a:lnTo>
                    <a:pt x="368" y="6805"/>
                  </a:lnTo>
                  <a:lnTo>
                    <a:pt x="357" y="6813"/>
                  </a:lnTo>
                  <a:lnTo>
                    <a:pt x="347" y="6822"/>
                  </a:lnTo>
                  <a:lnTo>
                    <a:pt x="339" y="6832"/>
                  </a:lnTo>
                  <a:lnTo>
                    <a:pt x="330" y="6842"/>
                  </a:lnTo>
                  <a:lnTo>
                    <a:pt x="321" y="6851"/>
                  </a:lnTo>
                  <a:lnTo>
                    <a:pt x="314" y="6862"/>
                  </a:lnTo>
                  <a:lnTo>
                    <a:pt x="306" y="6874"/>
                  </a:lnTo>
                  <a:lnTo>
                    <a:pt x="299" y="6886"/>
                  </a:lnTo>
                  <a:lnTo>
                    <a:pt x="293" y="6899"/>
                  </a:lnTo>
                  <a:lnTo>
                    <a:pt x="287" y="6912"/>
                  </a:lnTo>
                  <a:lnTo>
                    <a:pt x="282" y="6925"/>
                  </a:lnTo>
                  <a:lnTo>
                    <a:pt x="278" y="6940"/>
                  </a:lnTo>
                  <a:lnTo>
                    <a:pt x="273" y="6954"/>
                  </a:lnTo>
                  <a:lnTo>
                    <a:pt x="269" y="6969"/>
                  </a:lnTo>
                  <a:lnTo>
                    <a:pt x="264" y="7000"/>
                  </a:lnTo>
                  <a:lnTo>
                    <a:pt x="259" y="7034"/>
                  </a:lnTo>
                  <a:lnTo>
                    <a:pt x="256" y="7075"/>
                  </a:lnTo>
                  <a:lnTo>
                    <a:pt x="254" y="7120"/>
                  </a:lnTo>
                  <a:lnTo>
                    <a:pt x="782" y="7242"/>
                  </a:lnTo>
                  <a:close/>
                  <a:moveTo>
                    <a:pt x="681" y="5564"/>
                  </a:moveTo>
                  <a:lnTo>
                    <a:pt x="1159" y="5757"/>
                  </a:lnTo>
                  <a:lnTo>
                    <a:pt x="1267" y="5491"/>
                  </a:lnTo>
                  <a:lnTo>
                    <a:pt x="1276" y="5466"/>
                  </a:lnTo>
                  <a:lnTo>
                    <a:pt x="1284" y="5443"/>
                  </a:lnTo>
                  <a:lnTo>
                    <a:pt x="1289" y="5422"/>
                  </a:lnTo>
                  <a:lnTo>
                    <a:pt x="1294" y="5402"/>
                  </a:lnTo>
                  <a:lnTo>
                    <a:pt x="1296" y="5385"/>
                  </a:lnTo>
                  <a:lnTo>
                    <a:pt x="1296" y="5368"/>
                  </a:lnTo>
                  <a:lnTo>
                    <a:pt x="1295" y="5353"/>
                  </a:lnTo>
                  <a:lnTo>
                    <a:pt x="1292" y="5341"/>
                  </a:lnTo>
                  <a:lnTo>
                    <a:pt x="1288" y="5334"/>
                  </a:lnTo>
                  <a:lnTo>
                    <a:pt x="1285" y="5325"/>
                  </a:lnTo>
                  <a:lnTo>
                    <a:pt x="1281" y="5318"/>
                  </a:lnTo>
                  <a:lnTo>
                    <a:pt x="1275" y="5311"/>
                  </a:lnTo>
                  <a:lnTo>
                    <a:pt x="1263" y="5295"/>
                  </a:lnTo>
                  <a:lnTo>
                    <a:pt x="1249" y="5281"/>
                  </a:lnTo>
                  <a:lnTo>
                    <a:pt x="1233" y="5268"/>
                  </a:lnTo>
                  <a:lnTo>
                    <a:pt x="1213" y="5255"/>
                  </a:lnTo>
                  <a:lnTo>
                    <a:pt x="1191" y="5243"/>
                  </a:lnTo>
                  <a:lnTo>
                    <a:pt x="1167" y="5230"/>
                  </a:lnTo>
                  <a:lnTo>
                    <a:pt x="1180" y="5197"/>
                  </a:lnTo>
                  <a:lnTo>
                    <a:pt x="1602" y="5368"/>
                  </a:lnTo>
                  <a:lnTo>
                    <a:pt x="1589" y="5401"/>
                  </a:lnTo>
                  <a:lnTo>
                    <a:pt x="1546" y="5391"/>
                  </a:lnTo>
                  <a:lnTo>
                    <a:pt x="1512" y="5384"/>
                  </a:lnTo>
                  <a:lnTo>
                    <a:pt x="1497" y="5381"/>
                  </a:lnTo>
                  <a:lnTo>
                    <a:pt x="1484" y="5380"/>
                  </a:lnTo>
                  <a:lnTo>
                    <a:pt x="1475" y="5380"/>
                  </a:lnTo>
                  <a:lnTo>
                    <a:pt x="1466" y="5380"/>
                  </a:lnTo>
                  <a:lnTo>
                    <a:pt x="1456" y="5381"/>
                  </a:lnTo>
                  <a:lnTo>
                    <a:pt x="1447" y="5384"/>
                  </a:lnTo>
                  <a:lnTo>
                    <a:pt x="1437" y="5386"/>
                  </a:lnTo>
                  <a:lnTo>
                    <a:pt x="1429" y="5390"/>
                  </a:lnTo>
                  <a:lnTo>
                    <a:pt x="1420" y="5394"/>
                  </a:lnTo>
                  <a:lnTo>
                    <a:pt x="1411" y="5400"/>
                  </a:lnTo>
                  <a:lnTo>
                    <a:pt x="1404" y="5406"/>
                  </a:lnTo>
                  <a:lnTo>
                    <a:pt x="1395" y="5413"/>
                  </a:lnTo>
                  <a:lnTo>
                    <a:pt x="1387" y="5421"/>
                  </a:lnTo>
                  <a:lnTo>
                    <a:pt x="1379" y="5430"/>
                  </a:lnTo>
                  <a:lnTo>
                    <a:pt x="1371" y="5441"/>
                  </a:lnTo>
                  <a:lnTo>
                    <a:pt x="1363" y="5453"/>
                  </a:lnTo>
                  <a:lnTo>
                    <a:pt x="1355" y="5467"/>
                  </a:lnTo>
                  <a:lnTo>
                    <a:pt x="1347" y="5483"/>
                  </a:lnTo>
                  <a:lnTo>
                    <a:pt x="1339" y="5500"/>
                  </a:lnTo>
                  <a:lnTo>
                    <a:pt x="1332" y="5518"/>
                  </a:lnTo>
                  <a:lnTo>
                    <a:pt x="1224" y="5784"/>
                  </a:lnTo>
                  <a:lnTo>
                    <a:pt x="1624" y="5945"/>
                  </a:lnTo>
                  <a:lnTo>
                    <a:pt x="1660" y="5960"/>
                  </a:lnTo>
                  <a:lnTo>
                    <a:pt x="1689" y="5969"/>
                  </a:lnTo>
                  <a:lnTo>
                    <a:pt x="1700" y="5973"/>
                  </a:lnTo>
                  <a:lnTo>
                    <a:pt x="1710" y="5976"/>
                  </a:lnTo>
                  <a:lnTo>
                    <a:pt x="1718" y="5977"/>
                  </a:lnTo>
                  <a:lnTo>
                    <a:pt x="1724" y="5978"/>
                  </a:lnTo>
                  <a:lnTo>
                    <a:pt x="1734" y="5977"/>
                  </a:lnTo>
                  <a:lnTo>
                    <a:pt x="1743" y="5974"/>
                  </a:lnTo>
                  <a:lnTo>
                    <a:pt x="1753" y="5969"/>
                  </a:lnTo>
                  <a:lnTo>
                    <a:pt x="1762" y="5964"/>
                  </a:lnTo>
                  <a:lnTo>
                    <a:pt x="1766" y="5960"/>
                  </a:lnTo>
                  <a:lnTo>
                    <a:pt x="1771" y="5954"/>
                  </a:lnTo>
                  <a:lnTo>
                    <a:pt x="1775" y="5949"/>
                  </a:lnTo>
                  <a:lnTo>
                    <a:pt x="1779" y="5941"/>
                  </a:lnTo>
                  <a:lnTo>
                    <a:pt x="1789" y="5923"/>
                  </a:lnTo>
                  <a:lnTo>
                    <a:pt x="1799" y="5900"/>
                  </a:lnTo>
                  <a:lnTo>
                    <a:pt x="1883" y="5695"/>
                  </a:lnTo>
                  <a:lnTo>
                    <a:pt x="1900" y="5647"/>
                  </a:lnTo>
                  <a:lnTo>
                    <a:pt x="1914" y="5605"/>
                  </a:lnTo>
                  <a:lnTo>
                    <a:pt x="1920" y="5586"/>
                  </a:lnTo>
                  <a:lnTo>
                    <a:pt x="1924" y="5569"/>
                  </a:lnTo>
                  <a:lnTo>
                    <a:pt x="1926" y="5553"/>
                  </a:lnTo>
                  <a:lnTo>
                    <a:pt x="1929" y="5540"/>
                  </a:lnTo>
                  <a:lnTo>
                    <a:pt x="1929" y="5526"/>
                  </a:lnTo>
                  <a:lnTo>
                    <a:pt x="1929" y="5513"/>
                  </a:lnTo>
                  <a:lnTo>
                    <a:pt x="1928" y="5500"/>
                  </a:lnTo>
                  <a:lnTo>
                    <a:pt x="1925" y="5486"/>
                  </a:lnTo>
                  <a:lnTo>
                    <a:pt x="1922" y="5472"/>
                  </a:lnTo>
                  <a:lnTo>
                    <a:pt x="1919" y="5458"/>
                  </a:lnTo>
                  <a:lnTo>
                    <a:pt x="1914" y="5443"/>
                  </a:lnTo>
                  <a:lnTo>
                    <a:pt x="1908" y="5428"/>
                  </a:lnTo>
                  <a:lnTo>
                    <a:pt x="1899" y="5409"/>
                  </a:lnTo>
                  <a:lnTo>
                    <a:pt x="1888" y="5388"/>
                  </a:lnTo>
                  <a:lnTo>
                    <a:pt x="1875" y="5366"/>
                  </a:lnTo>
                  <a:lnTo>
                    <a:pt x="1861" y="5344"/>
                  </a:lnTo>
                  <a:lnTo>
                    <a:pt x="1846" y="5322"/>
                  </a:lnTo>
                  <a:lnTo>
                    <a:pt x="1827" y="5298"/>
                  </a:lnTo>
                  <a:lnTo>
                    <a:pt x="1808" y="5273"/>
                  </a:lnTo>
                  <a:lnTo>
                    <a:pt x="1787" y="5247"/>
                  </a:lnTo>
                  <a:lnTo>
                    <a:pt x="1801" y="5212"/>
                  </a:lnTo>
                  <a:lnTo>
                    <a:pt x="2063" y="5438"/>
                  </a:lnTo>
                  <a:lnTo>
                    <a:pt x="1686" y="6371"/>
                  </a:lnTo>
                  <a:lnTo>
                    <a:pt x="1653" y="6358"/>
                  </a:lnTo>
                  <a:lnTo>
                    <a:pt x="1671" y="6315"/>
                  </a:lnTo>
                  <a:lnTo>
                    <a:pt x="1674" y="6304"/>
                  </a:lnTo>
                  <a:lnTo>
                    <a:pt x="1677" y="6293"/>
                  </a:lnTo>
                  <a:lnTo>
                    <a:pt x="1680" y="6282"/>
                  </a:lnTo>
                  <a:lnTo>
                    <a:pt x="1681" y="6271"/>
                  </a:lnTo>
                  <a:lnTo>
                    <a:pt x="1684" y="6260"/>
                  </a:lnTo>
                  <a:lnTo>
                    <a:pt x="1684" y="6248"/>
                  </a:lnTo>
                  <a:lnTo>
                    <a:pt x="1684" y="6237"/>
                  </a:lnTo>
                  <a:lnTo>
                    <a:pt x="1683" y="6225"/>
                  </a:lnTo>
                  <a:lnTo>
                    <a:pt x="1681" y="6217"/>
                  </a:lnTo>
                  <a:lnTo>
                    <a:pt x="1679" y="6209"/>
                  </a:lnTo>
                  <a:lnTo>
                    <a:pt x="1677" y="6201"/>
                  </a:lnTo>
                  <a:lnTo>
                    <a:pt x="1674" y="6194"/>
                  </a:lnTo>
                  <a:lnTo>
                    <a:pt x="1671" y="6187"/>
                  </a:lnTo>
                  <a:lnTo>
                    <a:pt x="1666" y="6181"/>
                  </a:lnTo>
                  <a:lnTo>
                    <a:pt x="1661" y="6175"/>
                  </a:lnTo>
                  <a:lnTo>
                    <a:pt x="1655" y="6170"/>
                  </a:lnTo>
                  <a:lnTo>
                    <a:pt x="1649" y="6163"/>
                  </a:lnTo>
                  <a:lnTo>
                    <a:pt x="1639" y="6158"/>
                  </a:lnTo>
                  <a:lnTo>
                    <a:pt x="1628" y="6151"/>
                  </a:lnTo>
                  <a:lnTo>
                    <a:pt x="1615" y="6144"/>
                  </a:lnTo>
                  <a:lnTo>
                    <a:pt x="1582" y="6128"/>
                  </a:lnTo>
                  <a:lnTo>
                    <a:pt x="1543" y="6112"/>
                  </a:lnTo>
                  <a:lnTo>
                    <a:pt x="756" y="5794"/>
                  </a:lnTo>
                  <a:lnTo>
                    <a:pt x="729" y="5783"/>
                  </a:lnTo>
                  <a:lnTo>
                    <a:pt x="703" y="5775"/>
                  </a:lnTo>
                  <a:lnTo>
                    <a:pt x="681" y="5768"/>
                  </a:lnTo>
                  <a:lnTo>
                    <a:pt x="661" y="5763"/>
                  </a:lnTo>
                  <a:lnTo>
                    <a:pt x="644" y="5759"/>
                  </a:lnTo>
                  <a:lnTo>
                    <a:pt x="628" y="5757"/>
                  </a:lnTo>
                  <a:lnTo>
                    <a:pt x="615" y="5758"/>
                  </a:lnTo>
                  <a:lnTo>
                    <a:pt x="605" y="5760"/>
                  </a:lnTo>
                  <a:lnTo>
                    <a:pt x="594" y="5766"/>
                  </a:lnTo>
                  <a:lnTo>
                    <a:pt x="582" y="5772"/>
                  </a:lnTo>
                  <a:lnTo>
                    <a:pt x="571" y="5781"/>
                  </a:lnTo>
                  <a:lnTo>
                    <a:pt x="561" y="5792"/>
                  </a:lnTo>
                  <a:lnTo>
                    <a:pt x="551" y="5805"/>
                  </a:lnTo>
                  <a:lnTo>
                    <a:pt x="542" y="5819"/>
                  </a:lnTo>
                  <a:lnTo>
                    <a:pt x="534" y="5834"/>
                  </a:lnTo>
                  <a:lnTo>
                    <a:pt x="526" y="5853"/>
                  </a:lnTo>
                  <a:lnTo>
                    <a:pt x="509" y="5895"/>
                  </a:lnTo>
                  <a:lnTo>
                    <a:pt x="476" y="5882"/>
                  </a:lnTo>
                  <a:lnTo>
                    <a:pt x="853" y="4949"/>
                  </a:lnTo>
                  <a:lnTo>
                    <a:pt x="1123" y="5043"/>
                  </a:lnTo>
                  <a:lnTo>
                    <a:pt x="1109" y="5078"/>
                  </a:lnTo>
                  <a:lnTo>
                    <a:pt x="1084" y="5073"/>
                  </a:lnTo>
                  <a:lnTo>
                    <a:pt x="1061" y="5070"/>
                  </a:lnTo>
                  <a:lnTo>
                    <a:pt x="1040" y="5067"/>
                  </a:lnTo>
                  <a:lnTo>
                    <a:pt x="1020" y="5066"/>
                  </a:lnTo>
                  <a:lnTo>
                    <a:pt x="1003" y="5065"/>
                  </a:lnTo>
                  <a:lnTo>
                    <a:pt x="987" y="5065"/>
                  </a:lnTo>
                  <a:lnTo>
                    <a:pt x="974" y="5065"/>
                  </a:lnTo>
                  <a:lnTo>
                    <a:pt x="962" y="5067"/>
                  </a:lnTo>
                  <a:lnTo>
                    <a:pt x="950" y="5069"/>
                  </a:lnTo>
                  <a:lnTo>
                    <a:pt x="939" y="5072"/>
                  </a:lnTo>
                  <a:lnTo>
                    <a:pt x="929" y="5077"/>
                  </a:lnTo>
                  <a:lnTo>
                    <a:pt x="918" y="5082"/>
                  </a:lnTo>
                  <a:lnTo>
                    <a:pt x="908" y="5088"/>
                  </a:lnTo>
                  <a:lnTo>
                    <a:pt x="898" y="5095"/>
                  </a:lnTo>
                  <a:lnTo>
                    <a:pt x="889" y="5103"/>
                  </a:lnTo>
                  <a:lnTo>
                    <a:pt x="879" y="5112"/>
                  </a:lnTo>
                  <a:lnTo>
                    <a:pt x="872" y="5120"/>
                  </a:lnTo>
                  <a:lnTo>
                    <a:pt x="865" y="5131"/>
                  </a:lnTo>
                  <a:lnTo>
                    <a:pt x="857" y="5143"/>
                  </a:lnTo>
                  <a:lnTo>
                    <a:pt x="849" y="5157"/>
                  </a:lnTo>
                  <a:lnTo>
                    <a:pt x="833" y="5191"/>
                  </a:lnTo>
                  <a:lnTo>
                    <a:pt x="815" y="5232"/>
                  </a:lnTo>
                  <a:lnTo>
                    <a:pt x="681" y="5564"/>
                  </a:lnTo>
                  <a:close/>
                  <a:moveTo>
                    <a:pt x="2307" y="4212"/>
                  </a:moveTo>
                  <a:lnTo>
                    <a:pt x="2031" y="4636"/>
                  </a:lnTo>
                  <a:lnTo>
                    <a:pt x="2156" y="4822"/>
                  </a:lnTo>
                  <a:lnTo>
                    <a:pt x="2167" y="4838"/>
                  </a:lnTo>
                  <a:lnTo>
                    <a:pt x="2178" y="4853"/>
                  </a:lnTo>
                  <a:lnTo>
                    <a:pt x="2188" y="4866"/>
                  </a:lnTo>
                  <a:lnTo>
                    <a:pt x="2198" y="4878"/>
                  </a:lnTo>
                  <a:lnTo>
                    <a:pt x="2207" y="4889"/>
                  </a:lnTo>
                  <a:lnTo>
                    <a:pt x="2216" y="4898"/>
                  </a:lnTo>
                  <a:lnTo>
                    <a:pt x="2225" y="4906"/>
                  </a:lnTo>
                  <a:lnTo>
                    <a:pt x="2234" y="4911"/>
                  </a:lnTo>
                  <a:lnTo>
                    <a:pt x="2240" y="4915"/>
                  </a:lnTo>
                  <a:lnTo>
                    <a:pt x="2247" y="4918"/>
                  </a:lnTo>
                  <a:lnTo>
                    <a:pt x="2253" y="4920"/>
                  </a:lnTo>
                  <a:lnTo>
                    <a:pt x="2261" y="4921"/>
                  </a:lnTo>
                  <a:lnTo>
                    <a:pt x="2268" y="4921"/>
                  </a:lnTo>
                  <a:lnTo>
                    <a:pt x="2276" y="4920"/>
                  </a:lnTo>
                  <a:lnTo>
                    <a:pt x="2284" y="4919"/>
                  </a:lnTo>
                  <a:lnTo>
                    <a:pt x="2292" y="4916"/>
                  </a:lnTo>
                  <a:lnTo>
                    <a:pt x="2301" y="4912"/>
                  </a:lnTo>
                  <a:lnTo>
                    <a:pt x="2311" y="4907"/>
                  </a:lnTo>
                  <a:lnTo>
                    <a:pt x="2322" y="4899"/>
                  </a:lnTo>
                  <a:lnTo>
                    <a:pt x="2333" y="4888"/>
                  </a:lnTo>
                  <a:lnTo>
                    <a:pt x="2345" y="4877"/>
                  </a:lnTo>
                  <a:lnTo>
                    <a:pt x="2357" y="4863"/>
                  </a:lnTo>
                  <a:lnTo>
                    <a:pt x="2371" y="4847"/>
                  </a:lnTo>
                  <a:lnTo>
                    <a:pt x="2384" y="4829"/>
                  </a:lnTo>
                  <a:lnTo>
                    <a:pt x="2414" y="4849"/>
                  </a:lnTo>
                  <a:lnTo>
                    <a:pt x="2190" y="5193"/>
                  </a:lnTo>
                  <a:lnTo>
                    <a:pt x="2161" y="5173"/>
                  </a:lnTo>
                  <a:lnTo>
                    <a:pt x="2168" y="5155"/>
                  </a:lnTo>
                  <a:lnTo>
                    <a:pt x="2174" y="5139"/>
                  </a:lnTo>
                  <a:lnTo>
                    <a:pt x="2179" y="5122"/>
                  </a:lnTo>
                  <a:lnTo>
                    <a:pt x="2183" y="5108"/>
                  </a:lnTo>
                  <a:lnTo>
                    <a:pt x="2186" y="5095"/>
                  </a:lnTo>
                  <a:lnTo>
                    <a:pt x="2187" y="5084"/>
                  </a:lnTo>
                  <a:lnTo>
                    <a:pt x="2188" y="5073"/>
                  </a:lnTo>
                  <a:lnTo>
                    <a:pt x="2187" y="5065"/>
                  </a:lnTo>
                  <a:lnTo>
                    <a:pt x="2182" y="5047"/>
                  </a:lnTo>
                  <a:lnTo>
                    <a:pt x="2176" y="5028"/>
                  </a:lnTo>
                  <a:lnTo>
                    <a:pt x="2167" y="5007"/>
                  </a:lnTo>
                  <a:lnTo>
                    <a:pt x="2156" y="4983"/>
                  </a:lnTo>
                  <a:lnTo>
                    <a:pt x="2142" y="4958"/>
                  </a:lnTo>
                  <a:lnTo>
                    <a:pt x="2127" y="4931"/>
                  </a:lnTo>
                  <a:lnTo>
                    <a:pt x="2108" y="4902"/>
                  </a:lnTo>
                  <a:lnTo>
                    <a:pt x="2089" y="4871"/>
                  </a:lnTo>
                  <a:lnTo>
                    <a:pt x="1437" y="3902"/>
                  </a:lnTo>
                  <a:lnTo>
                    <a:pt x="1456" y="3873"/>
                  </a:lnTo>
                  <a:lnTo>
                    <a:pt x="2614" y="4083"/>
                  </a:lnTo>
                  <a:lnTo>
                    <a:pt x="2647" y="4089"/>
                  </a:lnTo>
                  <a:lnTo>
                    <a:pt x="2679" y="4093"/>
                  </a:lnTo>
                  <a:lnTo>
                    <a:pt x="2707" y="4096"/>
                  </a:lnTo>
                  <a:lnTo>
                    <a:pt x="2732" y="4098"/>
                  </a:lnTo>
                  <a:lnTo>
                    <a:pt x="2756" y="4099"/>
                  </a:lnTo>
                  <a:lnTo>
                    <a:pt x="2777" y="4098"/>
                  </a:lnTo>
                  <a:lnTo>
                    <a:pt x="2795" y="4095"/>
                  </a:lnTo>
                  <a:lnTo>
                    <a:pt x="2811" y="4092"/>
                  </a:lnTo>
                  <a:lnTo>
                    <a:pt x="2825" y="4088"/>
                  </a:lnTo>
                  <a:lnTo>
                    <a:pt x="2838" y="4081"/>
                  </a:lnTo>
                  <a:lnTo>
                    <a:pt x="2852" y="4074"/>
                  </a:lnTo>
                  <a:lnTo>
                    <a:pt x="2865" y="4064"/>
                  </a:lnTo>
                  <a:lnTo>
                    <a:pt x="2878" y="4053"/>
                  </a:lnTo>
                  <a:lnTo>
                    <a:pt x="2891" y="4041"/>
                  </a:lnTo>
                  <a:lnTo>
                    <a:pt x="2903" y="4027"/>
                  </a:lnTo>
                  <a:lnTo>
                    <a:pt x="2915" y="4012"/>
                  </a:lnTo>
                  <a:lnTo>
                    <a:pt x="2945" y="4031"/>
                  </a:lnTo>
                  <a:lnTo>
                    <a:pt x="2665" y="4462"/>
                  </a:lnTo>
                  <a:lnTo>
                    <a:pt x="2635" y="4444"/>
                  </a:lnTo>
                  <a:lnTo>
                    <a:pt x="2644" y="4428"/>
                  </a:lnTo>
                  <a:lnTo>
                    <a:pt x="2652" y="4412"/>
                  </a:lnTo>
                  <a:lnTo>
                    <a:pt x="2658" y="4397"/>
                  </a:lnTo>
                  <a:lnTo>
                    <a:pt x="2664" y="4384"/>
                  </a:lnTo>
                  <a:lnTo>
                    <a:pt x="2667" y="4372"/>
                  </a:lnTo>
                  <a:lnTo>
                    <a:pt x="2669" y="4360"/>
                  </a:lnTo>
                  <a:lnTo>
                    <a:pt x="2670" y="4350"/>
                  </a:lnTo>
                  <a:lnTo>
                    <a:pt x="2670" y="4340"/>
                  </a:lnTo>
                  <a:lnTo>
                    <a:pt x="2669" y="4333"/>
                  </a:lnTo>
                  <a:lnTo>
                    <a:pt x="2667" y="4324"/>
                  </a:lnTo>
                  <a:lnTo>
                    <a:pt x="2665" y="4316"/>
                  </a:lnTo>
                  <a:lnTo>
                    <a:pt x="2662" y="4310"/>
                  </a:lnTo>
                  <a:lnTo>
                    <a:pt x="2657" y="4303"/>
                  </a:lnTo>
                  <a:lnTo>
                    <a:pt x="2652" y="4298"/>
                  </a:lnTo>
                  <a:lnTo>
                    <a:pt x="2646" y="4293"/>
                  </a:lnTo>
                  <a:lnTo>
                    <a:pt x="2640" y="4288"/>
                  </a:lnTo>
                  <a:lnTo>
                    <a:pt x="2630" y="4283"/>
                  </a:lnTo>
                  <a:lnTo>
                    <a:pt x="2618" y="4277"/>
                  </a:lnTo>
                  <a:lnTo>
                    <a:pt x="2605" y="4272"/>
                  </a:lnTo>
                  <a:lnTo>
                    <a:pt x="2589" y="4266"/>
                  </a:lnTo>
                  <a:lnTo>
                    <a:pt x="2571" y="4262"/>
                  </a:lnTo>
                  <a:lnTo>
                    <a:pt x="2552" y="4257"/>
                  </a:lnTo>
                  <a:lnTo>
                    <a:pt x="2530" y="4252"/>
                  </a:lnTo>
                  <a:lnTo>
                    <a:pt x="2507" y="4248"/>
                  </a:lnTo>
                  <a:lnTo>
                    <a:pt x="2307" y="4212"/>
                  </a:lnTo>
                  <a:close/>
                  <a:moveTo>
                    <a:pt x="2232" y="4196"/>
                  </a:moveTo>
                  <a:lnTo>
                    <a:pt x="1669" y="4094"/>
                  </a:lnTo>
                  <a:lnTo>
                    <a:pt x="1987" y="4571"/>
                  </a:lnTo>
                  <a:lnTo>
                    <a:pt x="2232" y="4196"/>
                  </a:lnTo>
                  <a:close/>
                  <a:moveTo>
                    <a:pt x="2832" y="2355"/>
                  </a:moveTo>
                  <a:lnTo>
                    <a:pt x="2809" y="2329"/>
                  </a:lnTo>
                  <a:lnTo>
                    <a:pt x="3146" y="2013"/>
                  </a:lnTo>
                  <a:lnTo>
                    <a:pt x="3171" y="2040"/>
                  </a:lnTo>
                  <a:lnTo>
                    <a:pt x="3135" y="2073"/>
                  </a:lnTo>
                  <a:lnTo>
                    <a:pt x="3122" y="2087"/>
                  </a:lnTo>
                  <a:lnTo>
                    <a:pt x="3111" y="2102"/>
                  </a:lnTo>
                  <a:lnTo>
                    <a:pt x="3107" y="2108"/>
                  </a:lnTo>
                  <a:lnTo>
                    <a:pt x="3103" y="2116"/>
                  </a:lnTo>
                  <a:lnTo>
                    <a:pt x="3099" y="2123"/>
                  </a:lnTo>
                  <a:lnTo>
                    <a:pt x="3096" y="2132"/>
                  </a:lnTo>
                  <a:lnTo>
                    <a:pt x="3094" y="2140"/>
                  </a:lnTo>
                  <a:lnTo>
                    <a:pt x="3092" y="2148"/>
                  </a:lnTo>
                  <a:lnTo>
                    <a:pt x="3091" y="2156"/>
                  </a:lnTo>
                  <a:lnTo>
                    <a:pt x="3089" y="2165"/>
                  </a:lnTo>
                  <a:lnTo>
                    <a:pt x="3089" y="2183"/>
                  </a:lnTo>
                  <a:lnTo>
                    <a:pt x="3092" y="2202"/>
                  </a:lnTo>
                  <a:lnTo>
                    <a:pt x="3095" y="2210"/>
                  </a:lnTo>
                  <a:lnTo>
                    <a:pt x="3099" y="2222"/>
                  </a:lnTo>
                  <a:lnTo>
                    <a:pt x="3106" y="2234"/>
                  </a:lnTo>
                  <a:lnTo>
                    <a:pt x="3115" y="2248"/>
                  </a:lnTo>
                  <a:lnTo>
                    <a:pt x="3125" y="2263"/>
                  </a:lnTo>
                  <a:lnTo>
                    <a:pt x="3140" y="2279"/>
                  </a:lnTo>
                  <a:lnTo>
                    <a:pt x="3155" y="2298"/>
                  </a:lnTo>
                  <a:lnTo>
                    <a:pt x="3172" y="2316"/>
                  </a:lnTo>
                  <a:lnTo>
                    <a:pt x="3533" y="2704"/>
                  </a:lnTo>
                  <a:lnTo>
                    <a:pt x="3565" y="2739"/>
                  </a:lnTo>
                  <a:lnTo>
                    <a:pt x="3595" y="2773"/>
                  </a:lnTo>
                  <a:lnTo>
                    <a:pt x="3621" y="2806"/>
                  </a:lnTo>
                  <a:lnTo>
                    <a:pt x="3645" y="2838"/>
                  </a:lnTo>
                  <a:lnTo>
                    <a:pt x="3666" y="2868"/>
                  </a:lnTo>
                  <a:lnTo>
                    <a:pt x="3684" y="2898"/>
                  </a:lnTo>
                  <a:lnTo>
                    <a:pt x="3699" y="2926"/>
                  </a:lnTo>
                  <a:lnTo>
                    <a:pt x="3712" y="2953"/>
                  </a:lnTo>
                  <a:lnTo>
                    <a:pt x="3718" y="2966"/>
                  </a:lnTo>
                  <a:lnTo>
                    <a:pt x="3722" y="2980"/>
                  </a:lnTo>
                  <a:lnTo>
                    <a:pt x="3727" y="2993"/>
                  </a:lnTo>
                  <a:lnTo>
                    <a:pt x="3730" y="3008"/>
                  </a:lnTo>
                  <a:lnTo>
                    <a:pt x="3733" y="3022"/>
                  </a:lnTo>
                  <a:lnTo>
                    <a:pt x="3735" y="3036"/>
                  </a:lnTo>
                  <a:lnTo>
                    <a:pt x="3737" y="3051"/>
                  </a:lnTo>
                  <a:lnTo>
                    <a:pt x="3739" y="3066"/>
                  </a:lnTo>
                  <a:lnTo>
                    <a:pt x="3740" y="3082"/>
                  </a:lnTo>
                  <a:lnTo>
                    <a:pt x="3740" y="3097"/>
                  </a:lnTo>
                  <a:lnTo>
                    <a:pt x="3739" y="3112"/>
                  </a:lnTo>
                  <a:lnTo>
                    <a:pt x="3737" y="3128"/>
                  </a:lnTo>
                  <a:lnTo>
                    <a:pt x="3736" y="3144"/>
                  </a:lnTo>
                  <a:lnTo>
                    <a:pt x="3733" y="3160"/>
                  </a:lnTo>
                  <a:lnTo>
                    <a:pt x="3731" y="3176"/>
                  </a:lnTo>
                  <a:lnTo>
                    <a:pt x="3727" y="3194"/>
                  </a:lnTo>
                  <a:lnTo>
                    <a:pt x="3723" y="3210"/>
                  </a:lnTo>
                  <a:lnTo>
                    <a:pt x="3718" y="3226"/>
                  </a:lnTo>
                  <a:lnTo>
                    <a:pt x="3711" y="3244"/>
                  </a:lnTo>
                  <a:lnTo>
                    <a:pt x="3705" y="3260"/>
                  </a:lnTo>
                  <a:lnTo>
                    <a:pt x="3697" y="3278"/>
                  </a:lnTo>
                  <a:lnTo>
                    <a:pt x="3688" y="3294"/>
                  </a:lnTo>
                  <a:lnTo>
                    <a:pt x="3679" y="3311"/>
                  </a:lnTo>
                  <a:lnTo>
                    <a:pt x="3668" y="3328"/>
                  </a:lnTo>
                  <a:lnTo>
                    <a:pt x="3657" y="3344"/>
                  </a:lnTo>
                  <a:lnTo>
                    <a:pt x="3645" y="3361"/>
                  </a:lnTo>
                  <a:lnTo>
                    <a:pt x="3632" y="3378"/>
                  </a:lnTo>
                  <a:lnTo>
                    <a:pt x="3618" y="3395"/>
                  </a:lnTo>
                  <a:lnTo>
                    <a:pt x="3602" y="3412"/>
                  </a:lnTo>
                  <a:lnTo>
                    <a:pt x="3587" y="3428"/>
                  </a:lnTo>
                  <a:lnTo>
                    <a:pt x="3571" y="3445"/>
                  </a:lnTo>
                  <a:lnTo>
                    <a:pt x="3553" y="3462"/>
                  </a:lnTo>
                  <a:lnTo>
                    <a:pt x="3534" y="3479"/>
                  </a:lnTo>
                  <a:lnTo>
                    <a:pt x="3514" y="3497"/>
                  </a:lnTo>
                  <a:lnTo>
                    <a:pt x="3495" y="3512"/>
                  </a:lnTo>
                  <a:lnTo>
                    <a:pt x="3476" y="3527"/>
                  </a:lnTo>
                  <a:lnTo>
                    <a:pt x="3458" y="3541"/>
                  </a:lnTo>
                  <a:lnTo>
                    <a:pt x="3439" y="3553"/>
                  </a:lnTo>
                  <a:lnTo>
                    <a:pt x="3421" y="3565"/>
                  </a:lnTo>
                  <a:lnTo>
                    <a:pt x="3403" y="3576"/>
                  </a:lnTo>
                  <a:lnTo>
                    <a:pt x="3385" y="3587"/>
                  </a:lnTo>
                  <a:lnTo>
                    <a:pt x="3367" y="3596"/>
                  </a:lnTo>
                  <a:lnTo>
                    <a:pt x="3350" y="3603"/>
                  </a:lnTo>
                  <a:lnTo>
                    <a:pt x="3332" y="3610"/>
                  </a:lnTo>
                  <a:lnTo>
                    <a:pt x="3315" y="3616"/>
                  </a:lnTo>
                  <a:lnTo>
                    <a:pt x="3299" y="3622"/>
                  </a:lnTo>
                  <a:lnTo>
                    <a:pt x="3281" y="3625"/>
                  </a:lnTo>
                  <a:lnTo>
                    <a:pt x="3265" y="3628"/>
                  </a:lnTo>
                  <a:lnTo>
                    <a:pt x="3248" y="3630"/>
                  </a:lnTo>
                  <a:lnTo>
                    <a:pt x="3232" y="3633"/>
                  </a:lnTo>
                  <a:lnTo>
                    <a:pt x="3216" y="3634"/>
                  </a:lnTo>
                  <a:lnTo>
                    <a:pt x="3201" y="3635"/>
                  </a:lnTo>
                  <a:lnTo>
                    <a:pt x="3184" y="3634"/>
                  </a:lnTo>
                  <a:lnTo>
                    <a:pt x="3168" y="3634"/>
                  </a:lnTo>
                  <a:lnTo>
                    <a:pt x="3153" y="3632"/>
                  </a:lnTo>
                  <a:lnTo>
                    <a:pt x="3136" y="3629"/>
                  </a:lnTo>
                  <a:lnTo>
                    <a:pt x="3121" y="3627"/>
                  </a:lnTo>
                  <a:lnTo>
                    <a:pt x="3106" y="3624"/>
                  </a:lnTo>
                  <a:lnTo>
                    <a:pt x="3091" y="3620"/>
                  </a:lnTo>
                  <a:lnTo>
                    <a:pt x="3074" y="3615"/>
                  </a:lnTo>
                  <a:lnTo>
                    <a:pt x="3059" y="3610"/>
                  </a:lnTo>
                  <a:lnTo>
                    <a:pt x="3045" y="3604"/>
                  </a:lnTo>
                  <a:lnTo>
                    <a:pt x="3030" y="3598"/>
                  </a:lnTo>
                  <a:lnTo>
                    <a:pt x="3014" y="3590"/>
                  </a:lnTo>
                  <a:lnTo>
                    <a:pt x="2993" y="3577"/>
                  </a:lnTo>
                  <a:lnTo>
                    <a:pt x="2969" y="3561"/>
                  </a:lnTo>
                  <a:lnTo>
                    <a:pt x="2942" y="3540"/>
                  </a:lnTo>
                  <a:lnTo>
                    <a:pt x="2913" y="3516"/>
                  </a:lnTo>
                  <a:lnTo>
                    <a:pt x="2881" y="3487"/>
                  </a:lnTo>
                  <a:lnTo>
                    <a:pt x="2848" y="3454"/>
                  </a:lnTo>
                  <a:lnTo>
                    <a:pt x="2812" y="3417"/>
                  </a:lnTo>
                  <a:lnTo>
                    <a:pt x="2773" y="3376"/>
                  </a:lnTo>
                  <a:lnTo>
                    <a:pt x="2424" y="3003"/>
                  </a:lnTo>
                  <a:lnTo>
                    <a:pt x="2405" y="2983"/>
                  </a:lnTo>
                  <a:lnTo>
                    <a:pt x="2386" y="2964"/>
                  </a:lnTo>
                  <a:lnTo>
                    <a:pt x="2367" y="2949"/>
                  </a:lnTo>
                  <a:lnTo>
                    <a:pt x="2350" y="2936"/>
                  </a:lnTo>
                  <a:lnTo>
                    <a:pt x="2335" y="2925"/>
                  </a:lnTo>
                  <a:lnTo>
                    <a:pt x="2320" y="2917"/>
                  </a:lnTo>
                  <a:lnTo>
                    <a:pt x="2312" y="2915"/>
                  </a:lnTo>
                  <a:lnTo>
                    <a:pt x="2305" y="2913"/>
                  </a:lnTo>
                  <a:lnTo>
                    <a:pt x="2299" y="2911"/>
                  </a:lnTo>
                  <a:lnTo>
                    <a:pt x="2292" y="2910"/>
                  </a:lnTo>
                  <a:lnTo>
                    <a:pt x="2280" y="2910"/>
                  </a:lnTo>
                  <a:lnTo>
                    <a:pt x="2267" y="2911"/>
                  </a:lnTo>
                  <a:lnTo>
                    <a:pt x="2254" y="2914"/>
                  </a:lnTo>
                  <a:lnTo>
                    <a:pt x="2242" y="2919"/>
                  </a:lnTo>
                  <a:lnTo>
                    <a:pt x="2229" y="2926"/>
                  </a:lnTo>
                  <a:lnTo>
                    <a:pt x="2215" y="2934"/>
                  </a:lnTo>
                  <a:lnTo>
                    <a:pt x="2202" y="2944"/>
                  </a:lnTo>
                  <a:lnTo>
                    <a:pt x="2189" y="2955"/>
                  </a:lnTo>
                  <a:lnTo>
                    <a:pt x="2153" y="2989"/>
                  </a:lnTo>
                  <a:lnTo>
                    <a:pt x="2128" y="2963"/>
                  </a:lnTo>
                  <a:lnTo>
                    <a:pt x="2541" y="2579"/>
                  </a:lnTo>
                  <a:lnTo>
                    <a:pt x="2566" y="2605"/>
                  </a:lnTo>
                  <a:lnTo>
                    <a:pt x="2529" y="2638"/>
                  </a:lnTo>
                  <a:lnTo>
                    <a:pt x="2515" y="2653"/>
                  </a:lnTo>
                  <a:lnTo>
                    <a:pt x="2504" y="2667"/>
                  </a:lnTo>
                  <a:lnTo>
                    <a:pt x="2494" y="2681"/>
                  </a:lnTo>
                  <a:lnTo>
                    <a:pt x="2486" y="2695"/>
                  </a:lnTo>
                  <a:lnTo>
                    <a:pt x="2482" y="2710"/>
                  </a:lnTo>
                  <a:lnTo>
                    <a:pt x="2479" y="2724"/>
                  </a:lnTo>
                  <a:lnTo>
                    <a:pt x="2477" y="2732"/>
                  </a:lnTo>
                  <a:lnTo>
                    <a:pt x="2477" y="2740"/>
                  </a:lnTo>
                  <a:lnTo>
                    <a:pt x="2477" y="2747"/>
                  </a:lnTo>
                  <a:lnTo>
                    <a:pt x="2479" y="2755"/>
                  </a:lnTo>
                  <a:lnTo>
                    <a:pt x="2482" y="2766"/>
                  </a:lnTo>
                  <a:lnTo>
                    <a:pt x="2486" y="2778"/>
                  </a:lnTo>
                  <a:lnTo>
                    <a:pt x="2493" y="2792"/>
                  </a:lnTo>
                  <a:lnTo>
                    <a:pt x="2503" y="2806"/>
                  </a:lnTo>
                  <a:lnTo>
                    <a:pt x="2513" y="2822"/>
                  </a:lnTo>
                  <a:lnTo>
                    <a:pt x="2526" y="2839"/>
                  </a:lnTo>
                  <a:lnTo>
                    <a:pt x="2542" y="2857"/>
                  </a:lnTo>
                  <a:lnTo>
                    <a:pt x="2560" y="2877"/>
                  </a:lnTo>
                  <a:lnTo>
                    <a:pt x="2948" y="3293"/>
                  </a:lnTo>
                  <a:lnTo>
                    <a:pt x="2975" y="3321"/>
                  </a:lnTo>
                  <a:lnTo>
                    <a:pt x="3006" y="3350"/>
                  </a:lnTo>
                  <a:lnTo>
                    <a:pt x="3039" y="3380"/>
                  </a:lnTo>
                  <a:lnTo>
                    <a:pt x="3076" y="3410"/>
                  </a:lnTo>
                  <a:lnTo>
                    <a:pt x="3096" y="3426"/>
                  </a:lnTo>
                  <a:lnTo>
                    <a:pt x="3115" y="3439"/>
                  </a:lnTo>
                  <a:lnTo>
                    <a:pt x="3133" y="3451"/>
                  </a:lnTo>
                  <a:lnTo>
                    <a:pt x="3150" y="3462"/>
                  </a:lnTo>
                  <a:lnTo>
                    <a:pt x="3168" y="3470"/>
                  </a:lnTo>
                  <a:lnTo>
                    <a:pt x="3185" y="3478"/>
                  </a:lnTo>
                  <a:lnTo>
                    <a:pt x="3202" y="3483"/>
                  </a:lnTo>
                  <a:lnTo>
                    <a:pt x="3218" y="3488"/>
                  </a:lnTo>
                  <a:lnTo>
                    <a:pt x="3234" y="3491"/>
                  </a:lnTo>
                  <a:lnTo>
                    <a:pt x="3251" y="3493"/>
                  </a:lnTo>
                  <a:lnTo>
                    <a:pt x="3268" y="3494"/>
                  </a:lnTo>
                  <a:lnTo>
                    <a:pt x="3284" y="3494"/>
                  </a:lnTo>
                  <a:lnTo>
                    <a:pt x="3302" y="3493"/>
                  </a:lnTo>
                  <a:lnTo>
                    <a:pt x="3320" y="3491"/>
                  </a:lnTo>
                  <a:lnTo>
                    <a:pt x="3339" y="3487"/>
                  </a:lnTo>
                  <a:lnTo>
                    <a:pt x="3357" y="3482"/>
                  </a:lnTo>
                  <a:lnTo>
                    <a:pt x="3376" y="3477"/>
                  </a:lnTo>
                  <a:lnTo>
                    <a:pt x="3394" y="3469"/>
                  </a:lnTo>
                  <a:lnTo>
                    <a:pt x="3413" y="3461"/>
                  </a:lnTo>
                  <a:lnTo>
                    <a:pt x="3431" y="3450"/>
                  </a:lnTo>
                  <a:lnTo>
                    <a:pt x="3450" y="3438"/>
                  </a:lnTo>
                  <a:lnTo>
                    <a:pt x="3468" y="3425"/>
                  </a:lnTo>
                  <a:lnTo>
                    <a:pt x="3487" y="3409"/>
                  </a:lnTo>
                  <a:lnTo>
                    <a:pt x="3504" y="3393"/>
                  </a:lnTo>
                  <a:lnTo>
                    <a:pt x="3527" y="3371"/>
                  </a:lnTo>
                  <a:lnTo>
                    <a:pt x="3548" y="3348"/>
                  </a:lnTo>
                  <a:lnTo>
                    <a:pt x="3566" y="3324"/>
                  </a:lnTo>
                  <a:lnTo>
                    <a:pt x="3584" y="3300"/>
                  </a:lnTo>
                  <a:lnTo>
                    <a:pt x="3599" y="3275"/>
                  </a:lnTo>
                  <a:lnTo>
                    <a:pt x="3612" y="3249"/>
                  </a:lnTo>
                  <a:lnTo>
                    <a:pt x="3624" y="3223"/>
                  </a:lnTo>
                  <a:lnTo>
                    <a:pt x="3634" y="3196"/>
                  </a:lnTo>
                  <a:lnTo>
                    <a:pt x="3642" y="3169"/>
                  </a:lnTo>
                  <a:lnTo>
                    <a:pt x="3648" y="3143"/>
                  </a:lnTo>
                  <a:lnTo>
                    <a:pt x="3651" y="3116"/>
                  </a:lnTo>
                  <a:lnTo>
                    <a:pt x="3654" y="3091"/>
                  </a:lnTo>
                  <a:lnTo>
                    <a:pt x="3653" y="3067"/>
                  </a:lnTo>
                  <a:lnTo>
                    <a:pt x="3650" y="3044"/>
                  </a:lnTo>
                  <a:lnTo>
                    <a:pt x="3648" y="3032"/>
                  </a:lnTo>
                  <a:lnTo>
                    <a:pt x="3645" y="3020"/>
                  </a:lnTo>
                  <a:lnTo>
                    <a:pt x="3642" y="3009"/>
                  </a:lnTo>
                  <a:lnTo>
                    <a:pt x="3638" y="2998"/>
                  </a:lnTo>
                  <a:lnTo>
                    <a:pt x="3629" y="2974"/>
                  </a:lnTo>
                  <a:lnTo>
                    <a:pt x="3614" y="2949"/>
                  </a:lnTo>
                  <a:lnTo>
                    <a:pt x="3598" y="2922"/>
                  </a:lnTo>
                  <a:lnTo>
                    <a:pt x="3578" y="2893"/>
                  </a:lnTo>
                  <a:lnTo>
                    <a:pt x="3554" y="2862"/>
                  </a:lnTo>
                  <a:lnTo>
                    <a:pt x="3528" y="2829"/>
                  </a:lnTo>
                  <a:lnTo>
                    <a:pt x="3498" y="2793"/>
                  </a:lnTo>
                  <a:lnTo>
                    <a:pt x="3464" y="2756"/>
                  </a:lnTo>
                  <a:lnTo>
                    <a:pt x="3104" y="2369"/>
                  </a:lnTo>
                  <a:lnTo>
                    <a:pt x="3083" y="2349"/>
                  </a:lnTo>
                  <a:lnTo>
                    <a:pt x="3064" y="2330"/>
                  </a:lnTo>
                  <a:lnTo>
                    <a:pt x="3047" y="2315"/>
                  </a:lnTo>
                  <a:lnTo>
                    <a:pt x="3031" y="2302"/>
                  </a:lnTo>
                  <a:lnTo>
                    <a:pt x="3015" y="2291"/>
                  </a:lnTo>
                  <a:lnTo>
                    <a:pt x="3002" y="2283"/>
                  </a:lnTo>
                  <a:lnTo>
                    <a:pt x="2990" y="2279"/>
                  </a:lnTo>
                  <a:lnTo>
                    <a:pt x="2980" y="2277"/>
                  </a:lnTo>
                  <a:lnTo>
                    <a:pt x="2965" y="2276"/>
                  </a:lnTo>
                  <a:lnTo>
                    <a:pt x="2951" y="2277"/>
                  </a:lnTo>
                  <a:lnTo>
                    <a:pt x="2937" y="2280"/>
                  </a:lnTo>
                  <a:lnTo>
                    <a:pt x="2924" y="2286"/>
                  </a:lnTo>
                  <a:lnTo>
                    <a:pt x="2910" y="2292"/>
                  </a:lnTo>
                  <a:lnTo>
                    <a:pt x="2896" y="2300"/>
                  </a:lnTo>
                  <a:lnTo>
                    <a:pt x="2883" y="2310"/>
                  </a:lnTo>
                  <a:lnTo>
                    <a:pt x="2868" y="2322"/>
                  </a:lnTo>
                  <a:lnTo>
                    <a:pt x="2832" y="2355"/>
                  </a:lnTo>
                  <a:close/>
                  <a:moveTo>
                    <a:pt x="4493" y="1067"/>
                  </a:moveTo>
                  <a:lnTo>
                    <a:pt x="4522" y="1053"/>
                  </a:lnTo>
                  <a:lnTo>
                    <a:pt x="4550" y="1040"/>
                  </a:lnTo>
                  <a:lnTo>
                    <a:pt x="4578" y="1028"/>
                  </a:lnTo>
                  <a:lnTo>
                    <a:pt x="4606" y="1018"/>
                  </a:lnTo>
                  <a:lnTo>
                    <a:pt x="4636" y="1011"/>
                  </a:lnTo>
                  <a:lnTo>
                    <a:pt x="4665" y="1004"/>
                  </a:lnTo>
                  <a:lnTo>
                    <a:pt x="4695" y="999"/>
                  </a:lnTo>
                  <a:lnTo>
                    <a:pt x="4724" y="994"/>
                  </a:lnTo>
                  <a:lnTo>
                    <a:pt x="4755" y="993"/>
                  </a:lnTo>
                  <a:lnTo>
                    <a:pt x="4785" y="992"/>
                  </a:lnTo>
                  <a:lnTo>
                    <a:pt x="4816" y="993"/>
                  </a:lnTo>
                  <a:lnTo>
                    <a:pt x="4846" y="996"/>
                  </a:lnTo>
                  <a:lnTo>
                    <a:pt x="4878" y="1001"/>
                  </a:lnTo>
                  <a:lnTo>
                    <a:pt x="4909" y="1006"/>
                  </a:lnTo>
                  <a:lnTo>
                    <a:pt x="4941" y="1014"/>
                  </a:lnTo>
                  <a:lnTo>
                    <a:pt x="4972" y="1022"/>
                  </a:lnTo>
                  <a:lnTo>
                    <a:pt x="5004" y="1033"/>
                  </a:lnTo>
                  <a:lnTo>
                    <a:pt x="5034" y="1045"/>
                  </a:lnTo>
                  <a:lnTo>
                    <a:pt x="5065" y="1058"/>
                  </a:lnTo>
                  <a:lnTo>
                    <a:pt x="5093" y="1073"/>
                  </a:lnTo>
                  <a:lnTo>
                    <a:pt x="5122" y="1089"/>
                  </a:lnTo>
                  <a:lnTo>
                    <a:pt x="5149" y="1106"/>
                  </a:lnTo>
                  <a:lnTo>
                    <a:pt x="5175" y="1125"/>
                  </a:lnTo>
                  <a:lnTo>
                    <a:pt x="5200" y="1144"/>
                  </a:lnTo>
                  <a:lnTo>
                    <a:pt x="5224" y="1166"/>
                  </a:lnTo>
                  <a:lnTo>
                    <a:pt x="5248" y="1189"/>
                  </a:lnTo>
                  <a:lnTo>
                    <a:pt x="5270" y="1213"/>
                  </a:lnTo>
                  <a:lnTo>
                    <a:pt x="5291" y="1238"/>
                  </a:lnTo>
                  <a:lnTo>
                    <a:pt x="5312" y="1265"/>
                  </a:lnTo>
                  <a:lnTo>
                    <a:pt x="5332" y="1294"/>
                  </a:lnTo>
                  <a:lnTo>
                    <a:pt x="5351" y="1323"/>
                  </a:lnTo>
                  <a:lnTo>
                    <a:pt x="5369" y="1354"/>
                  </a:lnTo>
                  <a:lnTo>
                    <a:pt x="5386" y="1386"/>
                  </a:lnTo>
                  <a:lnTo>
                    <a:pt x="5401" y="1419"/>
                  </a:lnTo>
                  <a:lnTo>
                    <a:pt x="5416" y="1452"/>
                  </a:lnTo>
                  <a:lnTo>
                    <a:pt x="5428" y="1484"/>
                  </a:lnTo>
                  <a:lnTo>
                    <a:pt x="5438" y="1517"/>
                  </a:lnTo>
                  <a:lnTo>
                    <a:pt x="5447" y="1550"/>
                  </a:lnTo>
                  <a:lnTo>
                    <a:pt x="5454" y="1582"/>
                  </a:lnTo>
                  <a:lnTo>
                    <a:pt x="5460" y="1615"/>
                  </a:lnTo>
                  <a:lnTo>
                    <a:pt x="5464" y="1648"/>
                  </a:lnTo>
                  <a:lnTo>
                    <a:pt x="5466" y="1680"/>
                  </a:lnTo>
                  <a:lnTo>
                    <a:pt x="5466" y="1713"/>
                  </a:lnTo>
                  <a:lnTo>
                    <a:pt x="5465" y="1746"/>
                  </a:lnTo>
                  <a:lnTo>
                    <a:pt x="5462" y="1778"/>
                  </a:lnTo>
                  <a:lnTo>
                    <a:pt x="5458" y="1811"/>
                  </a:lnTo>
                  <a:lnTo>
                    <a:pt x="5452" y="1844"/>
                  </a:lnTo>
                  <a:lnTo>
                    <a:pt x="5444" y="1876"/>
                  </a:lnTo>
                  <a:lnTo>
                    <a:pt x="5434" y="1909"/>
                  </a:lnTo>
                  <a:lnTo>
                    <a:pt x="5424" y="1940"/>
                  </a:lnTo>
                  <a:lnTo>
                    <a:pt x="5412" y="1971"/>
                  </a:lnTo>
                  <a:lnTo>
                    <a:pt x="5399" y="1999"/>
                  </a:lnTo>
                  <a:lnTo>
                    <a:pt x="5385" y="2028"/>
                  </a:lnTo>
                  <a:lnTo>
                    <a:pt x="5369" y="2055"/>
                  </a:lnTo>
                  <a:lnTo>
                    <a:pt x="5352" y="2081"/>
                  </a:lnTo>
                  <a:lnTo>
                    <a:pt x="5334" y="2106"/>
                  </a:lnTo>
                  <a:lnTo>
                    <a:pt x="5314" y="2130"/>
                  </a:lnTo>
                  <a:lnTo>
                    <a:pt x="5294" y="2153"/>
                  </a:lnTo>
                  <a:lnTo>
                    <a:pt x="5272" y="2175"/>
                  </a:lnTo>
                  <a:lnTo>
                    <a:pt x="5248" y="2195"/>
                  </a:lnTo>
                  <a:lnTo>
                    <a:pt x="5223" y="2216"/>
                  </a:lnTo>
                  <a:lnTo>
                    <a:pt x="5198" y="2234"/>
                  </a:lnTo>
                  <a:lnTo>
                    <a:pt x="5171" y="2252"/>
                  </a:lnTo>
                  <a:lnTo>
                    <a:pt x="5142" y="2268"/>
                  </a:lnTo>
                  <a:lnTo>
                    <a:pt x="5112" y="2285"/>
                  </a:lnTo>
                  <a:lnTo>
                    <a:pt x="5082" y="2298"/>
                  </a:lnTo>
                  <a:lnTo>
                    <a:pt x="5053" y="2311"/>
                  </a:lnTo>
                  <a:lnTo>
                    <a:pt x="5022" y="2320"/>
                  </a:lnTo>
                  <a:lnTo>
                    <a:pt x="4993" y="2330"/>
                  </a:lnTo>
                  <a:lnTo>
                    <a:pt x="4963" y="2337"/>
                  </a:lnTo>
                  <a:lnTo>
                    <a:pt x="4932" y="2343"/>
                  </a:lnTo>
                  <a:lnTo>
                    <a:pt x="4902" y="2347"/>
                  </a:lnTo>
                  <a:lnTo>
                    <a:pt x="4871" y="2349"/>
                  </a:lnTo>
                  <a:lnTo>
                    <a:pt x="4841" y="2350"/>
                  </a:lnTo>
                  <a:lnTo>
                    <a:pt x="4809" y="2349"/>
                  </a:lnTo>
                  <a:lnTo>
                    <a:pt x="4779" y="2347"/>
                  </a:lnTo>
                  <a:lnTo>
                    <a:pt x="4747" y="2342"/>
                  </a:lnTo>
                  <a:lnTo>
                    <a:pt x="4715" y="2337"/>
                  </a:lnTo>
                  <a:lnTo>
                    <a:pt x="4685" y="2329"/>
                  </a:lnTo>
                  <a:lnTo>
                    <a:pt x="4653" y="2320"/>
                  </a:lnTo>
                  <a:lnTo>
                    <a:pt x="4622" y="2310"/>
                  </a:lnTo>
                  <a:lnTo>
                    <a:pt x="4591" y="2298"/>
                  </a:lnTo>
                  <a:lnTo>
                    <a:pt x="4562" y="2285"/>
                  </a:lnTo>
                  <a:lnTo>
                    <a:pt x="4532" y="2269"/>
                  </a:lnTo>
                  <a:lnTo>
                    <a:pt x="4505" y="2253"/>
                  </a:lnTo>
                  <a:lnTo>
                    <a:pt x="4478" y="2236"/>
                  </a:lnTo>
                  <a:lnTo>
                    <a:pt x="4452" y="2216"/>
                  </a:lnTo>
                  <a:lnTo>
                    <a:pt x="4426" y="2195"/>
                  </a:lnTo>
                  <a:lnTo>
                    <a:pt x="4402" y="2172"/>
                  </a:lnTo>
                  <a:lnTo>
                    <a:pt x="4378" y="2150"/>
                  </a:lnTo>
                  <a:lnTo>
                    <a:pt x="4355" y="2123"/>
                  </a:lnTo>
                  <a:lnTo>
                    <a:pt x="4332" y="2097"/>
                  </a:lnTo>
                  <a:lnTo>
                    <a:pt x="4311" y="2069"/>
                  </a:lnTo>
                  <a:lnTo>
                    <a:pt x="4291" y="2040"/>
                  </a:lnTo>
                  <a:lnTo>
                    <a:pt x="4271" y="2008"/>
                  </a:lnTo>
                  <a:lnTo>
                    <a:pt x="4253" y="1976"/>
                  </a:lnTo>
                  <a:lnTo>
                    <a:pt x="4234" y="1942"/>
                  </a:lnTo>
                  <a:lnTo>
                    <a:pt x="4218" y="1908"/>
                  </a:lnTo>
                  <a:lnTo>
                    <a:pt x="4204" y="1874"/>
                  </a:lnTo>
                  <a:lnTo>
                    <a:pt x="4192" y="1840"/>
                  </a:lnTo>
                  <a:lnTo>
                    <a:pt x="4182" y="1805"/>
                  </a:lnTo>
                  <a:lnTo>
                    <a:pt x="4173" y="1772"/>
                  </a:lnTo>
                  <a:lnTo>
                    <a:pt x="4167" y="1738"/>
                  </a:lnTo>
                  <a:lnTo>
                    <a:pt x="4161" y="1703"/>
                  </a:lnTo>
                  <a:lnTo>
                    <a:pt x="4159" y="1669"/>
                  </a:lnTo>
                  <a:lnTo>
                    <a:pt x="4158" y="1636"/>
                  </a:lnTo>
                  <a:lnTo>
                    <a:pt x="4159" y="1601"/>
                  </a:lnTo>
                  <a:lnTo>
                    <a:pt x="4161" y="1567"/>
                  </a:lnTo>
                  <a:lnTo>
                    <a:pt x="4167" y="1532"/>
                  </a:lnTo>
                  <a:lnTo>
                    <a:pt x="4173" y="1498"/>
                  </a:lnTo>
                  <a:lnTo>
                    <a:pt x="4181" y="1464"/>
                  </a:lnTo>
                  <a:lnTo>
                    <a:pt x="4192" y="1430"/>
                  </a:lnTo>
                  <a:lnTo>
                    <a:pt x="4201" y="1400"/>
                  </a:lnTo>
                  <a:lnTo>
                    <a:pt x="4213" y="1372"/>
                  </a:lnTo>
                  <a:lnTo>
                    <a:pt x="4225" y="1345"/>
                  </a:lnTo>
                  <a:lnTo>
                    <a:pt x="4239" y="1318"/>
                  </a:lnTo>
                  <a:lnTo>
                    <a:pt x="4255" y="1291"/>
                  </a:lnTo>
                  <a:lnTo>
                    <a:pt x="4271" y="1267"/>
                  </a:lnTo>
                  <a:lnTo>
                    <a:pt x="4287" y="1244"/>
                  </a:lnTo>
                  <a:lnTo>
                    <a:pt x="4306" y="1220"/>
                  </a:lnTo>
                  <a:lnTo>
                    <a:pt x="4326" y="1198"/>
                  </a:lnTo>
                  <a:lnTo>
                    <a:pt x="4346" y="1176"/>
                  </a:lnTo>
                  <a:lnTo>
                    <a:pt x="4368" y="1156"/>
                  </a:lnTo>
                  <a:lnTo>
                    <a:pt x="4391" y="1137"/>
                  </a:lnTo>
                  <a:lnTo>
                    <a:pt x="4415" y="1118"/>
                  </a:lnTo>
                  <a:lnTo>
                    <a:pt x="4440" y="1100"/>
                  </a:lnTo>
                  <a:lnTo>
                    <a:pt x="4466" y="1083"/>
                  </a:lnTo>
                  <a:lnTo>
                    <a:pt x="4493" y="1067"/>
                  </a:lnTo>
                  <a:close/>
                  <a:moveTo>
                    <a:pt x="4512" y="1138"/>
                  </a:moveTo>
                  <a:lnTo>
                    <a:pt x="4493" y="1149"/>
                  </a:lnTo>
                  <a:lnTo>
                    <a:pt x="4475" y="1160"/>
                  </a:lnTo>
                  <a:lnTo>
                    <a:pt x="4458" y="1173"/>
                  </a:lnTo>
                  <a:lnTo>
                    <a:pt x="4443" y="1185"/>
                  </a:lnTo>
                  <a:lnTo>
                    <a:pt x="4428" y="1199"/>
                  </a:lnTo>
                  <a:lnTo>
                    <a:pt x="4414" y="1213"/>
                  </a:lnTo>
                  <a:lnTo>
                    <a:pt x="4401" y="1227"/>
                  </a:lnTo>
                  <a:lnTo>
                    <a:pt x="4389" y="1242"/>
                  </a:lnTo>
                  <a:lnTo>
                    <a:pt x="4378" y="1259"/>
                  </a:lnTo>
                  <a:lnTo>
                    <a:pt x="4368" y="1275"/>
                  </a:lnTo>
                  <a:lnTo>
                    <a:pt x="4359" y="1293"/>
                  </a:lnTo>
                  <a:lnTo>
                    <a:pt x="4352" y="1310"/>
                  </a:lnTo>
                  <a:lnTo>
                    <a:pt x="4344" y="1328"/>
                  </a:lnTo>
                  <a:lnTo>
                    <a:pt x="4337" y="1348"/>
                  </a:lnTo>
                  <a:lnTo>
                    <a:pt x="4333" y="1368"/>
                  </a:lnTo>
                  <a:lnTo>
                    <a:pt x="4329" y="1387"/>
                  </a:lnTo>
                  <a:lnTo>
                    <a:pt x="4324" y="1413"/>
                  </a:lnTo>
                  <a:lnTo>
                    <a:pt x="4322" y="1440"/>
                  </a:lnTo>
                  <a:lnTo>
                    <a:pt x="4321" y="1467"/>
                  </a:lnTo>
                  <a:lnTo>
                    <a:pt x="4322" y="1494"/>
                  </a:lnTo>
                  <a:lnTo>
                    <a:pt x="4324" y="1522"/>
                  </a:lnTo>
                  <a:lnTo>
                    <a:pt x="4328" y="1551"/>
                  </a:lnTo>
                  <a:lnTo>
                    <a:pt x="4332" y="1580"/>
                  </a:lnTo>
                  <a:lnTo>
                    <a:pt x="4339" y="1609"/>
                  </a:lnTo>
                  <a:lnTo>
                    <a:pt x="4346" y="1640"/>
                  </a:lnTo>
                  <a:lnTo>
                    <a:pt x="4356" y="1670"/>
                  </a:lnTo>
                  <a:lnTo>
                    <a:pt x="4367" y="1702"/>
                  </a:lnTo>
                  <a:lnTo>
                    <a:pt x="4379" y="1734"/>
                  </a:lnTo>
                  <a:lnTo>
                    <a:pt x="4393" y="1765"/>
                  </a:lnTo>
                  <a:lnTo>
                    <a:pt x="4408" y="1799"/>
                  </a:lnTo>
                  <a:lnTo>
                    <a:pt x="4425" y="1832"/>
                  </a:lnTo>
                  <a:lnTo>
                    <a:pt x="4443" y="1865"/>
                  </a:lnTo>
                  <a:lnTo>
                    <a:pt x="4463" y="1900"/>
                  </a:lnTo>
                  <a:lnTo>
                    <a:pt x="4482" y="1933"/>
                  </a:lnTo>
                  <a:lnTo>
                    <a:pt x="4503" y="1963"/>
                  </a:lnTo>
                  <a:lnTo>
                    <a:pt x="4524" y="1993"/>
                  </a:lnTo>
                  <a:lnTo>
                    <a:pt x="4544" y="2021"/>
                  </a:lnTo>
                  <a:lnTo>
                    <a:pt x="4566" y="2048"/>
                  </a:lnTo>
                  <a:lnTo>
                    <a:pt x="4588" y="2073"/>
                  </a:lnTo>
                  <a:lnTo>
                    <a:pt x="4610" y="2096"/>
                  </a:lnTo>
                  <a:lnTo>
                    <a:pt x="4633" y="2118"/>
                  </a:lnTo>
                  <a:lnTo>
                    <a:pt x="4655" y="2139"/>
                  </a:lnTo>
                  <a:lnTo>
                    <a:pt x="4678" y="2158"/>
                  </a:lnTo>
                  <a:lnTo>
                    <a:pt x="4702" y="2176"/>
                  </a:lnTo>
                  <a:lnTo>
                    <a:pt x="4726" y="2191"/>
                  </a:lnTo>
                  <a:lnTo>
                    <a:pt x="4751" y="2205"/>
                  </a:lnTo>
                  <a:lnTo>
                    <a:pt x="4776" y="2218"/>
                  </a:lnTo>
                  <a:lnTo>
                    <a:pt x="4801" y="2229"/>
                  </a:lnTo>
                  <a:lnTo>
                    <a:pt x="4820" y="2237"/>
                  </a:lnTo>
                  <a:lnTo>
                    <a:pt x="4840" y="2243"/>
                  </a:lnTo>
                  <a:lnTo>
                    <a:pt x="4859" y="2249"/>
                  </a:lnTo>
                  <a:lnTo>
                    <a:pt x="4879" y="2252"/>
                  </a:lnTo>
                  <a:lnTo>
                    <a:pt x="4897" y="2255"/>
                  </a:lnTo>
                  <a:lnTo>
                    <a:pt x="4917" y="2256"/>
                  </a:lnTo>
                  <a:lnTo>
                    <a:pt x="4936" y="2257"/>
                  </a:lnTo>
                  <a:lnTo>
                    <a:pt x="4955" y="2256"/>
                  </a:lnTo>
                  <a:lnTo>
                    <a:pt x="4975" y="2255"/>
                  </a:lnTo>
                  <a:lnTo>
                    <a:pt x="4993" y="2252"/>
                  </a:lnTo>
                  <a:lnTo>
                    <a:pt x="5013" y="2248"/>
                  </a:lnTo>
                  <a:lnTo>
                    <a:pt x="5031" y="2242"/>
                  </a:lnTo>
                  <a:lnTo>
                    <a:pt x="5051" y="2236"/>
                  </a:lnTo>
                  <a:lnTo>
                    <a:pt x="5069" y="2228"/>
                  </a:lnTo>
                  <a:lnTo>
                    <a:pt x="5088" y="2219"/>
                  </a:lnTo>
                  <a:lnTo>
                    <a:pt x="5107" y="2209"/>
                  </a:lnTo>
                  <a:lnTo>
                    <a:pt x="5127" y="2199"/>
                  </a:lnTo>
                  <a:lnTo>
                    <a:pt x="5146" y="2185"/>
                  </a:lnTo>
                  <a:lnTo>
                    <a:pt x="5163" y="2173"/>
                  </a:lnTo>
                  <a:lnTo>
                    <a:pt x="5179" y="2159"/>
                  </a:lnTo>
                  <a:lnTo>
                    <a:pt x="5196" y="2145"/>
                  </a:lnTo>
                  <a:lnTo>
                    <a:pt x="5210" y="2130"/>
                  </a:lnTo>
                  <a:lnTo>
                    <a:pt x="5224" y="2114"/>
                  </a:lnTo>
                  <a:lnTo>
                    <a:pt x="5237" y="2097"/>
                  </a:lnTo>
                  <a:lnTo>
                    <a:pt x="5248" y="2080"/>
                  </a:lnTo>
                  <a:lnTo>
                    <a:pt x="5259" y="2061"/>
                  </a:lnTo>
                  <a:lnTo>
                    <a:pt x="5269" y="2043"/>
                  </a:lnTo>
                  <a:lnTo>
                    <a:pt x="5277" y="2023"/>
                  </a:lnTo>
                  <a:lnTo>
                    <a:pt x="5285" y="2003"/>
                  </a:lnTo>
                  <a:lnTo>
                    <a:pt x="5293" y="1982"/>
                  </a:lnTo>
                  <a:lnTo>
                    <a:pt x="5298" y="1960"/>
                  </a:lnTo>
                  <a:lnTo>
                    <a:pt x="5303" y="1937"/>
                  </a:lnTo>
                  <a:lnTo>
                    <a:pt x="5307" y="1913"/>
                  </a:lnTo>
                  <a:lnTo>
                    <a:pt x="5309" y="1889"/>
                  </a:lnTo>
                  <a:lnTo>
                    <a:pt x="5310" y="1865"/>
                  </a:lnTo>
                  <a:lnTo>
                    <a:pt x="5309" y="1840"/>
                  </a:lnTo>
                  <a:lnTo>
                    <a:pt x="5307" y="1814"/>
                  </a:lnTo>
                  <a:lnTo>
                    <a:pt x="5303" y="1787"/>
                  </a:lnTo>
                  <a:lnTo>
                    <a:pt x="5298" y="1760"/>
                  </a:lnTo>
                  <a:lnTo>
                    <a:pt x="5293" y="1731"/>
                  </a:lnTo>
                  <a:lnTo>
                    <a:pt x="5284" y="1703"/>
                  </a:lnTo>
                  <a:lnTo>
                    <a:pt x="5275" y="1674"/>
                  </a:lnTo>
                  <a:lnTo>
                    <a:pt x="5264" y="1643"/>
                  </a:lnTo>
                  <a:lnTo>
                    <a:pt x="5252" y="1613"/>
                  </a:lnTo>
                  <a:lnTo>
                    <a:pt x="5238" y="1581"/>
                  </a:lnTo>
                  <a:lnTo>
                    <a:pt x="5223" y="1550"/>
                  </a:lnTo>
                  <a:lnTo>
                    <a:pt x="5207" y="1517"/>
                  </a:lnTo>
                  <a:lnTo>
                    <a:pt x="5189" y="1483"/>
                  </a:lnTo>
                  <a:lnTo>
                    <a:pt x="5168" y="1447"/>
                  </a:lnTo>
                  <a:lnTo>
                    <a:pt x="5148" y="1413"/>
                  </a:lnTo>
                  <a:lnTo>
                    <a:pt x="5127" y="1381"/>
                  </a:lnTo>
                  <a:lnTo>
                    <a:pt x="5105" y="1350"/>
                  </a:lnTo>
                  <a:lnTo>
                    <a:pt x="5083" y="1321"/>
                  </a:lnTo>
                  <a:lnTo>
                    <a:pt x="5062" y="1294"/>
                  </a:lnTo>
                  <a:lnTo>
                    <a:pt x="5040" y="1267"/>
                  </a:lnTo>
                  <a:lnTo>
                    <a:pt x="5018" y="1244"/>
                  </a:lnTo>
                  <a:lnTo>
                    <a:pt x="4995" y="1221"/>
                  </a:lnTo>
                  <a:lnTo>
                    <a:pt x="4972" y="1200"/>
                  </a:lnTo>
                  <a:lnTo>
                    <a:pt x="4950" y="1181"/>
                  </a:lnTo>
                  <a:lnTo>
                    <a:pt x="4927" y="1164"/>
                  </a:lnTo>
                  <a:lnTo>
                    <a:pt x="4903" y="1148"/>
                  </a:lnTo>
                  <a:lnTo>
                    <a:pt x="4880" y="1134"/>
                  </a:lnTo>
                  <a:lnTo>
                    <a:pt x="4855" y="1122"/>
                  </a:lnTo>
                  <a:lnTo>
                    <a:pt x="4831" y="1111"/>
                  </a:lnTo>
                  <a:lnTo>
                    <a:pt x="4811" y="1103"/>
                  </a:lnTo>
                  <a:lnTo>
                    <a:pt x="4792" y="1097"/>
                  </a:lnTo>
                  <a:lnTo>
                    <a:pt x="4772" y="1092"/>
                  </a:lnTo>
                  <a:lnTo>
                    <a:pt x="4752" y="1089"/>
                  </a:lnTo>
                  <a:lnTo>
                    <a:pt x="4733" y="1086"/>
                  </a:lnTo>
                  <a:lnTo>
                    <a:pt x="4713" y="1085"/>
                  </a:lnTo>
                  <a:lnTo>
                    <a:pt x="4693" y="1085"/>
                  </a:lnTo>
                  <a:lnTo>
                    <a:pt x="4673" y="1086"/>
                  </a:lnTo>
                  <a:lnTo>
                    <a:pt x="4653" y="1088"/>
                  </a:lnTo>
                  <a:lnTo>
                    <a:pt x="4633" y="1091"/>
                  </a:lnTo>
                  <a:lnTo>
                    <a:pt x="4613" y="1097"/>
                  </a:lnTo>
                  <a:lnTo>
                    <a:pt x="4592" y="1102"/>
                  </a:lnTo>
                  <a:lnTo>
                    <a:pt x="4573" y="1109"/>
                  </a:lnTo>
                  <a:lnTo>
                    <a:pt x="4552" y="1117"/>
                  </a:lnTo>
                  <a:lnTo>
                    <a:pt x="4532" y="1127"/>
                  </a:lnTo>
                  <a:lnTo>
                    <a:pt x="4512" y="1138"/>
                  </a:lnTo>
                  <a:close/>
                  <a:moveTo>
                    <a:pt x="5835" y="556"/>
                  </a:moveTo>
                  <a:lnTo>
                    <a:pt x="5993" y="1045"/>
                  </a:lnTo>
                  <a:lnTo>
                    <a:pt x="6219" y="971"/>
                  </a:lnTo>
                  <a:lnTo>
                    <a:pt x="6238" y="965"/>
                  </a:lnTo>
                  <a:lnTo>
                    <a:pt x="6254" y="957"/>
                  </a:lnTo>
                  <a:lnTo>
                    <a:pt x="6270" y="950"/>
                  </a:lnTo>
                  <a:lnTo>
                    <a:pt x="6284" y="941"/>
                  </a:lnTo>
                  <a:lnTo>
                    <a:pt x="6296" y="932"/>
                  </a:lnTo>
                  <a:lnTo>
                    <a:pt x="6306" y="922"/>
                  </a:lnTo>
                  <a:lnTo>
                    <a:pt x="6315" y="911"/>
                  </a:lnTo>
                  <a:lnTo>
                    <a:pt x="6322" y="901"/>
                  </a:lnTo>
                  <a:lnTo>
                    <a:pt x="6327" y="887"/>
                  </a:lnTo>
                  <a:lnTo>
                    <a:pt x="6331" y="873"/>
                  </a:lnTo>
                  <a:lnTo>
                    <a:pt x="6334" y="857"/>
                  </a:lnTo>
                  <a:lnTo>
                    <a:pt x="6336" y="840"/>
                  </a:lnTo>
                  <a:lnTo>
                    <a:pt x="6335" y="820"/>
                  </a:lnTo>
                  <a:lnTo>
                    <a:pt x="6334" y="798"/>
                  </a:lnTo>
                  <a:lnTo>
                    <a:pt x="6330" y="774"/>
                  </a:lnTo>
                  <a:lnTo>
                    <a:pt x="6326" y="748"/>
                  </a:lnTo>
                  <a:lnTo>
                    <a:pt x="6360" y="737"/>
                  </a:lnTo>
                  <a:lnTo>
                    <a:pt x="6496" y="1158"/>
                  </a:lnTo>
                  <a:lnTo>
                    <a:pt x="6462" y="1168"/>
                  </a:lnTo>
                  <a:lnTo>
                    <a:pt x="6457" y="1151"/>
                  </a:lnTo>
                  <a:lnTo>
                    <a:pt x="6450" y="1136"/>
                  </a:lnTo>
                  <a:lnTo>
                    <a:pt x="6444" y="1120"/>
                  </a:lnTo>
                  <a:lnTo>
                    <a:pt x="6437" y="1107"/>
                  </a:lnTo>
                  <a:lnTo>
                    <a:pt x="6431" y="1095"/>
                  </a:lnTo>
                  <a:lnTo>
                    <a:pt x="6423" y="1086"/>
                  </a:lnTo>
                  <a:lnTo>
                    <a:pt x="6416" y="1076"/>
                  </a:lnTo>
                  <a:lnTo>
                    <a:pt x="6409" y="1068"/>
                  </a:lnTo>
                  <a:lnTo>
                    <a:pt x="6402" y="1062"/>
                  </a:lnTo>
                  <a:lnTo>
                    <a:pt x="6395" y="1056"/>
                  </a:lnTo>
                  <a:lnTo>
                    <a:pt x="6386" y="1051"/>
                  </a:lnTo>
                  <a:lnTo>
                    <a:pt x="6378" y="1045"/>
                  </a:lnTo>
                  <a:lnTo>
                    <a:pt x="6370" y="1042"/>
                  </a:lnTo>
                  <a:lnTo>
                    <a:pt x="6361" y="1039"/>
                  </a:lnTo>
                  <a:lnTo>
                    <a:pt x="6352" y="1036"/>
                  </a:lnTo>
                  <a:lnTo>
                    <a:pt x="6343" y="1033"/>
                  </a:lnTo>
                  <a:lnTo>
                    <a:pt x="6334" y="1032"/>
                  </a:lnTo>
                  <a:lnTo>
                    <a:pt x="6323" y="1032"/>
                  </a:lnTo>
                  <a:lnTo>
                    <a:pt x="6312" y="1032"/>
                  </a:lnTo>
                  <a:lnTo>
                    <a:pt x="6300" y="1034"/>
                  </a:lnTo>
                  <a:lnTo>
                    <a:pt x="6287" y="1037"/>
                  </a:lnTo>
                  <a:lnTo>
                    <a:pt x="6274" y="1039"/>
                  </a:lnTo>
                  <a:lnTo>
                    <a:pt x="6258" y="1043"/>
                  </a:lnTo>
                  <a:lnTo>
                    <a:pt x="6243" y="1048"/>
                  </a:lnTo>
                  <a:lnTo>
                    <a:pt x="6018" y="1120"/>
                  </a:lnTo>
                  <a:lnTo>
                    <a:pt x="6144" y="1510"/>
                  </a:lnTo>
                  <a:lnTo>
                    <a:pt x="6159" y="1554"/>
                  </a:lnTo>
                  <a:lnTo>
                    <a:pt x="6172" y="1588"/>
                  </a:lnTo>
                  <a:lnTo>
                    <a:pt x="6179" y="1602"/>
                  </a:lnTo>
                  <a:lnTo>
                    <a:pt x="6186" y="1614"/>
                  </a:lnTo>
                  <a:lnTo>
                    <a:pt x="6191" y="1624"/>
                  </a:lnTo>
                  <a:lnTo>
                    <a:pt x="6196" y="1631"/>
                  </a:lnTo>
                  <a:lnTo>
                    <a:pt x="6201" y="1637"/>
                  </a:lnTo>
                  <a:lnTo>
                    <a:pt x="6206" y="1641"/>
                  </a:lnTo>
                  <a:lnTo>
                    <a:pt x="6212" y="1644"/>
                  </a:lnTo>
                  <a:lnTo>
                    <a:pt x="6218" y="1649"/>
                  </a:lnTo>
                  <a:lnTo>
                    <a:pt x="6225" y="1651"/>
                  </a:lnTo>
                  <a:lnTo>
                    <a:pt x="6231" y="1654"/>
                  </a:lnTo>
                  <a:lnTo>
                    <a:pt x="6240" y="1656"/>
                  </a:lnTo>
                  <a:lnTo>
                    <a:pt x="6248" y="1658"/>
                  </a:lnTo>
                  <a:lnTo>
                    <a:pt x="6260" y="1661"/>
                  </a:lnTo>
                  <a:lnTo>
                    <a:pt x="6272" y="1662"/>
                  </a:lnTo>
                  <a:lnTo>
                    <a:pt x="6284" y="1662"/>
                  </a:lnTo>
                  <a:lnTo>
                    <a:pt x="6294" y="1662"/>
                  </a:lnTo>
                  <a:lnTo>
                    <a:pt x="6305" y="1661"/>
                  </a:lnTo>
                  <a:lnTo>
                    <a:pt x="6317" y="1658"/>
                  </a:lnTo>
                  <a:lnTo>
                    <a:pt x="6328" y="1656"/>
                  </a:lnTo>
                  <a:lnTo>
                    <a:pt x="6339" y="1653"/>
                  </a:lnTo>
                  <a:lnTo>
                    <a:pt x="6385" y="1639"/>
                  </a:lnTo>
                  <a:lnTo>
                    <a:pt x="6396" y="1673"/>
                  </a:lnTo>
                  <a:lnTo>
                    <a:pt x="5862" y="1846"/>
                  </a:lnTo>
                  <a:lnTo>
                    <a:pt x="5851" y="1812"/>
                  </a:lnTo>
                  <a:lnTo>
                    <a:pt x="5895" y="1798"/>
                  </a:lnTo>
                  <a:lnTo>
                    <a:pt x="5913" y="1790"/>
                  </a:lnTo>
                  <a:lnTo>
                    <a:pt x="5931" y="1783"/>
                  </a:lnTo>
                  <a:lnTo>
                    <a:pt x="5945" y="1774"/>
                  </a:lnTo>
                  <a:lnTo>
                    <a:pt x="5958" y="1764"/>
                  </a:lnTo>
                  <a:lnTo>
                    <a:pt x="5969" y="1754"/>
                  </a:lnTo>
                  <a:lnTo>
                    <a:pt x="5979" y="1742"/>
                  </a:lnTo>
                  <a:lnTo>
                    <a:pt x="5986" y="1729"/>
                  </a:lnTo>
                  <a:lnTo>
                    <a:pt x="5993" y="1716"/>
                  </a:lnTo>
                  <a:lnTo>
                    <a:pt x="5995" y="1706"/>
                  </a:lnTo>
                  <a:lnTo>
                    <a:pt x="5996" y="1693"/>
                  </a:lnTo>
                  <a:lnTo>
                    <a:pt x="5995" y="1678"/>
                  </a:lnTo>
                  <a:lnTo>
                    <a:pt x="5993" y="1661"/>
                  </a:lnTo>
                  <a:lnTo>
                    <a:pt x="5988" y="1641"/>
                  </a:lnTo>
                  <a:lnTo>
                    <a:pt x="5984" y="1619"/>
                  </a:lnTo>
                  <a:lnTo>
                    <a:pt x="5976" y="1595"/>
                  </a:lnTo>
                  <a:lnTo>
                    <a:pt x="5969" y="1568"/>
                  </a:lnTo>
                  <a:lnTo>
                    <a:pt x="5707" y="766"/>
                  </a:lnTo>
                  <a:lnTo>
                    <a:pt x="5693" y="723"/>
                  </a:lnTo>
                  <a:lnTo>
                    <a:pt x="5679" y="688"/>
                  </a:lnTo>
                  <a:lnTo>
                    <a:pt x="5673" y="675"/>
                  </a:lnTo>
                  <a:lnTo>
                    <a:pt x="5667" y="663"/>
                  </a:lnTo>
                  <a:lnTo>
                    <a:pt x="5661" y="653"/>
                  </a:lnTo>
                  <a:lnTo>
                    <a:pt x="5655" y="646"/>
                  </a:lnTo>
                  <a:lnTo>
                    <a:pt x="5651" y="640"/>
                  </a:lnTo>
                  <a:lnTo>
                    <a:pt x="5646" y="636"/>
                  </a:lnTo>
                  <a:lnTo>
                    <a:pt x="5641" y="633"/>
                  </a:lnTo>
                  <a:lnTo>
                    <a:pt x="5634" y="628"/>
                  </a:lnTo>
                  <a:lnTo>
                    <a:pt x="5621" y="623"/>
                  </a:lnTo>
                  <a:lnTo>
                    <a:pt x="5605" y="619"/>
                  </a:lnTo>
                  <a:lnTo>
                    <a:pt x="5594" y="616"/>
                  </a:lnTo>
                  <a:lnTo>
                    <a:pt x="5582" y="615"/>
                  </a:lnTo>
                  <a:lnTo>
                    <a:pt x="5570" y="615"/>
                  </a:lnTo>
                  <a:lnTo>
                    <a:pt x="5559" y="615"/>
                  </a:lnTo>
                  <a:lnTo>
                    <a:pt x="5547" y="616"/>
                  </a:lnTo>
                  <a:lnTo>
                    <a:pt x="5536" y="617"/>
                  </a:lnTo>
                  <a:lnTo>
                    <a:pt x="5526" y="621"/>
                  </a:lnTo>
                  <a:lnTo>
                    <a:pt x="5514" y="624"/>
                  </a:lnTo>
                  <a:lnTo>
                    <a:pt x="5470" y="638"/>
                  </a:lnTo>
                  <a:lnTo>
                    <a:pt x="5459" y="604"/>
                  </a:lnTo>
                  <a:lnTo>
                    <a:pt x="6383" y="304"/>
                  </a:lnTo>
                  <a:lnTo>
                    <a:pt x="6483" y="573"/>
                  </a:lnTo>
                  <a:lnTo>
                    <a:pt x="6451" y="584"/>
                  </a:lnTo>
                  <a:lnTo>
                    <a:pt x="6438" y="564"/>
                  </a:lnTo>
                  <a:lnTo>
                    <a:pt x="6425" y="547"/>
                  </a:lnTo>
                  <a:lnTo>
                    <a:pt x="6413" y="530"/>
                  </a:lnTo>
                  <a:lnTo>
                    <a:pt x="6401" y="516"/>
                  </a:lnTo>
                  <a:lnTo>
                    <a:pt x="6389" y="503"/>
                  </a:lnTo>
                  <a:lnTo>
                    <a:pt x="6377" y="492"/>
                  </a:lnTo>
                  <a:lnTo>
                    <a:pt x="6365" y="482"/>
                  </a:lnTo>
                  <a:lnTo>
                    <a:pt x="6354" y="474"/>
                  </a:lnTo>
                  <a:lnTo>
                    <a:pt x="6343" y="466"/>
                  </a:lnTo>
                  <a:lnTo>
                    <a:pt x="6331" y="461"/>
                  </a:lnTo>
                  <a:lnTo>
                    <a:pt x="6319" y="455"/>
                  </a:lnTo>
                  <a:lnTo>
                    <a:pt x="6307" y="450"/>
                  </a:lnTo>
                  <a:lnTo>
                    <a:pt x="6296" y="446"/>
                  </a:lnTo>
                  <a:lnTo>
                    <a:pt x="6284" y="443"/>
                  </a:lnTo>
                  <a:lnTo>
                    <a:pt x="6270" y="441"/>
                  </a:lnTo>
                  <a:lnTo>
                    <a:pt x="6257" y="440"/>
                  </a:lnTo>
                  <a:lnTo>
                    <a:pt x="6243" y="440"/>
                  </a:lnTo>
                  <a:lnTo>
                    <a:pt x="6228" y="440"/>
                  </a:lnTo>
                  <a:lnTo>
                    <a:pt x="6212" y="442"/>
                  </a:lnTo>
                  <a:lnTo>
                    <a:pt x="6194" y="445"/>
                  </a:lnTo>
                  <a:lnTo>
                    <a:pt x="6175" y="450"/>
                  </a:lnTo>
                  <a:lnTo>
                    <a:pt x="6154" y="454"/>
                  </a:lnTo>
                  <a:lnTo>
                    <a:pt x="6132" y="461"/>
                  </a:lnTo>
                  <a:lnTo>
                    <a:pt x="6108" y="468"/>
                  </a:lnTo>
                  <a:lnTo>
                    <a:pt x="5835" y="556"/>
                  </a:lnTo>
                  <a:close/>
                  <a:moveTo>
                    <a:pt x="8560" y="943"/>
                  </a:moveTo>
                  <a:lnTo>
                    <a:pt x="8592" y="947"/>
                  </a:lnTo>
                  <a:lnTo>
                    <a:pt x="8505" y="1309"/>
                  </a:lnTo>
                  <a:lnTo>
                    <a:pt x="7497" y="1380"/>
                  </a:lnTo>
                  <a:lnTo>
                    <a:pt x="7494" y="1344"/>
                  </a:lnTo>
                  <a:lnTo>
                    <a:pt x="7544" y="1340"/>
                  </a:lnTo>
                  <a:lnTo>
                    <a:pt x="7563" y="1338"/>
                  </a:lnTo>
                  <a:lnTo>
                    <a:pt x="7582" y="1334"/>
                  </a:lnTo>
                  <a:lnTo>
                    <a:pt x="7598" y="1330"/>
                  </a:lnTo>
                  <a:lnTo>
                    <a:pt x="7613" y="1322"/>
                  </a:lnTo>
                  <a:lnTo>
                    <a:pt x="7621" y="1318"/>
                  </a:lnTo>
                  <a:lnTo>
                    <a:pt x="7627" y="1313"/>
                  </a:lnTo>
                  <a:lnTo>
                    <a:pt x="7633" y="1309"/>
                  </a:lnTo>
                  <a:lnTo>
                    <a:pt x="7639" y="1303"/>
                  </a:lnTo>
                  <a:lnTo>
                    <a:pt x="7645" y="1298"/>
                  </a:lnTo>
                  <a:lnTo>
                    <a:pt x="7649" y="1291"/>
                  </a:lnTo>
                  <a:lnTo>
                    <a:pt x="7653" y="1285"/>
                  </a:lnTo>
                  <a:lnTo>
                    <a:pt x="7658" y="1278"/>
                  </a:lnTo>
                  <a:lnTo>
                    <a:pt x="7662" y="1270"/>
                  </a:lnTo>
                  <a:lnTo>
                    <a:pt x="7665" y="1258"/>
                  </a:lnTo>
                  <a:lnTo>
                    <a:pt x="7668" y="1244"/>
                  </a:lnTo>
                  <a:lnTo>
                    <a:pt x="7670" y="1226"/>
                  </a:lnTo>
                  <a:lnTo>
                    <a:pt x="7670" y="1208"/>
                  </a:lnTo>
                  <a:lnTo>
                    <a:pt x="7670" y="1186"/>
                  </a:lnTo>
                  <a:lnTo>
                    <a:pt x="7670" y="1162"/>
                  </a:lnTo>
                  <a:lnTo>
                    <a:pt x="7668" y="1135"/>
                  </a:lnTo>
                  <a:lnTo>
                    <a:pt x="7609" y="294"/>
                  </a:lnTo>
                  <a:lnTo>
                    <a:pt x="7607" y="266"/>
                  </a:lnTo>
                  <a:lnTo>
                    <a:pt x="7603" y="240"/>
                  </a:lnTo>
                  <a:lnTo>
                    <a:pt x="7600" y="217"/>
                  </a:lnTo>
                  <a:lnTo>
                    <a:pt x="7596" y="196"/>
                  </a:lnTo>
                  <a:lnTo>
                    <a:pt x="7590" y="179"/>
                  </a:lnTo>
                  <a:lnTo>
                    <a:pt x="7585" y="164"/>
                  </a:lnTo>
                  <a:lnTo>
                    <a:pt x="7578" y="152"/>
                  </a:lnTo>
                  <a:lnTo>
                    <a:pt x="7572" y="144"/>
                  </a:lnTo>
                  <a:lnTo>
                    <a:pt x="7561" y="135"/>
                  </a:lnTo>
                  <a:lnTo>
                    <a:pt x="7549" y="127"/>
                  </a:lnTo>
                  <a:lnTo>
                    <a:pt x="7537" y="121"/>
                  </a:lnTo>
                  <a:lnTo>
                    <a:pt x="7523" y="115"/>
                  </a:lnTo>
                  <a:lnTo>
                    <a:pt x="7509" y="112"/>
                  </a:lnTo>
                  <a:lnTo>
                    <a:pt x="7492" y="110"/>
                  </a:lnTo>
                  <a:lnTo>
                    <a:pt x="7476" y="109"/>
                  </a:lnTo>
                  <a:lnTo>
                    <a:pt x="7457" y="110"/>
                  </a:lnTo>
                  <a:lnTo>
                    <a:pt x="7408" y="113"/>
                  </a:lnTo>
                  <a:lnTo>
                    <a:pt x="7406" y="77"/>
                  </a:lnTo>
                  <a:lnTo>
                    <a:pt x="7995" y="36"/>
                  </a:lnTo>
                  <a:lnTo>
                    <a:pt x="7998" y="72"/>
                  </a:lnTo>
                  <a:lnTo>
                    <a:pt x="7973" y="74"/>
                  </a:lnTo>
                  <a:lnTo>
                    <a:pt x="7950" y="76"/>
                  </a:lnTo>
                  <a:lnTo>
                    <a:pt x="7929" y="78"/>
                  </a:lnTo>
                  <a:lnTo>
                    <a:pt x="7910" y="82"/>
                  </a:lnTo>
                  <a:lnTo>
                    <a:pt x="7893" y="86"/>
                  </a:lnTo>
                  <a:lnTo>
                    <a:pt x="7878" y="90"/>
                  </a:lnTo>
                  <a:lnTo>
                    <a:pt x="7865" y="96"/>
                  </a:lnTo>
                  <a:lnTo>
                    <a:pt x="7854" y="101"/>
                  </a:lnTo>
                  <a:lnTo>
                    <a:pt x="7844" y="107"/>
                  </a:lnTo>
                  <a:lnTo>
                    <a:pt x="7835" y="113"/>
                  </a:lnTo>
                  <a:lnTo>
                    <a:pt x="7828" y="120"/>
                  </a:lnTo>
                  <a:lnTo>
                    <a:pt x="7820" y="126"/>
                  </a:lnTo>
                  <a:lnTo>
                    <a:pt x="7814" y="133"/>
                  </a:lnTo>
                  <a:lnTo>
                    <a:pt x="7808" y="140"/>
                  </a:lnTo>
                  <a:lnTo>
                    <a:pt x="7804" y="148"/>
                  </a:lnTo>
                  <a:lnTo>
                    <a:pt x="7801" y="156"/>
                  </a:lnTo>
                  <a:lnTo>
                    <a:pt x="7797" y="166"/>
                  </a:lnTo>
                  <a:lnTo>
                    <a:pt x="7795" y="177"/>
                  </a:lnTo>
                  <a:lnTo>
                    <a:pt x="7794" y="192"/>
                  </a:lnTo>
                  <a:lnTo>
                    <a:pt x="7793" y="209"/>
                  </a:lnTo>
                  <a:lnTo>
                    <a:pt x="7792" y="229"/>
                  </a:lnTo>
                  <a:lnTo>
                    <a:pt x="7793" y="252"/>
                  </a:lnTo>
                  <a:lnTo>
                    <a:pt x="7794" y="277"/>
                  </a:lnTo>
                  <a:lnTo>
                    <a:pt x="7795" y="304"/>
                  </a:lnTo>
                  <a:lnTo>
                    <a:pt x="7853" y="1122"/>
                  </a:lnTo>
                  <a:lnTo>
                    <a:pt x="7854" y="1141"/>
                  </a:lnTo>
                  <a:lnTo>
                    <a:pt x="7856" y="1159"/>
                  </a:lnTo>
                  <a:lnTo>
                    <a:pt x="7858" y="1175"/>
                  </a:lnTo>
                  <a:lnTo>
                    <a:pt x="7861" y="1189"/>
                  </a:lnTo>
                  <a:lnTo>
                    <a:pt x="7864" y="1201"/>
                  </a:lnTo>
                  <a:lnTo>
                    <a:pt x="7868" y="1213"/>
                  </a:lnTo>
                  <a:lnTo>
                    <a:pt x="7871" y="1223"/>
                  </a:lnTo>
                  <a:lnTo>
                    <a:pt x="7876" y="1230"/>
                  </a:lnTo>
                  <a:lnTo>
                    <a:pt x="7882" y="1239"/>
                  </a:lnTo>
                  <a:lnTo>
                    <a:pt x="7891" y="1247"/>
                  </a:lnTo>
                  <a:lnTo>
                    <a:pt x="7902" y="1253"/>
                  </a:lnTo>
                  <a:lnTo>
                    <a:pt x="7913" y="1258"/>
                  </a:lnTo>
                  <a:lnTo>
                    <a:pt x="7920" y="1259"/>
                  </a:lnTo>
                  <a:lnTo>
                    <a:pt x="7931" y="1261"/>
                  </a:lnTo>
                  <a:lnTo>
                    <a:pt x="7945" y="1261"/>
                  </a:lnTo>
                  <a:lnTo>
                    <a:pt x="7963" y="1261"/>
                  </a:lnTo>
                  <a:lnTo>
                    <a:pt x="8007" y="1260"/>
                  </a:lnTo>
                  <a:lnTo>
                    <a:pt x="8064" y="1257"/>
                  </a:lnTo>
                  <a:lnTo>
                    <a:pt x="8159" y="1250"/>
                  </a:lnTo>
                  <a:lnTo>
                    <a:pt x="8195" y="1247"/>
                  </a:lnTo>
                  <a:lnTo>
                    <a:pt x="8227" y="1244"/>
                  </a:lnTo>
                  <a:lnTo>
                    <a:pt x="8258" y="1240"/>
                  </a:lnTo>
                  <a:lnTo>
                    <a:pt x="8286" y="1236"/>
                  </a:lnTo>
                  <a:lnTo>
                    <a:pt x="8310" y="1230"/>
                  </a:lnTo>
                  <a:lnTo>
                    <a:pt x="8332" y="1225"/>
                  </a:lnTo>
                  <a:lnTo>
                    <a:pt x="8352" y="1220"/>
                  </a:lnTo>
                  <a:lnTo>
                    <a:pt x="8368" y="1213"/>
                  </a:lnTo>
                  <a:lnTo>
                    <a:pt x="8382" y="1207"/>
                  </a:lnTo>
                  <a:lnTo>
                    <a:pt x="8396" y="1198"/>
                  </a:lnTo>
                  <a:lnTo>
                    <a:pt x="8409" y="1189"/>
                  </a:lnTo>
                  <a:lnTo>
                    <a:pt x="8423" y="1178"/>
                  </a:lnTo>
                  <a:lnTo>
                    <a:pt x="8436" y="1167"/>
                  </a:lnTo>
                  <a:lnTo>
                    <a:pt x="8448" y="1155"/>
                  </a:lnTo>
                  <a:lnTo>
                    <a:pt x="8460" y="1142"/>
                  </a:lnTo>
                  <a:lnTo>
                    <a:pt x="8472" y="1127"/>
                  </a:lnTo>
                  <a:lnTo>
                    <a:pt x="8483" y="1112"/>
                  </a:lnTo>
                  <a:lnTo>
                    <a:pt x="8495" y="1093"/>
                  </a:lnTo>
                  <a:lnTo>
                    <a:pt x="8506" y="1074"/>
                  </a:lnTo>
                  <a:lnTo>
                    <a:pt x="8517" y="1052"/>
                  </a:lnTo>
                  <a:lnTo>
                    <a:pt x="8528" y="1028"/>
                  </a:lnTo>
                  <a:lnTo>
                    <a:pt x="8539" y="1002"/>
                  </a:lnTo>
                  <a:lnTo>
                    <a:pt x="8550" y="973"/>
                  </a:lnTo>
                  <a:lnTo>
                    <a:pt x="8560" y="943"/>
                  </a:lnTo>
                  <a:close/>
                  <a:moveTo>
                    <a:pt x="9688" y="910"/>
                  </a:moveTo>
                  <a:lnTo>
                    <a:pt x="9184" y="875"/>
                  </a:lnTo>
                  <a:lnTo>
                    <a:pt x="9081" y="1075"/>
                  </a:lnTo>
                  <a:lnTo>
                    <a:pt x="9071" y="1092"/>
                  </a:lnTo>
                  <a:lnTo>
                    <a:pt x="9064" y="1110"/>
                  </a:lnTo>
                  <a:lnTo>
                    <a:pt x="9057" y="1125"/>
                  </a:lnTo>
                  <a:lnTo>
                    <a:pt x="9052" y="1139"/>
                  </a:lnTo>
                  <a:lnTo>
                    <a:pt x="9047" y="1152"/>
                  </a:lnTo>
                  <a:lnTo>
                    <a:pt x="9044" y="1165"/>
                  </a:lnTo>
                  <a:lnTo>
                    <a:pt x="9041" y="1176"/>
                  </a:lnTo>
                  <a:lnTo>
                    <a:pt x="9040" y="1186"/>
                  </a:lnTo>
                  <a:lnTo>
                    <a:pt x="9040" y="1193"/>
                  </a:lnTo>
                  <a:lnTo>
                    <a:pt x="9041" y="1200"/>
                  </a:lnTo>
                  <a:lnTo>
                    <a:pt x="9043" y="1208"/>
                  </a:lnTo>
                  <a:lnTo>
                    <a:pt x="9045" y="1214"/>
                  </a:lnTo>
                  <a:lnTo>
                    <a:pt x="9049" y="1221"/>
                  </a:lnTo>
                  <a:lnTo>
                    <a:pt x="9053" y="1227"/>
                  </a:lnTo>
                  <a:lnTo>
                    <a:pt x="9058" y="1234"/>
                  </a:lnTo>
                  <a:lnTo>
                    <a:pt x="9065" y="1240"/>
                  </a:lnTo>
                  <a:lnTo>
                    <a:pt x="9072" y="1246"/>
                  </a:lnTo>
                  <a:lnTo>
                    <a:pt x="9082" y="1251"/>
                  </a:lnTo>
                  <a:lnTo>
                    <a:pt x="9094" y="1257"/>
                  </a:lnTo>
                  <a:lnTo>
                    <a:pt x="9108" y="1262"/>
                  </a:lnTo>
                  <a:lnTo>
                    <a:pt x="9125" y="1266"/>
                  </a:lnTo>
                  <a:lnTo>
                    <a:pt x="9142" y="1271"/>
                  </a:lnTo>
                  <a:lnTo>
                    <a:pt x="9163" y="1274"/>
                  </a:lnTo>
                  <a:lnTo>
                    <a:pt x="9186" y="1277"/>
                  </a:lnTo>
                  <a:lnTo>
                    <a:pt x="9182" y="1313"/>
                  </a:lnTo>
                  <a:lnTo>
                    <a:pt x="8773" y="1285"/>
                  </a:lnTo>
                  <a:lnTo>
                    <a:pt x="8775" y="1249"/>
                  </a:lnTo>
                  <a:lnTo>
                    <a:pt x="8795" y="1247"/>
                  </a:lnTo>
                  <a:lnTo>
                    <a:pt x="8813" y="1244"/>
                  </a:lnTo>
                  <a:lnTo>
                    <a:pt x="8829" y="1240"/>
                  </a:lnTo>
                  <a:lnTo>
                    <a:pt x="8844" y="1237"/>
                  </a:lnTo>
                  <a:lnTo>
                    <a:pt x="8856" y="1234"/>
                  </a:lnTo>
                  <a:lnTo>
                    <a:pt x="8867" y="1228"/>
                  </a:lnTo>
                  <a:lnTo>
                    <a:pt x="8876" y="1224"/>
                  </a:lnTo>
                  <a:lnTo>
                    <a:pt x="8883" y="1218"/>
                  </a:lnTo>
                  <a:lnTo>
                    <a:pt x="8897" y="1207"/>
                  </a:lnTo>
                  <a:lnTo>
                    <a:pt x="8910" y="1191"/>
                  </a:lnTo>
                  <a:lnTo>
                    <a:pt x="8924" y="1174"/>
                  </a:lnTo>
                  <a:lnTo>
                    <a:pt x="8940" y="1153"/>
                  </a:lnTo>
                  <a:lnTo>
                    <a:pt x="8955" y="1129"/>
                  </a:lnTo>
                  <a:lnTo>
                    <a:pt x="8971" y="1102"/>
                  </a:lnTo>
                  <a:lnTo>
                    <a:pt x="8988" y="1073"/>
                  </a:lnTo>
                  <a:lnTo>
                    <a:pt x="9005" y="1039"/>
                  </a:lnTo>
                  <a:lnTo>
                    <a:pt x="9539" y="0"/>
                  </a:lnTo>
                  <a:lnTo>
                    <a:pt x="9571" y="2"/>
                  </a:lnTo>
                  <a:lnTo>
                    <a:pt x="9949" y="1117"/>
                  </a:lnTo>
                  <a:lnTo>
                    <a:pt x="9960" y="1149"/>
                  </a:lnTo>
                  <a:lnTo>
                    <a:pt x="9972" y="1178"/>
                  </a:lnTo>
                  <a:lnTo>
                    <a:pt x="9983" y="1204"/>
                  </a:lnTo>
                  <a:lnTo>
                    <a:pt x="9994" y="1228"/>
                  </a:lnTo>
                  <a:lnTo>
                    <a:pt x="10005" y="1249"/>
                  </a:lnTo>
                  <a:lnTo>
                    <a:pt x="10016" y="1266"/>
                  </a:lnTo>
                  <a:lnTo>
                    <a:pt x="10026" y="1282"/>
                  </a:lnTo>
                  <a:lnTo>
                    <a:pt x="10036" y="1294"/>
                  </a:lnTo>
                  <a:lnTo>
                    <a:pt x="10047" y="1303"/>
                  </a:lnTo>
                  <a:lnTo>
                    <a:pt x="10060" y="1312"/>
                  </a:lnTo>
                  <a:lnTo>
                    <a:pt x="10073" y="1321"/>
                  </a:lnTo>
                  <a:lnTo>
                    <a:pt x="10087" y="1327"/>
                  </a:lnTo>
                  <a:lnTo>
                    <a:pt x="10104" y="1334"/>
                  </a:lnTo>
                  <a:lnTo>
                    <a:pt x="10120" y="1338"/>
                  </a:lnTo>
                  <a:lnTo>
                    <a:pt x="10139" y="1343"/>
                  </a:lnTo>
                  <a:lnTo>
                    <a:pt x="10158" y="1346"/>
                  </a:lnTo>
                  <a:lnTo>
                    <a:pt x="10156" y="1381"/>
                  </a:lnTo>
                  <a:lnTo>
                    <a:pt x="9642" y="1345"/>
                  </a:lnTo>
                  <a:lnTo>
                    <a:pt x="9644" y="1310"/>
                  </a:lnTo>
                  <a:lnTo>
                    <a:pt x="9663" y="1310"/>
                  </a:lnTo>
                  <a:lnTo>
                    <a:pt x="9680" y="1309"/>
                  </a:lnTo>
                  <a:lnTo>
                    <a:pt x="9695" y="1308"/>
                  </a:lnTo>
                  <a:lnTo>
                    <a:pt x="9710" y="1306"/>
                  </a:lnTo>
                  <a:lnTo>
                    <a:pt x="9723" y="1303"/>
                  </a:lnTo>
                  <a:lnTo>
                    <a:pt x="9733" y="1300"/>
                  </a:lnTo>
                  <a:lnTo>
                    <a:pt x="9743" y="1296"/>
                  </a:lnTo>
                  <a:lnTo>
                    <a:pt x="9751" y="1291"/>
                  </a:lnTo>
                  <a:lnTo>
                    <a:pt x="9757" y="1286"/>
                  </a:lnTo>
                  <a:lnTo>
                    <a:pt x="9764" y="1281"/>
                  </a:lnTo>
                  <a:lnTo>
                    <a:pt x="9769" y="1274"/>
                  </a:lnTo>
                  <a:lnTo>
                    <a:pt x="9774" y="1269"/>
                  </a:lnTo>
                  <a:lnTo>
                    <a:pt x="9777" y="1262"/>
                  </a:lnTo>
                  <a:lnTo>
                    <a:pt x="9779" y="1254"/>
                  </a:lnTo>
                  <a:lnTo>
                    <a:pt x="9781" y="1247"/>
                  </a:lnTo>
                  <a:lnTo>
                    <a:pt x="9782" y="1239"/>
                  </a:lnTo>
                  <a:lnTo>
                    <a:pt x="9782" y="1228"/>
                  </a:lnTo>
                  <a:lnTo>
                    <a:pt x="9781" y="1215"/>
                  </a:lnTo>
                  <a:lnTo>
                    <a:pt x="9779" y="1200"/>
                  </a:lnTo>
                  <a:lnTo>
                    <a:pt x="9776" y="1184"/>
                  </a:lnTo>
                  <a:lnTo>
                    <a:pt x="9773" y="1166"/>
                  </a:lnTo>
                  <a:lnTo>
                    <a:pt x="9767" y="1147"/>
                  </a:lnTo>
                  <a:lnTo>
                    <a:pt x="9761" y="1126"/>
                  </a:lnTo>
                  <a:lnTo>
                    <a:pt x="9753" y="1103"/>
                  </a:lnTo>
                  <a:lnTo>
                    <a:pt x="9688" y="910"/>
                  </a:lnTo>
                  <a:close/>
                  <a:moveTo>
                    <a:pt x="9666" y="837"/>
                  </a:moveTo>
                  <a:lnTo>
                    <a:pt x="9482" y="296"/>
                  </a:lnTo>
                  <a:lnTo>
                    <a:pt x="9218" y="806"/>
                  </a:lnTo>
                  <a:lnTo>
                    <a:pt x="9666" y="837"/>
                  </a:lnTo>
                  <a:close/>
                  <a:moveTo>
                    <a:pt x="11308" y="1053"/>
                  </a:moveTo>
                  <a:lnTo>
                    <a:pt x="11339" y="1069"/>
                  </a:lnTo>
                  <a:lnTo>
                    <a:pt x="11366" y="1086"/>
                  </a:lnTo>
                  <a:lnTo>
                    <a:pt x="11391" y="1103"/>
                  </a:lnTo>
                  <a:lnTo>
                    <a:pt x="11414" y="1120"/>
                  </a:lnTo>
                  <a:lnTo>
                    <a:pt x="11433" y="1138"/>
                  </a:lnTo>
                  <a:lnTo>
                    <a:pt x="11452" y="1156"/>
                  </a:lnTo>
                  <a:lnTo>
                    <a:pt x="11467" y="1176"/>
                  </a:lnTo>
                  <a:lnTo>
                    <a:pt x="11481" y="1195"/>
                  </a:lnTo>
                  <a:lnTo>
                    <a:pt x="11489" y="1209"/>
                  </a:lnTo>
                  <a:lnTo>
                    <a:pt x="11497" y="1223"/>
                  </a:lnTo>
                  <a:lnTo>
                    <a:pt x="11502" y="1237"/>
                  </a:lnTo>
                  <a:lnTo>
                    <a:pt x="11509" y="1251"/>
                  </a:lnTo>
                  <a:lnTo>
                    <a:pt x="11513" y="1265"/>
                  </a:lnTo>
                  <a:lnTo>
                    <a:pt x="11517" y="1279"/>
                  </a:lnTo>
                  <a:lnTo>
                    <a:pt x="11521" y="1294"/>
                  </a:lnTo>
                  <a:lnTo>
                    <a:pt x="11523" y="1308"/>
                  </a:lnTo>
                  <a:lnTo>
                    <a:pt x="11525" y="1323"/>
                  </a:lnTo>
                  <a:lnTo>
                    <a:pt x="11526" y="1337"/>
                  </a:lnTo>
                  <a:lnTo>
                    <a:pt x="11526" y="1352"/>
                  </a:lnTo>
                  <a:lnTo>
                    <a:pt x="11525" y="1368"/>
                  </a:lnTo>
                  <a:lnTo>
                    <a:pt x="11524" y="1383"/>
                  </a:lnTo>
                  <a:lnTo>
                    <a:pt x="11522" y="1398"/>
                  </a:lnTo>
                  <a:lnTo>
                    <a:pt x="11518" y="1413"/>
                  </a:lnTo>
                  <a:lnTo>
                    <a:pt x="11515" y="1429"/>
                  </a:lnTo>
                  <a:lnTo>
                    <a:pt x="11507" y="1452"/>
                  </a:lnTo>
                  <a:lnTo>
                    <a:pt x="11499" y="1473"/>
                  </a:lnTo>
                  <a:lnTo>
                    <a:pt x="11488" y="1495"/>
                  </a:lnTo>
                  <a:lnTo>
                    <a:pt x="11476" y="1516"/>
                  </a:lnTo>
                  <a:lnTo>
                    <a:pt x="11461" y="1536"/>
                  </a:lnTo>
                  <a:lnTo>
                    <a:pt x="11445" y="1556"/>
                  </a:lnTo>
                  <a:lnTo>
                    <a:pt x="11427" y="1575"/>
                  </a:lnTo>
                  <a:lnTo>
                    <a:pt x="11407" y="1592"/>
                  </a:lnTo>
                  <a:lnTo>
                    <a:pt x="11387" y="1609"/>
                  </a:lnTo>
                  <a:lnTo>
                    <a:pt x="11364" y="1624"/>
                  </a:lnTo>
                  <a:lnTo>
                    <a:pt x="11341" y="1637"/>
                  </a:lnTo>
                  <a:lnTo>
                    <a:pt x="11317" y="1648"/>
                  </a:lnTo>
                  <a:lnTo>
                    <a:pt x="11292" y="1657"/>
                  </a:lnTo>
                  <a:lnTo>
                    <a:pt x="11266" y="1665"/>
                  </a:lnTo>
                  <a:lnTo>
                    <a:pt x="11238" y="1670"/>
                  </a:lnTo>
                  <a:lnTo>
                    <a:pt x="11210" y="1674"/>
                  </a:lnTo>
                  <a:lnTo>
                    <a:pt x="11196" y="1675"/>
                  </a:lnTo>
                  <a:lnTo>
                    <a:pt x="11181" y="1676"/>
                  </a:lnTo>
                  <a:lnTo>
                    <a:pt x="11164" y="1676"/>
                  </a:lnTo>
                  <a:lnTo>
                    <a:pt x="11147" y="1676"/>
                  </a:lnTo>
                  <a:lnTo>
                    <a:pt x="11111" y="1674"/>
                  </a:lnTo>
                  <a:lnTo>
                    <a:pt x="11072" y="1668"/>
                  </a:lnTo>
                  <a:lnTo>
                    <a:pt x="11029" y="1662"/>
                  </a:lnTo>
                  <a:lnTo>
                    <a:pt x="10984" y="1653"/>
                  </a:lnTo>
                  <a:lnTo>
                    <a:pt x="10935" y="1642"/>
                  </a:lnTo>
                  <a:lnTo>
                    <a:pt x="10883" y="1629"/>
                  </a:lnTo>
                  <a:lnTo>
                    <a:pt x="10289" y="1469"/>
                  </a:lnTo>
                  <a:lnTo>
                    <a:pt x="10298" y="1435"/>
                  </a:lnTo>
                  <a:lnTo>
                    <a:pt x="10344" y="1448"/>
                  </a:lnTo>
                  <a:lnTo>
                    <a:pt x="10364" y="1453"/>
                  </a:lnTo>
                  <a:lnTo>
                    <a:pt x="10383" y="1455"/>
                  </a:lnTo>
                  <a:lnTo>
                    <a:pt x="10400" y="1455"/>
                  </a:lnTo>
                  <a:lnTo>
                    <a:pt x="10416" y="1454"/>
                  </a:lnTo>
                  <a:lnTo>
                    <a:pt x="10432" y="1449"/>
                  </a:lnTo>
                  <a:lnTo>
                    <a:pt x="10446" y="1444"/>
                  </a:lnTo>
                  <a:lnTo>
                    <a:pt x="10459" y="1437"/>
                  </a:lnTo>
                  <a:lnTo>
                    <a:pt x="10472" y="1428"/>
                  </a:lnTo>
                  <a:lnTo>
                    <a:pt x="10479" y="1420"/>
                  </a:lnTo>
                  <a:lnTo>
                    <a:pt x="10487" y="1409"/>
                  </a:lnTo>
                  <a:lnTo>
                    <a:pt x="10494" y="1397"/>
                  </a:lnTo>
                  <a:lnTo>
                    <a:pt x="10501" y="1382"/>
                  </a:lnTo>
                  <a:lnTo>
                    <a:pt x="10509" y="1363"/>
                  </a:lnTo>
                  <a:lnTo>
                    <a:pt x="10516" y="1344"/>
                  </a:lnTo>
                  <a:lnTo>
                    <a:pt x="10523" y="1321"/>
                  </a:lnTo>
                  <a:lnTo>
                    <a:pt x="10531" y="1295"/>
                  </a:lnTo>
                  <a:lnTo>
                    <a:pt x="10748" y="480"/>
                  </a:lnTo>
                  <a:lnTo>
                    <a:pt x="10756" y="453"/>
                  </a:lnTo>
                  <a:lnTo>
                    <a:pt x="10761" y="427"/>
                  </a:lnTo>
                  <a:lnTo>
                    <a:pt x="10765" y="404"/>
                  </a:lnTo>
                  <a:lnTo>
                    <a:pt x="10767" y="383"/>
                  </a:lnTo>
                  <a:lnTo>
                    <a:pt x="10768" y="365"/>
                  </a:lnTo>
                  <a:lnTo>
                    <a:pt x="10767" y="350"/>
                  </a:lnTo>
                  <a:lnTo>
                    <a:pt x="10765" y="336"/>
                  </a:lnTo>
                  <a:lnTo>
                    <a:pt x="10761" y="326"/>
                  </a:lnTo>
                  <a:lnTo>
                    <a:pt x="10754" y="314"/>
                  </a:lnTo>
                  <a:lnTo>
                    <a:pt x="10745" y="303"/>
                  </a:lnTo>
                  <a:lnTo>
                    <a:pt x="10735" y="292"/>
                  </a:lnTo>
                  <a:lnTo>
                    <a:pt x="10724" y="283"/>
                  </a:lnTo>
                  <a:lnTo>
                    <a:pt x="10711" y="274"/>
                  </a:lnTo>
                  <a:lnTo>
                    <a:pt x="10697" y="268"/>
                  </a:lnTo>
                  <a:lnTo>
                    <a:pt x="10681" y="261"/>
                  </a:lnTo>
                  <a:lnTo>
                    <a:pt x="10665" y="256"/>
                  </a:lnTo>
                  <a:lnTo>
                    <a:pt x="10617" y="243"/>
                  </a:lnTo>
                  <a:lnTo>
                    <a:pt x="10626" y="209"/>
                  </a:lnTo>
                  <a:lnTo>
                    <a:pt x="11171" y="355"/>
                  </a:lnTo>
                  <a:lnTo>
                    <a:pt x="11208" y="365"/>
                  </a:lnTo>
                  <a:lnTo>
                    <a:pt x="11243" y="376"/>
                  </a:lnTo>
                  <a:lnTo>
                    <a:pt x="11276" y="387"/>
                  </a:lnTo>
                  <a:lnTo>
                    <a:pt x="11307" y="397"/>
                  </a:lnTo>
                  <a:lnTo>
                    <a:pt x="11335" y="408"/>
                  </a:lnTo>
                  <a:lnTo>
                    <a:pt x="11363" y="419"/>
                  </a:lnTo>
                  <a:lnTo>
                    <a:pt x="11387" y="431"/>
                  </a:lnTo>
                  <a:lnTo>
                    <a:pt x="11409" y="442"/>
                  </a:lnTo>
                  <a:lnTo>
                    <a:pt x="11441" y="461"/>
                  </a:lnTo>
                  <a:lnTo>
                    <a:pt x="11469" y="480"/>
                  </a:lnTo>
                  <a:lnTo>
                    <a:pt x="11484" y="490"/>
                  </a:lnTo>
                  <a:lnTo>
                    <a:pt x="11497" y="501"/>
                  </a:lnTo>
                  <a:lnTo>
                    <a:pt x="11509" y="511"/>
                  </a:lnTo>
                  <a:lnTo>
                    <a:pt x="11521" y="522"/>
                  </a:lnTo>
                  <a:lnTo>
                    <a:pt x="11531" y="532"/>
                  </a:lnTo>
                  <a:lnTo>
                    <a:pt x="11541" y="544"/>
                  </a:lnTo>
                  <a:lnTo>
                    <a:pt x="11551" y="556"/>
                  </a:lnTo>
                  <a:lnTo>
                    <a:pt x="11561" y="567"/>
                  </a:lnTo>
                  <a:lnTo>
                    <a:pt x="11568" y="580"/>
                  </a:lnTo>
                  <a:lnTo>
                    <a:pt x="11577" y="592"/>
                  </a:lnTo>
                  <a:lnTo>
                    <a:pt x="11584" y="605"/>
                  </a:lnTo>
                  <a:lnTo>
                    <a:pt x="11590" y="619"/>
                  </a:lnTo>
                  <a:lnTo>
                    <a:pt x="11597" y="632"/>
                  </a:lnTo>
                  <a:lnTo>
                    <a:pt x="11602" y="645"/>
                  </a:lnTo>
                  <a:lnTo>
                    <a:pt x="11607" y="658"/>
                  </a:lnTo>
                  <a:lnTo>
                    <a:pt x="11611" y="671"/>
                  </a:lnTo>
                  <a:lnTo>
                    <a:pt x="11614" y="684"/>
                  </a:lnTo>
                  <a:lnTo>
                    <a:pt x="11617" y="698"/>
                  </a:lnTo>
                  <a:lnTo>
                    <a:pt x="11620" y="711"/>
                  </a:lnTo>
                  <a:lnTo>
                    <a:pt x="11621" y="724"/>
                  </a:lnTo>
                  <a:lnTo>
                    <a:pt x="11622" y="738"/>
                  </a:lnTo>
                  <a:lnTo>
                    <a:pt x="11623" y="751"/>
                  </a:lnTo>
                  <a:lnTo>
                    <a:pt x="11622" y="764"/>
                  </a:lnTo>
                  <a:lnTo>
                    <a:pt x="11622" y="779"/>
                  </a:lnTo>
                  <a:lnTo>
                    <a:pt x="11620" y="792"/>
                  </a:lnTo>
                  <a:lnTo>
                    <a:pt x="11617" y="806"/>
                  </a:lnTo>
                  <a:lnTo>
                    <a:pt x="11615" y="820"/>
                  </a:lnTo>
                  <a:lnTo>
                    <a:pt x="11612" y="833"/>
                  </a:lnTo>
                  <a:lnTo>
                    <a:pt x="11604" y="857"/>
                  </a:lnTo>
                  <a:lnTo>
                    <a:pt x="11596" y="879"/>
                  </a:lnTo>
                  <a:lnTo>
                    <a:pt x="11585" y="899"/>
                  </a:lnTo>
                  <a:lnTo>
                    <a:pt x="11573" y="919"/>
                  </a:lnTo>
                  <a:lnTo>
                    <a:pt x="11560" y="939"/>
                  </a:lnTo>
                  <a:lnTo>
                    <a:pt x="11544" y="956"/>
                  </a:lnTo>
                  <a:lnTo>
                    <a:pt x="11527" y="972"/>
                  </a:lnTo>
                  <a:lnTo>
                    <a:pt x="11509" y="988"/>
                  </a:lnTo>
                  <a:lnTo>
                    <a:pt x="11489" y="1002"/>
                  </a:lnTo>
                  <a:lnTo>
                    <a:pt x="11467" y="1014"/>
                  </a:lnTo>
                  <a:lnTo>
                    <a:pt x="11444" y="1025"/>
                  </a:lnTo>
                  <a:lnTo>
                    <a:pt x="11419" y="1033"/>
                  </a:lnTo>
                  <a:lnTo>
                    <a:pt x="11394" y="1041"/>
                  </a:lnTo>
                  <a:lnTo>
                    <a:pt x="11367" y="1046"/>
                  </a:lnTo>
                  <a:lnTo>
                    <a:pt x="11339" y="1051"/>
                  </a:lnTo>
                  <a:lnTo>
                    <a:pt x="11308" y="1053"/>
                  </a:lnTo>
                  <a:close/>
                  <a:moveTo>
                    <a:pt x="10834" y="872"/>
                  </a:moveTo>
                  <a:lnTo>
                    <a:pt x="10852" y="880"/>
                  </a:lnTo>
                  <a:lnTo>
                    <a:pt x="10870" y="887"/>
                  </a:lnTo>
                  <a:lnTo>
                    <a:pt x="10890" y="896"/>
                  </a:lnTo>
                  <a:lnTo>
                    <a:pt x="10911" y="903"/>
                  </a:lnTo>
                  <a:lnTo>
                    <a:pt x="10934" y="910"/>
                  </a:lnTo>
                  <a:lnTo>
                    <a:pt x="10956" y="918"/>
                  </a:lnTo>
                  <a:lnTo>
                    <a:pt x="10981" y="926"/>
                  </a:lnTo>
                  <a:lnTo>
                    <a:pt x="11008" y="932"/>
                  </a:lnTo>
                  <a:lnTo>
                    <a:pt x="11040" y="941"/>
                  </a:lnTo>
                  <a:lnTo>
                    <a:pt x="11071" y="947"/>
                  </a:lnTo>
                  <a:lnTo>
                    <a:pt x="11100" y="953"/>
                  </a:lnTo>
                  <a:lnTo>
                    <a:pt x="11128" y="957"/>
                  </a:lnTo>
                  <a:lnTo>
                    <a:pt x="11154" y="959"/>
                  </a:lnTo>
                  <a:lnTo>
                    <a:pt x="11177" y="960"/>
                  </a:lnTo>
                  <a:lnTo>
                    <a:pt x="11199" y="960"/>
                  </a:lnTo>
                  <a:lnTo>
                    <a:pt x="11219" y="958"/>
                  </a:lnTo>
                  <a:lnTo>
                    <a:pt x="11237" y="955"/>
                  </a:lnTo>
                  <a:lnTo>
                    <a:pt x="11256" y="950"/>
                  </a:lnTo>
                  <a:lnTo>
                    <a:pt x="11273" y="944"/>
                  </a:lnTo>
                  <a:lnTo>
                    <a:pt x="11290" y="938"/>
                  </a:lnTo>
                  <a:lnTo>
                    <a:pt x="11305" y="929"/>
                  </a:lnTo>
                  <a:lnTo>
                    <a:pt x="11320" y="919"/>
                  </a:lnTo>
                  <a:lnTo>
                    <a:pt x="11334" y="908"/>
                  </a:lnTo>
                  <a:lnTo>
                    <a:pt x="11347" y="896"/>
                  </a:lnTo>
                  <a:lnTo>
                    <a:pt x="11360" y="883"/>
                  </a:lnTo>
                  <a:lnTo>
                    <a:pt x="11371" y="870"/>
                  </a:lnTo>
                  <a:lnTo>
                    <a:pt x="11382" y="856"/>
                  </a:lnTo>
                  <a:lnTo>
                    <a:pt x="11392" y="841"/>
                  </a:lnTo>
                  <a:lnTo>
                    <a:pt x="11401" y="824"/>
                  </a:lnTo>
                  <a:lnTo>
                    <a:pt x="11407" y="808"/>
                  </a:lnTo>
                  <a:lnTo>
                    <a:pt x="11414" y="792"/>
                  </a:lnTo>
                  <a:lnTo>
                    <a:pt x="11419" y="774"/>
                  </a:lnTo>
                  <a:lnTo>
                    <a:pt x="11423" y="760"/>
                  </a:lnTo>
                  <a:lnTo>
                    <a:pt x="11425" y="746"/>
                  </a:lnTo>
                  <a:lnTo>
                    <a:pt x="11427" y="733"/>
                  </a:lnTo>
                  <a:lnTo>
                    <a:pt x="11428" y="719"/>
                  </a:lnTo>
                  <a:lnTo>
                    <a:pt x="11428" y="706"/>
                  </a:lnTo>
                  <a:lnTo>
                    <a:pt x="11428" y="693"/>
                  </a:lnTo>
                  <a:lnTo>
                    <a:pt x="11426" y="678"/>
                  </a:lnTo>
                  <a:lnTo>
                    <a:pt x="11425" y="665"/>
                  </a:lnTo>
                  <a:lnTo>
                    <a:pt x="11421" y="652"/>
                  </a:lnTo>
                  <a:lnTo>
                    <a:pt x="11418" y="639"/>
                  </a:lnTo>
                  <a:lnTo>
                    <a:pt x="11413" y="626"/>
                  </a:lnTo>
                  <a:lnTo>
                    <a:pt x="11408" y="613"/>
                  </a:lnTo>
                  <a:lnTo>
                    <a:pt x="11402" y="600"/>
                  </a:lnTo>
                  <a:lnTo>
                    <a:pt x="11395" y="587"/>
                  </a:lnTo>
                  <a:lnTo>
                    <a:pt x="11388" y="574"/>
                  </a:lnTo>
                  <a:lnTo>
                    <a:pt x="11380" y="561"/>
                  </a:lnTo>
                  <a:lnTo>
                    <a:pt x="11370" y="549"/>
                  </a:lnTo>
                  <a:lnTo>
                    <a:pt x="11360" y="537"/>
                  </a:lnTo>
                  <a:lnTo>
                    <a:pt x="11350" y="525"/>
                  </a:lnTo>
                  <a:lnTo>
                    <a:pt x="11339" y="514"/>
                  </a:lnTo>
                  <a:lnTo>
                    <a:pt x="11327" y="503"/>
                  </a:lnTo>
                  <a:lnTo>
                    <a:pt x="11314" y="492"/>
                  </a:lnTo>
                  <a:lnTo>
                    <a:pt x="11299" y="482"/>
                  </a:lnTo>
                  <a:lnTo>
                    <a:pt x="11284" y="473"/>
                  </a:lnTo>
                  <a:lnTo>
                    <a:pt x="11269" y="464"/>
                  </a:lnTo>
                  <a:lnTo>
                    <a:pt x="11253" y="455"/>
                  </a:lnTo>
                  <a:lnTo>
                    <a:pt x="11235" y="448"/>
                  </a:lnTo>
                  <a:lnTo>
                    <a:pt x="11218" y="439"/>
                  </a:lnTo>
                  <a:lnTo>
                    <a:pt x="11198" y="432"/>
                  </a:lnTo>
                  <a:lnTo>
                    <a:pt x="11180" y="425"/>
                  </a:lnTo>
                  <a:lnTo>
                    <a:pt x="11159" y="418"/>
                  </a:lnTo>
                  <a:lnTo>
                    <a:pt x="11137" y="413"/>
                  </a:lnTo>
                  <a:lnTo>
                    <a:pt x="11114" y="407"/>
                  </a:lnTo>
                  <a:lnTo>
                    <a:pt x="11091" y="402"/>
                  </a:lnTo>
                  <a:lnTo>
                    <a:pt x="11070" y="397"/>
                  </a:lnTo>
                  <a:lnTo>
                    <a:pt x="11048" y="394"/>
                  </a:lnTo>
                  <a:lnTo>
                    <a:pt x="11026" y="391"/>
                  </a:lnTo>
                  <a:lnTo>
                    <a:pt x="11005" y="390"/>
                  </a:lnTo>
                  <a:lnTo>
                    <a:pt x="10985" y="389"/>
                  </a:lnTo>
                  <a:lnTo>
                    <a:pt x="10964" y="388"/>
                  </a:lnTo>
                  <a:lnTo>
                    <a:pt x="10834" y="872"/>
                  </a:lnTo>
                  <a:close/>
                  <a:moveTo>
                    <a:pt x="10673" y="1474"/>
                  </a:moveTo>
                  <a:lnTo>
                    <a:pt x="10698" y="1489"/>
                  </a:lnTo>
                  <a:lnTo>
                    <a:pt x="10724" y="1501"/>
                  </a:lnTo>
                  <a:lnTo>
                    <a:pt x="10750" y="1511"/>
                  </a:lnTo>
                  <a:lnTo>
                    <a:pt x="10776" y="1522"/>
                  </a:lnTo>
                  <a:lnTo>
                    <a:pt x="10802" y="1532"/>
                  </a:lnTo>
                  <a:lnTo>
                    <a:pt x="10827" y="1542"/>
                  </a:lnTo>
                  <a:lnTo>
                    <a:pt x="10853" y="1550"/>
                  </a:lnTo>
                  <a:lnTo>
                    <a:pt x="10879" y="1557"/>
                  </a:lnTo>
                  <a:lnTo>
                    <a:pt x="10900" y="1563"/>
                  </a:lnTo>
                  <a:lnTo>
                    <a:pt x="10920" y="1567"/>
                  </a:lnTo>
                  <a:lnTo>
                    <a:pt x="10940" y="1570"/>
                  </a:lnTo>
                  <a:lnTo>
                    <a:pt x="10960" y="1573"/>
                  </a:lnTo>
                  <a:lnTo>
                    <a:pt x="10979" y="1576"/>
                  </a:lnTo>
                  <a:lnTo>
                    <a:pt x="10998" y="1577"/>
                  </a:lnTo>
                  <a:lnTo>
                    <a:pt x="11015" y="1578"/>
                  </a:lnTo>
                  <a:lnTo>
                    <a:pt x="11033" y="1578"/>
                  </a:lnTo>
                  <a:lnTo>
                    <a:pt x="11050" y="1577"/>
                  </a:lnTo>
                  <a:lnTo>
                    <a:pt x="11066" y="1576"/>
                  </a:lnTo>
                  <a:lnTo>
                    <a:pt x="11083" y="1573"/>
                  </a:lnTo>
                  <a:lnTo>
                    <a:pt x="11098" y="1570"/>
                  </a:lnTo>
                  <a:lnTo>
                    <a:pt x="11113" y="1566"/>
                  </a:lnTo>
                  <a:lnTo>
                    <a:pt x="11128" y="1562"/>
                  </a:lnTo>
                  <a:lnTo>
                    <a:pt x="11143" y="1556"/>
                  </a:lnTo>
                  <a:lnTo>
                    <a:pt x="11157" y="1550"/>
                  </a:lnTo>
                  <a:lnTo>
                    <a:pt x="11170" y="1543"/>
                  </a:lnTo>
                  <a:lnTo>
                    <a:pt x="11183" y="1536"/>
                  </a:lnTo>
                  <a:lnTo>
                    <a:pt x="11195" y="1529"/>
                  </a:lnTo>
                  <a:lnTo>
                    <a:pt x="11206" y="1520"/>
                  </a:lnTo>
                  <a:lnTo>
                    <a:pt x="11217" y="1511"/>
                  </a:lnTo>
                  <a:lnTo>
                    <a:pt x="11227" y="1503"/>
                  </a:lnTo>
                  <a:lnTo>
                    <a:pt x="11236" y="1493"/>
                  </a:lnTo>
                  <a:lnTo>
                    <a:pt x="11245" y="1483"/>
                  </a:lnTo>
                  <a:lnTo>
                    <a:pt x="11254" y="1472"/>
                  </a:lnTo>
                  <a:lnTo>
                    <a:pt x="11261" y="1461"/>
                  </a:lnTo>
                  <a:lnTo>
                    <a:pt x="11269" y="1450"/>
                  </a:lnTo>
                  <a:lnTo>
                    <a:pt x="11276" y="1438"/>
                  </a:lnTo>
                  <a:lnTo>
                    <a:pt x="11281" y="1426"/>
                  </a:lnTo>
                  <a:lnTo>
                    <a:pt x="11286" y="1413"/>
                  </a:lnTo>
                  <a:lnTo>
                    <a:pt x="11291" y="1400"/>
                  </a:lnTo>
                  <a:lnTo>
                    <a:pt x="11295" y="1386"/>
                  </a:lnTo>
                  <a:lnTo>
                    <a:pt x="11299" y="1368"/>
                  </a:lnTo>
                  <a:lnTo>
                    <a:pt x="11303" y="1349"/>
                  </a:lnTo>
                  <a:lnTo>
                    <a:pt x="11304" y="1331"/>
                  </a:lnTo>
                  <a:lnTo>
                    <a:pt x="11304" y="1312"/>
                  </a:lnTo>
                  <a:lnTo>
                    <a:pt x="11304" y="1293"/>
                  </a:lnTo>
                  <a:lnTo>
                    <a:pt x="11302" y="1273"/>
                  </a:lnTo>
                  <a:lnTo>
                    <a:pt x="11297" y="1254"/>
                  </a:lnTo>
                  <a:lnTo>
                    <a:pt x="11293" y="1235"/>
                  </a:lnTo>
                  <a:lnTo>
                    <a:pt x="11286" y="1215"/>
                  </a:lnTo>
                  <a:lnTo>
                    <a:pt x="11279" y="1196"/>
                  </a:lnTo>
                  <a:lnTo>
                    <a:pt x="11268" y="1178"/>
                  </a:lnTo>
                  <a:lnTo>
                    <a:pt x="11257" y="1160"/>
                  </a:lnTo>
                  <a:lnTo>
                    <a:pt x="11243" y="1142"/>
                  </a:lnTo>
                  <a:lnTo>
                    <a:pt x="11228" y="1125"/>
                  </a:lnTo>
                  <a:lnTo>
                    <a:pt x="11210" y="1109"/>
                  </a:lnTo>
                  <a:lnTo>
                    <a:pt x="11192" y="1092"/>
                  </a:lnTo>
                  <a:lnTo>
                    <a:pt x="11171" y="1077"/>
                  </a:lnTo>
                  <a:lnTo>
                    <a:pt x="11148" y="1063"/>
                  </a:lnTo>
                  <a:lnTo>
                    <a:pt x="11124" y="1050"/>
                  </a:lnTo>
                  <a:lnTo>
                    <a:pt x="11098" y="1037"/>
                  </a:lnTo>
                  <a:lnTo>
                    <a:pt x="11071" y="1025"/>
                  </a:lnTo>
                  <a:lnTo>
                    <a:pt x="11041" y="1014"/>
                  </a:lnTo>
                  <a:lnTo>
                    <a:pt x="11011" y="1003"/>
                  </a:lnTo>
                  <a:lnTo>
                    <a:pt x="10978" y="994"/>
                  </a:lnTo>
                  <a:lnTo>
                    <a:pt x="10951" y="987"/>
                  </a:lnTo>
                  <a:lnTo>
                    <a:pt x="10925" y="980"/>
                  </a:lnTo>
                  <a:lnTo>
                    <a:pt x="10901" y="975"/>
                  </a:lnTo>
                  <a:lnTo>
                    <a:pt x="10879" y="969"/>
                  </a:lnTo>
                  <a:lnTo>
                    <a:pt x="10860" y="965"/>
                  </a:lnTo>
                  <a:lnTo>
                    <a:pt x="10842" y="962"/>
                  </a:lnTo>
                  <a:lnTo>
                    <a:pt x="10826" y="959"/>
                  </a:lnTo>
                  <a:lnTo>
                    <a:pt x="10812" y="958"/>
                  </a:lnTo>
                  <a:lnTo>
                    <a:pt x="10673" y="1474"/>
                  </a:lnTo>
                  <a:close/>
                  <a:moveTo>
                    <a:pt x="12905" y="1037"/>
                  </a:moveTo>
                  <a:lnTo>
                    <a:pt x="12932" y="1053"/>
                  </a:lnTo>
                  <a:lnTo>
                    <a:pt x="12958" y="1070"/>
                  </a:lnTo>
                  <a:lnTo>
                    <a:pt x="12983" y="1088"/>
                  </a:lnTo>
                  <a:lnTo>
                    <a:pt x="13007" y="1107"/>
                  </a:lnTo>
                  <a:lnTo>
                    <a:pt x="13029" y="1127"/>
                  </a:lnTo>
                  <a:lnTo>
                    <a:pt x="13051" y="1149"/>
                  </a:lnTo>
                  <a:lnTo>
                    <a:pt x="13070" y="1171"/>
                  </a:lnTo>
                  <a:lnTo>
                    <a:pt x="13090" y="1195"/>
                  </a:lnTo>
                  <a:lnTo>
                    <a:pt x="13107" y="1218"/>
                  </a:lnTo>
                  <a:lnTo>
                    <a:pt x="13124" y="1245"/>
                  </a:lnTo>
                  <a:lnTo>
                    <a:pt x="13139" y="1271"/>
                  </a:lnTo>
                  <a:lnTo>
                    <a:pt x="13153" y="1298"/>
                  </a:lnTo>
                  <a:lnTo>
                    <a:pt x="13166" y="1327"/>
                  </a:lnTo>
                  <a:lnTo>
                    <a:pt x="13177" y="1357"/>
                  </a:lnTo>
                  <a:lnTo>
                    <a:pt x="13188" y="1387"/>
                  </a:lnTo>
                  <a:lnTo>
                    <a:pt x="13197" y="1419"/>
                  </a:lnTo>
                  <a:lnTo>
                    <a:pt x="13205" y="1452"/>
                  </a:lnTo>
                  <a:lnTo>
                    <a:pt x="13211" y="1484"/>
                  </a:lnTo>
                  <a:lnTo>
                    <a:pt x="13216" y="1517"/>
                  </a:lnTo>
                  <a:lnTo>
                    <a:pt x="13218" y="1548"/>
                  </a:lnTo>
                  <a:lnTo>
                    <a:pt x="13219" y="1581"/>
                  </a:lnTo>
                  <a:lnTo>
                    <a:pt x="13219" y="1613"/>
                  </a:lnTo>
                  <a:lnTo>
                    <a:pt x="13217" y="1645"/>
                  </a:lnTo>
                  <a:lnTo>
                    <a:pt x="13214" y="1677"/>
                  </a:lnTo>
                  <a:lnTo>
                    <a:pt x="13208" y="1709"/>
                  </a:lnTo>
                  <a:lnTo>
                    <a:pt x="13202" y="1741"/>
                  </a:lnTo>
                  <a:lnTo>
                    <a:pt x="13193" y="1773"/>
                  </a:lnTo>
                  <a:lnTo>
                    <a:pt x="13183" y="1804"/>
                  </a:lnTo>
                  <a:lnTo>
                    <a:pt x="13171" y="1836"/>
                  </a:lnTo>
                  <a:lnTo>
                    <a:pt x="13158" y="1867"/>
                  </a:lnTo>
                  <a:lnTo>
                    <a:pt x="13143" y="1899"/>
                  </a:lnTo>
                  <a:lnTo>
                    <a:pt x="13127" y="1931"/>
                  </a:lnTo>
                  <a:lnTo>
                    <a:pt x="13108" y="1963"/>
                  </a:lnTo>
                  <a:lnTo>
                    <a:pt x="13089" y="1993"/>
                  </a:lnTo>
                  <a:lnTo>
                    <a:pt x="13068" y="2022"/>
                  </a:lnTo>
                  <a:lnTo>
                    <a:pt x="13047" y="2049"/>
                  </a:lnTo>
                  <a:lnTo>
                    <a:pt x="13024" y="2077"/>
                  </a:lnTo>
                  <a:lnTo>
                    <a:pt x="13002" y="2101"/>
                  </a:lnTo>
                  <a:lnTo>
                    <a:pt x="12978" y="2124"/>
                  </a:lnTo>
                  <a:lnTo>
                    <a:pt x="12954" y="2146"/>
                  </a:lnTo>
                  <a:lnTo>
                    <a:pt x="12928" y="2167"/>
                  </a:lnTo>
                  <a:lnTo>
                    <a:pt x="12901" y="2187"/>
                  </a:lnTo>
                  <a:lnTo>
                    <a:pt x="12873" y="2204"/>
                  </a:lnTo>
                  <a:lnTo>
                    <a:pt x="12845" y="2220"/>
                  </a:lnTo>
                  <a:lnTo>
                    <a:pt x="12815" y="2236"/>
                  </a:lnTo>
                  <a:lnTo>
                    <a:pt x="12786" y="2249"/>
                  </a:lnTo>
                  <a:lnTo>
                    <a:pt x="12754" y="2261"/>
                  </a:lnTo>
                  <a:lnTo>
                    <a:pt x="12723" y="2271"/>
                  </a:lnTo>
                  <a:lnTo>
                    <a:pt x="12690" y="2281"/>
                  </a:lnTo>
                  <a:lnTo>
                    <a:pt x="12659" y="2289"/>
                  </a:lnTo>
                  <a:lnTo>
                    <a:pt x="12626" y="2294"/>
                  </a:lnTo>
                  <a:lnTo>
                    <a:pt x="12594" y="2299"/>
                  </a:lnTo>
                  <a:lnTo>
                    <a:pt x="12563" y="2302"/>
                  </a:lnTo>
                  <a:lnTo>
                    <a:pt x="12532" y="2303"/>
                  </a:lnTo>
                  <a:lnTo>
                    <a:pt x="12501" y="2302"/>
                  </a:lnTo>
                  <a:lnTo>
                    <a:pt x="12470" y="2300"/>
                  </a:lnTo>
                  <a:lnTo>
                    <a:pt x="12439" y="2297"/>
                  </a:lnTo>
                  <a:lnTo>
                    <a:pt x="12408" y="2291"/>
                  </a:lnTo>
                  <a:lnTo>
                    <a:pt x="12379" y="2283"/>
                  </a:lnTo>
                  <a:lnTo>
                    <a:pt x="12348" y="2275"/>
                  </a:lnTo>
                  <a:lnTo>
                    <a:pt x="12319" y="2264"/>
                  </a:lnTo>
                  <a:lnTo>
                    <a:pt x="12288" y="2252"/>
                  </a:lnTo>
                  <a:lnTo>
                    <a:pt x="12259" y="2239"/>
                  </a:lnTo>
                  <a:lnTo>
                    <a:pt x="12229" y="2224"/>
                  </a:lnTo>
                  <a:lnTo>
                    <a:pt x="12201" y="2206"/>
                  </a:lnTo>
                  <a:lnTo>
                    <a:pt x="12174" y="2189"/>
                  </a:lnTo>
                  <a:lnTo>
                    <a:pt x="12148" y="2170"/>
                  </a:lnTo>
                  <a:lnTo>
                    <a:pt x="12123" y="2151"/>
                  </a:lnTo>
                  <a:lnTo>
                    <a:pt x="12099" y="2130"/>
                  </a:lnTo>
                  <a:lnTo>
                    <a:pt x="12077" y="2108"/>
                  </a:lnTo>
                  <a:lnTo>
                    <a:pt x="12056" y="2085"/>
                  </a:lnTo>
                  <a:lnTo>
                    <a:pt x="12037" y="2061"/>
                  </a:lnTo>
                  <a:lnTo>
                    <a:pt x="12018" y="2036"/>
                  </a:lnTo>
                  <a:lnTo>
                    <a:pt x="12001" y="2011"/>
                  </a:lnTo>
                  <a:lnTo>
                    <a:pt x="11986" y="1984"/>
                  </a:lnTo>
                  <a:lnTo>
                    <a:pt x="11971" y="1957"/>
                  </a:lnTo>
                  <a:lnTo>
                    <a:pt x="11958" y="1928"/>
                  </a:lnTo>
                  <a:lnTo>
                    <a:pt x="11946" y="1898"/>
                  </a:lnTo>
                  <a:lnTo>
                    <a:pt x="11935" y="1867"/>
                  </a:lnTo>
                  <a:lnTo>
                    <a:pt x="11927" y="1836"/>
                  </a:lnTo>
                  <a:lnTo>
                    <a:pt x="11919" y="1804"/>
                  </a:lnTo>
                  <a:lnTo>
                    <a:pt x="11914" y="1772"/>
                  </a:lnTo>
                  <a:lnTo>
                    <a:pt x="11909" y="1740"/>
                  </a:lnTo>
                  <a:lnTo>
                    <a:pt x="11906" y="1707"/>
                  </a:lnTo>
                  <a:lnTo>
                    <a:pt x="11906" y="1675"/>
                  </a:lnTo>
                  <a:lnTo>
                    <a:pt x="11906" y="1642"/>
                  </a:lnTo>
                  <a:lnTo>
                    <a:pt x="11909" y="1611"/>
                  </a:lnTo>
                  <a:lnTo>
                    <a:pt x="11914" y="1578"/>
                  </a:lnTo>
                  <a:lnTo>
                    <a:pt x="11919" y="1545"/>
                  </a:lnTo>
                  <a:lnTo>
                    <a:pt x="11927" y="1511"/>
                  </a:lnTo>
                  <a:lnTo>
                    <a:pt x="11935" y="1479"/>
                  </a:lnTo>
                  <a:lnTo>
                    <a:pt x="11946" y="1446"/>
                  </a:lnTo>
                  <a:lnTo>
                    <a:pt x="11959" y="1413"/>
                  </a:lnTo>
                  <a:lnTo>
                    <a:pt x="11974" y="1380"/>
                  </a:lnTo>
                  <a:lnTo>
                    <a:pt x="11989" y="1347"/>
                  </a:lnTo>
                  <a:lnTo>
                    <a:pt x="12007" y="1313"/>
                  </a:lnTo>
                  <a:lnTo>
                    <a:pt x="12026" y="1281"/>
                  </a:lnTo>
                  <a:lnTo>
                    <a:pt x="12047" y="1249"/>
                  </a:lnTo>
                  <a:lnTo>
                    <a:pt x="12068" y="1218"/>
                  </a:lnTo>
                  <a:lnTo>
                    <a:pt x="12090" y="1190"/>
                  </a:lnTo>
                  <a:lnTo>
                    <a:pt x="12114" y="1164"/>
                  </a:lnTo>
                  <a:lnTo>
                    <a:pt x="12138" y="1138"/>
                  </a:lnTo>
                  <a:lnTo>
                    <a:pt x="12163" y="1115"/>
                  </a:lnTo>
                  <a:lnTo>
                    <a:pt x="12190" y="1092"/>
                  </a:lnTo>
                  <a:lnTo>
                    <a:pt x="12217" y="1073"/>
                  </a:lnTo>
                  <a:lnTo>
                    <a:pt x="12246" y="1053"/>
                  </a:lnTo>
                  <a:lnTo>
                    <a:pt x="12275" y="1036"/>
                  </a:lnTo>
                  <a:lnTo>
                    <a:pt x="12306" y="1020"/>
                  </a:lnTo>
                  <a:lnTo>
                    <a:pt x="12337" y="1006"/>
                  </a:lnTo>
                  <a:lnTo>
                    <a:pt x="12370" y="993"/>
                  </a:lnTo>
                  <a:lnTo>
                    <a:pt x="12404" y="982"/>
                  </a:lnTo>
                  <a:lnTo>
                    <a:pt x="12437" y="972"/>
                  </a:lnTo>
                  <a:lnTo>
                    <a:pt x="12468" y="966"/>
                  </a:lnTo>
                  <a:lnTo>
                    <a:pt x="12498" y="960"/>
                  </a:lnTo>
                  <a:lnTo>
                    <a:pt x="12529" y="957"/>
                  </a:lnTo>
                  <a:lnTo>
                    <a:pt x="12558" y="954"/>
                  </a:lnTo>
                  <a:lnTo>
                    <a:pt x="12588" y="954"/>
                  </a:lnTo>
                  <a:lnTo>
                    <a:pt x="12618" y="954"/>
                  </a:lnTo>
                  <a:lnTo>
                    <a:pt x="12648" y="956"/>
                  </a:lnTo>
                  <a:lnTo>
                    <a:pt x="12677" y="959"/>
                  </a:lnTo>
                  <a:lnTo>
                    <a:pt x="12705" y="964"/>
                  </a:lnTo>
                  <a:lnTo>
                    <a:pt x="12735" y="970"/>
                  </a:lnTo>
                  <a:lnTo>
                    <a:pt x="12763" y="978"/>
                  </a:lnTo>
                  <a:lnTo>
                    <a:pt x="12792" y="987"/>
                  </a:lnTo>
                  <a:lnTo>
                    <a:pt x="12821" y="997"/>
                  </a:lnTo>
                  <a:lnTo>
                    <a:pt x="12849" y="1009"/>
                  </a:lnTo>
                  <a:lnTo>
                    <a:pt x="12877" y="1022"/>
                  </a:lnTo>
                  <a:lnTo>
                    <a:pt x="12905" y="1037"/>
                  </a:lnTo>
                  <a:close/>
                  <a:moveTo>
                    <a:pt x="12856" y="1090"/>
                  </a:moveTo>
                  <a:lnTo>
                    <a:pt x="12836" y="1079"/>
                  </a:lnTo>
                  <a:lnTo>
                    <a:pt x="12818" y="1070"/>
                  </a:lnTo>
                  <a:lnTo>
                    <a:pt x="12798" y="1063"/>
                  </a:lnTo>
                  <a:lnTo>
                    <a:pt x="12778" y="1056"/>
                  </a:lnTo>
                  <a:lnTo>
                    <a:pt x="12760" y="1051"/>
                  </a:lnTo>
                  <a:lnTo>
                    <a:pt x="12740" y="1046"/>
                  </a:lnTo>
                  <a:lnTo>
                    <a:pt x="12721" y="1043"/>
                  </a:lnTo>
                  <a:lnTo>
                    <a:pt x="12701" y="1041"/>
                  </a:lnTo>
                  <a:lnTo>
                    <a:pt x="12682" y="1041"/>
                  </a:lnTo>
                  <a:lnTo>
                    <a:pt x="12663" y="1041"/>
                  </a:lnTo>
                  <a:lnTo>
                    <a:pt x="12643" y="1042"/>
                  </a:lnTo>
                  <a:lnTo>
                    <a:pt x="12624" y="1045"/>
                  </a:lnTo>
                  <a:lnTo>
                    <a:pt x="12605" y="1049"/>
                  </a:lnTo>
                  <a:lnTo>
                    <a:pt x="12586" y="1054"/>
                  </a:lnTo>
                  <a:lnTo>
                    <a:pt x="12566" y="1060"/>
                  </a:lnTo>
                  <a:lnTo>
                    <a:pt x="12546" y="1067"/>
                  </a:lnTo>
                  <a:lnTo>
                    <a:pt x="12522" y="1078"/>
                  </a:lnTo>
                  <a:lnTo>
                    <a:pt x="12498" y="1090"/>
                  </a:lnTo>
                  <a:lnTo>
                    <a:pt x="12476" y="1103"/>
                  </a:lnTo>
                  <a:lnTo>
                    <a:pt x="12453" y="1118"/>
                  </a:lnTo>
                  <a:lnTo>
                    <a:pt x="12430" y="1135"/>
                  </a:lnTo>
                  <a:lnTo>
                    <a:pt x="12407" y="1153"/>
                  </a:lnTo>
                  <a:lnTo>
                    <a:pt x="12385" y="1173"/>
                  </a:lnTo>
                  <a:lnTo>
                    <a:pt x="12363" y="1193"/>
                  </a:lnTo>
                  <a:lnTo>
                    <a:pt x="12342" y="1216"/>
                  </a:lnTo>
                  <a:lnTo>
                    <a:pt x="12321" y="1240"/>
                  </a:lnTo>
                  <a:lnTo>
                    <a:pt x="12300" y="1265"/>
                  </a:lnTo>
                  <a:lnTo>
                    <a:pt x="12280" y="1293"/>
                  </a:lnTo>
                  <a:lnTo>
                    <a:pt x="12260" y="1322"/>
                  </a:lnTo>
                  <a:lnTo>
                    <a:pt x="12240" y="1352"/>
                  </a:lnTo>
                  <a:lnTo>
                    <a:pt x="12221" y="1384"/>
                  </a:lnTo>
                  <a:lnTo>
                    <a:pt x="12201" y="1417"/>
                  </a:lnTo>
                  <a:lnTo>
                    <a:pt x="12183" y="1452"/>
                  </a:lnTo>
                  <a:lnTo>
                    <a:pt x="12166" y="1486"/>
                  </a:lnTo>
                  <a:lnTo>
                    <a:pt x="12150" y="1520"/>
                  </a:lnTo>
                  <a:lnTo>
                    <a:pt x="12136" y="1553"/>
                  </a:lnTo>
                  <a:lnTo>
                    <a:pt x="12124" y="1585"/>
                  </a:lnTo>
                  <a:lnTo>
                    <a:pt x="12112" y="1618"/>
                  </a:lnTo>
                  <a:lnTo>
                    <a:pt x="12102" y="1650"/>
                  </a:lnTo>
                  <a:lnTo>
                    <a:pt x="12094" y="1681"/>
                  </a:lnTo>
                  <a:lnTo>
                    <a:pt x="12088" y="1712"/>
                  </a:lnTo>
                  <a:lnTo>
                    <a:pt x="12082" y="1742"/>
                  </a:lnTo>
                  <a:lnTo>
                    <a:pt x="12079" y="1772"/>
                  </a:lnTo>
                  <a:lnTo>
                    <a:pt x="12077" y="1801"/>
                  </a:lnTo>
                  <a:lnTo>
                    <a:pt x="12076" y="1830"/>
                  </a:lnTo>
                  <a:lnTo>
                    <a:pt x="12077" y="1859"/>
                  </a:lnTo>
                  <a:lnTo>
                    <a:pt x="12079" y="1886"/>
                  </a:lnTo>
                  <a:lnTo>
                    <a:pt x="12082" y="1913"/>
                  </a:lnTo>
                  <a:lnTo>
                    <a:pt x="12087" y="1934"/>
                  </a:lnTo>
                  <a:lnTo>
                    <a:pt x="12091" y="1954"/>
                  </a:lnTo>
                  <a:lnTo>
                    <a:pt x="12098" y="1973"/>
                  </a:lnTo>
                  <a:lnTo>
                    <a:pt x="12104" y="1992"/>
                  </a:lnTo>
                  <a:lnTo>
                    <a:pt x="12112" y="2009"/>
                  </a:lnTo>
                  <a:lnTo>
                    <a:pt x="12121" y="2026"/>
                  </a:lnTo>
                  <a:lnTo>
                    <a:pt x="12130" y="2043"/>
                  </a:lnTo>
                  <a:lnTo>
                    <a:pt x="12141" y="2059"/>
                  </a:lnTo>
                  <a:lnTo>
                    <a:pt x="12153" y="2074"/>
                  </a:lnTo>
                  <a:lnTo>
                    <a:pt x="12166" y="2089"/>
                  </a:lnTo>
                  <a:lnTo>
                    <a:pt x="12179" y="2103"/>
                  </a:lnTo>
                  <a:lnTo>
                    <a:pt x="12194" y="2116"/>
                  </a:lnTo>
                  <a:lnTo>
                    <a:pt x="12210" y="2129"/>
                  </a:lnTo>
                  <a:lnTo>
                    <a:pt x="12226" y="2141"/>
                  </a:lnTo>
                  <a:lnTo>
                    <a:pt x="12244" y="2152"/>
                  </a:lnTo>
                  <a:lnTo>
                    <a:pt x="12262" y="2163"/>
                  </a:lnTo>
                  <a:lnTo>
                    <a:pt x="12282" y="2173"/>
                  </a:lnTo>
                  <a:lnTo>
                    <a:pt x="12302" y="2182"/>
                  </a:lnTo>
                  <a:lnTo>
                    <a:pt x="12322" y="2191"/>
                  </a:lnTo>
                  <a:lnTo>
                    <a:pt x="12343" y="2197"/>
                  </a:lnTo>
                  <a:lnTo>
                    <a:pt x="12363" y="2203"/>
                  </a:lnTo>
                  <a:lnTo>
                    <a:pt x="12384" y="2207"/>
                  </a:lnTo>
                  <a:lnTo>
                    <a:pt x="12405" y="2210"/>
                  </a:lnTo>
                  <a:lnTo>
                    <a:pt x="12425" y="2213"/>
                  </a:lnTo>
                  <a:lnTo>
                    <a:pt x="12447" y="2214"/>
                  </a:lnTo>
                  <a:lnTo>
                    <a:pt x="12468" y="2213"/>
                  </a:lnTo>
                  <a:lnTo>
                    <a:pt x="12489" y="2212"/>
                  </a:lnTo>
                  <a:lnTo>
                    <a:pt x="12510" y="2208"/>
                  </a:lnTo>
                  <a:lnTo>
                    <a:pt x="12532" y="2204"/>
                  </a:lnTo>
                  <a:lnTo>
                    <a:pt x="12553" y="2199"/>
                  </a:lnTo>
                  <a:lnTo>
                    <a:pt x="12575" y="2192"/>
                  </a:lnTo>
                  <a:lnTo>
                    <a:pt x="12596" y="2184"/>
                  </a:lnTo>
                  <a:lnTo>
                    <a:pt x="12618" y="2176"/>
                  </a:lnTo>
                  <a:lnTo>
                    <a:pt x="12640" y="2165"/>
                  </a:lnTo>
                  <a:lnTo>
                    <a:pt x="12662" y="2152"/>
                  </a:lnTo>
                  <a:lnTo>
                    <a:pt x="12682" y="2138"/>
                  </a:lnTo>
                  <a:lnTo>
                    <a:pt x="12703" y="2122"/>
                  </a:lnTo>
                  <a:lnTo>
                    <a:pt x="12724" y="2105"/>
                  </a:lnTo>
                  <a:lnTo>
                    <a:pt x="12745" y="2086"/>
                  </a:lnTo>
                  <a:lnTo>
                    <a:pt x="12765" y="2067"/>
                  </a:lnTo>
                  <a:lnTo>
                    <a:pt x="12785" y="2044"/>
                  </a:lnTo>
                  <a:lnTo>
                    <a:pt x="12806" y="2021"/>
                  </a:lnTo>
                  <a:lnTo>
                    <a:pt x="12825" y="1996"/>
                  </a:lnTo>
                  <a:lnTo>
                    <a:pt x="12845" y="1969"/>
                  </a:lnTo>
                  <a:lnTo>
                    <a:pt x="12864" y="1942"/>
                  </a:lnTo>
                  <a:lnTo>
                    <a:pt x="12883" y="1911"/>
                  </a:lnTo>
                  <a:lnTo>
                    <a:pt x="12902" y="1879"/>
                  </a:lnTo>
                  <a:lnTo>
                    <a:pt x="12921" y="1847"/>
                  </a:lnTo>
                  <a:lnTo>
                    <a:pt x="12941" y="1811"/>
                  </a:lnTo>
                  <a:lnTo>
                    <a:pt x="12958" y="1775"/>
                  </a:lnTo>
                  <a:lnTo>
                    <a:pt x="12975" y="1740"/>
                  </a:lnTo>
                  <a:lnTo>
                    <a:pt x="12990" y="1705"/>
                  </a:lnTo>
                  <a:lnTo>
                    <a:pt x="13003" y="1673"/>
                  </a:lnTo>
                  <a:lnTo>
                    <a:pt x="13015" y="1639"/>
                  </a:lnTo>
                  <a:lnTo>
                    <a:pt x="13026" y="1607"/>
                  </a:lnTo>
                  <a:lnTo>
                    <a:pt x="13034" y="1576"/>
                  </a:lnTo>
                  <a:lnTo>
                    <a:pt x="13041" y="1544"/>
                  </a:lnTo>
                  <a:lnTo>
                    <a:pt x="13046" y="1514"/>
                  </a:lnTo>
                  <a:lnTo>
                    <a:pt x="13051" y="1484"/>
                  </a:lnTo>
                  <a:lnTo>
                    <a:pt x="13053" y="1455"/>
                  </a:lnTo>
                  <a:lnTo>
                    <a:pt x="13054" y="1426"/>
                  </a:lnTo>
                  <a:lnTo>
                    <a:pt x="13054" y="1399"/>
                  </a:lnTo>
                  <a:lnTo>
                    <a:pt x="13052" y="1372"/>
                  </a:lnTo>
                  <a:lnTo>
                    <a:pt x="13047" y="1346"/>
                  </a:lnTo>
                  <a:lnTo>
                    <a:pt x="13044" y="1325"/>
                  </a:lnTo>
                  <a:lnTo>
                    <a:pt x="13039" y="1306"/>
                  </a:lnTo>
                  <a:lnTo>
                    <a:pt x="13032" y="1286"/>
                  </a:lnTo>
                  <a:lnTo>
                    <a:pt x="13024" y="1267"/>
                  </a:lnTo>
                  <a:lnTo>
                    <a:pt x="13017" y="1250"/>
                  </a:lnTo>
                  <a:lnTo>
                    <a:pt x="13007" y="1233"/>
                  </a:lnTo>
                  <a:lnTo>
                    <a:pt x="12996" y="1215"/>
                  </a:lnTo>
                  <a:lnTo>
                    <a:pt x="12985" y="1199"/>
                  </a:lnTo>
                  <a:lnTo>
                    <a:pt x="12972" y="1184"/>
                  </a:lnTo>
                  <a:lnTo>
                    <a:pt x="12959" y="1168"/>
                  </a:lnTo>
                  <a:lnTo>
                    <a:pt x="12944" y="1153"/>
                  </a:lnTo>
                  <a:lnTo>
                    <a:pt x="12929" y="1140"/>
                  </a:lnTo>
                  <a:lnTo>
                    <a:pt x="12912" y="1126"/>
                  </a:lnTo>
                  <a:lnTo>
                    <a:pt x="12894" y="1113"/>
                  </a:lnTo>
                  <a:lnTo>
                    <a:pt x="12875" y="1101"/>
                  </a:lnTo>
                  <a:lnTo>
                    <a:pt x="12856" y="1090"/>
                  </a:lnTo>
                  <a:close/>
                  <a:moveTo>
                    <a:pt x="13970" y="3461"/>
                  </a:moveTo>
                  <a:lnTo>
                    <a:pt x="13703" y="3236"/>
                  </a:lnTo>
                  <a:lnTo>
                    <a:pt x="13756" y="2485"/>
                  </a:lnTo>
                  <a:lnTo>
                    <a:pt x="13739" y="2471"/>
                  </a:lnTo>
                  <a:lnTo>
                    <a:pt x="13721" y="2458"/>
                  </a:lnTo>
                  <a:lnTo>
                    <a:pt x="13707" y="2446"/>
                  </a:lnTo>
                  <a:lnTo>
                    <a:pt x="13694" y="2435"/>
                  </a:lnTo>
                  <a:lnTo>
                    <a:pt x="13684" y="2427"/>
                  </a:lnTo>
                  <a:lnTo>
                    <a:pt x="13675" y="2417"/>
                  </a:lnTo>
                  <a:lnTo>
                    <a:pt x="13664" y="2408"/>
                  </a:lnTo>
                  <a:lnTo>
                    <a:pt x="13652" y="2397"/>
                  </a:lnTo>
                  <a:lnTo>
                    <a:pt x="13408" y="2687"/>
                  </a:lnTo>
                  <a:lnTo>
                    <a:pt x="13389" y="2710"/>
                  </a:lnTo>
                  <a:lnTo>
                    <a:pt x="13374" y="2731"/>
                  </a:lnTo>
                  <a:lnTo>
                    <a:pt x="13360" y="2751"/>
                  </a:lnTo>
                  <a:lnTo>
                    <a:pt x="13349" y="2768"/>
                  </a:lnTo>
                  <a:lnTo>
                    <a:pt x="13341" y="2784"/>
                  </a:lnTo>
                  <a:lnTo>
                    <a:pt x="13335" y="2799"/>
                  </a:lnTo>
                  <a:lnTo>
                    <a:pt x="13332" y="2812"/>
                  </a:lnTo>
                  <a:lnTo>
                    <a:pt x="13330" y="2822"/>
                  </a:lnTo>
                  <a:lnTo>
                    <a:pt x="13332" y="2837"/>
                  </a:lnTo>
                  <a:lnTo>
                    <a:pt x="13335" y="2850"/>
                  </a:lnTo>
                  <a:lnTo>
                    <a:pt x="13339" y="2863"/>
                  </a:lnTo>
                  <a:lnTo>
                    <a:pt x="13346" y="2876"/>
                  </a:lnTo>
                  <a:lnTo>
                    <a:pt x="13353" y="2889"/>
                  </a:lnTo>
                  <a:lnTo>
                    <a:pt x="13363" y="2901"/>
                  </a:lnTo>
                  <a:lnTo>
                    <a:pt x="13374" y="2914"/>
                  </a:lnTo>
                  <a:lnTo>
                    <a:pt x="13387" y="2925"/>
                  </a:lnTo>
                  <a:lnTo>
                    <a:pt x="13426" y="2959"/>
                  </a:lnTo>
                  <a:lnTo>
                    <a:pt x="13403" y="2986"/>
                  </a:lnTo>
                  <a:lnTo>
                    <a:pt x="12975" y="2626"/>
                  </a:lnTo>
                  <a:lnTo>
                    <a:pt x="12998" y="2599"/>
                  </a:lnTo>
                  <a:lnTo>
                    <a:pt x="13035" y="2630"/>
                  </a:lnTo>
                  <a:lnTo>
                    <a:pt x="13052" y="2643"/>
                  </a:lnTo>
                  <a:lnTo>
                    <a:pt x="13067" y="2653"/>
                  </a:lnTo>
                  <a:lnTo>
                    <a:pt x="13083" y="2660"/>
                  </a:lnTo>
                  <a:lnTo>
                    <a:pt x="13098" y="2666"/>
                  </a:lnTo>
                  <a:lnTo>
                    <a:pt x="13106" y="2668"/>
                  </a:lnTo>
                  <a:lnTo>
                    <a:pt x="13115" y="2669"/>
                  </a:lnTo>
                  <a:lnTo>
                    <a:pt x="13122" y="2670"/>
                  </a:lnTo>
                  <a:lnTo>
                    <a:pt x="13130" y="2670"/>
                  </a:lnTo>
                  <a:lnTo>
                    <a:pt x="13138" y="2669"/>
                  </a:lnTo>
                  <a:lnTo>
                    <a:pt x="13145" y="2669"/>
                  </a:lnTo>
                  <a:lnTo>
                    <a:pt x="13153" y="2667"/>
                  </a:lnTo>
                  <a:lnTo>
                    <a:pt x="13161" y="2665"/>
                  </a:lnTo>
                  <a:lnTo>
                    <a:pt x="13170" y="2661"/>
                  </a:lnTo>
                  <a:lnTo>
                    <a:pt x="13180" y="2655"/>
                  </a:lnTo>
                  <a:lnTo>
                    <a:pt x="13192" y="2647"/>
                  </a:lnTo>
                  <a:lnTo>
                    <a:pt x="13205" y="2636"/>
                  </a:lnTo>
                  <a:lnTo>
                    <a:pt x="13219" y="2623"/>
                  </a:lnTo>
                  <a:lnTo>
                    <a:pt x="13234" y="2608"/>
                  </a:lnTo>
                  <a:lnTo>
                    <a:pt x="13250" y="2589"/>
                  </a:lnTo>
                  <a:lnTo>
                    <a:pt x="13267" y="2570"/>
                  </a:lnTo>
                  <a:lnTo>
                    <a:pt x="13810" y="1923"/>
                  </a:lnTo>
                  <a:lnTo>
                    <a:pt x="13828" y="1901"/>
                  </a:lnTo>
                  <a:lnTo>
                    <a:pt x="13844" y="1879"/>
                  </a:lnTo>
                  <a:lnTo>
                    <a:pt x="13858" y="1861"/>
                  </a:lnTo>
                  <a:lnTo>
                    <a:pt x="13868" y="1842"/>
                  </a:lnTo>
                  <a:lnTo>
                    <a:pt x="13877" y="1827"/>
                  </a:lnTo>
                  <a:lnTo>
                    <a:pt x="13883" y="1813"/>
                  </a:lnTo>
                  <a:lnTo>
                    <a:pt x="13886" y="1800"/>
                  </a:lnTo>
                  <a:lnTo>
                    <a:pt x="13887" y="1789"/>
                  </a:lnTo>
                  <a:lnTo>
                    <a:pt x="13886" y="1775"/>
                  </a:lnTo>
                  <a:lnTo>
                    <a:pt x="13883" y="1762"/>
                  </a:lnTo>
                  <a:lnTo>
                    <a:pt x="13878" y="1748"/>
                  </a:lnTo>
                  <a:lnTo>
                    <a:pt x="13872" y="1735"/>
                  </a:lnTo>
                  <a:lnTo>
                    <a:pt x="13864" y="1722"/>
                  </a:lnTo>
                  <a:lnTo>
                    <a:pt x="13854" y="1710"/>
                  </a:lnTo>
                  <a:lnTo>
                    <a:pt x="13842" y="1697"/>
                  </a:lnTo>
                  <a:lnTo>
                    <a:pt x="13829" y="1685"/>
                  </a:lnTo>
                  <a:lnTo>
                    <a:pt x="13791" y="1653"/>
                  </a:lnTo>
                  <a:lnTo>
                    <a:pt x="13814" y="1626"/>
                  </a:lnTo>
                  <a:lnTo>
                    <a:pt x="14179" y="1932"/>
                  </a:lnTo>
                  <a:lnTo>
                    <a:pt x="14217" y="1964"/>
                  </a:lnTo>
                  <a:lnTo>
                    <a:pt x="14252" y="1996"/>
                  </a:lnTo>
                  <a:lnTo>
                    <a:pt x="14283" y="2025"/>
                  </a:lnTo>
                  <a:lnTo>
                    <a:pt x="14312" y="2054"/>
                  </a:lnTo>
                  <a:lnTo>
                    <a:pt x="14338" y="2081"/>
                  </a:lnTo>
                  <a:lnTo>
                    <a:pt x="14360" y="2106"/>
                  </a:lnTo>
                  <a:lnTo>
                    <a:pt x="14378" y="2130"/>
                  </a:lnTo>
                  <a:lnTo>
                    <a:pt x="14393" y="2152"/>
                  </a:lnTo>
                  <a:lnTo>
                    <a:pt x="14407" y="2175"/>
                  </a:lnTo>
                  <a:lnTo>
                    <a:pt x="14418" y="2196"/>
                  </a:lnTo>
                  <a:lnTo>
                    <a:pt x="14428" y="2219"/>
                  </a:lnTo>
                  <a:lnTo>
                    <a:pt x="14436" y="2243"/>
                  </a:lnTo>
                  <a:lnTo>
                    <a:pt x="14442" y="2268"/>
                  </a:lnTo>
                  <a:lnTo>
                    <a:pt x="14447" y="2293"/>
                  </a:lnTo>
                  <a:lnTo>
                    <a:pt x="14450" y="2318"/>
                  </a:lnTo>
                  <a:lnTo>
                    <a:pt x="14451" y="2346"/>
                  </a:lnTo>
                  <a:lnTo>
                    <a:pt x="14450" y="2359"/>
                  </a:lnTo>
                  <a:lnTo>
                    <a:pt x="14450" y="2372"/>
                  </a:lnTo>
                  <a:lnTo>
                    <a:pt x="14448" y="2385"/>
                  </a:lnTo>
                  <a:lnTo>
                    <a:pt x="14446" y="2397"/>
                  </a:lnTo>
                  <a:lnTo>
                    <a:pt x="14443" y="2410"/>
                  </a:lnTo>
                  <a:lnTo>
                    <a:pt x="14440" y="2422"/>
                  </a:lnTo>
                  <a:lnTo>
                    <a:pt x="14437" y="2435"/>
                  </a:lnTo>
                  <a:lnTo>
                    <a:pt x="14433" y="2447"/>
                  </a:lnTo>
                  <a:lnTo>
                    <a:pt x="14428" y="2459"/>
                  </a:lnTo>
                  <a:lnTo>
                    <a:pt x="14423" y="2471"/>
                  </a:lnTo>
                  <a:lnTo>
                    <a:pt x="14416" y="2482"/>
                  </a:lnTo>
                  <a:lnTo>
                    <a:pt x="14410" y="2494"/>
                  </a:lnTo>
                  <a:lnTo>
                    <a:pt x="14395" y="2516"/>
                  </a:lnTo>
                  <a:lnTo>
                    <a:pt x="14378" y="2538"/>
                  </a:lnTo>
                  <a:lnTo>
                    <a:pt x="14368" y="2549"/>
                  </a:lnTo>
                  <a:lnTo>
                    <a:pt x="14358" y="2560"/>
                  </a:lnTo>
                  <a:lnTo>
                    <a:pt x="14348" y="2570"/>
                  </a:lnTo>
                  <a:lnTo>
                    <a:pt x="14338" y="2580"/>
                  </a:lnTo>
                  <a:lnTo>
                    <a:pt x="14326" y="2588"/>
                  </a:lnTo>
                  <a:lnTo>
                    <a:pt x="14315" y="2597"/>
                  </a:lnTo>
                  <a:lnTo>
                    <a:pt x="14303" y="2605"/>
                  </a:lnTo>
                  <a:lnTo>
                    <a:pt x="14291" y="2611"/>
                  </a:lnTo>
                  <a:lnTo>
                    <a:pt x="14279" y="2618"/>
                  </a:lnTo>
                  <a:lnTo>
                    <a:pt x="14266" y="2624"/>
                  </a:lnTo>
                  <a:lnTo>
                    <a:pt x="14253" y="2630"/>
                  </a:lnTo>
                  <a:lnTo>
                    <a:pt x="14240" y="2634"/>
                  </a:lnTo>
                  <a:lnTo>
                    <a:pt x="14227" y="2638"/>
                  </a:lnTo>
                  <a:lnTo>
                    <a:pt x="14213" y="2642"/>
                  </a:lnTo>
                  <a:lnTo>
                    <a:pt x="14198" y="2645"/>
                  </a:lnTo>
                  <a:lnTo>
                    <a:pt x="14184" y="2647"/>
                  </a:lnTo>
                  <a:lnTo>
                    <a:pt x="14169" y="2649"/>
                  </a:lnTo>
                  <a:lnTo>
                    <a:pt x="14154" y="2650"/>
                  </a:lnTo>
                  <a:lnTo>
                    <a:pt x="14138" y="2650"/>
                  </a:lnTo>
                  <a:lnTo>
                    <a:pt x="14123" y="2650"/>
                  </a:lnTo>
                  <a:lnTo>
                    <a:pt x="14108" y="2649"/>
                  </a:lnTo>
                  <a:lnTo>
                    <a:pt x="14092" y="2647"/>
                  </a:lnTo>
                  <a:lnTo>
                    <a:pt x="14075" y="2645"/>
                  </a:lnTo>
                  <a:lnTo>
                    <a:pt x="14059" y="2641"/>
                  </a:lnTo>
                  <a:lnTo>
                    <a:pt x="14043" y="2637"/>
                  </a:lnTo>
                  <a:lnTo>
                    <a:pt x="14025" y="2632"/>
                  </a:lnTo>
                  <a:lnTo>
                    <a:pt x="14008" y="2626"/>
                  </a:lnTo>
                  <a:lnTo>
                    <a:pt x="13990" y="2620"/>
                  </a:lnTo>
                  <a:lnTo>
                    <a:pt x="13973" y="2613"/>
                  </a:lnTo>
                  <a:lnTo>
                    <a:pt x="13954" y="2605"/>
                  </a:lnTo>
                  <a:lnTo>
                    <a:pt x="13936" y="2597"/>
                  </a:lnTo>
                  <a:lnTo>
                    <a:pt x="13917" y="2587"/>
                  </a:lnTo>
                  <a:lnTo>
                    <a:pt x="13884" y="3047"/>
                  </a:lnTo>
                  <a:lnTo>
                    <a:pt x="13880" y="3086"/>
                  </a:lnTo>
                  <a:lnTo>
                    <a:pt x="13879" y="3121"/>
                  </a:lnTo>
                  <a:lnTo>
                    <a:pt x="13879" y="3155"/>
                  </a:lnTo>
                  <a:lnTo>
                    <a:pt x="13880" y="3185"/>
                  </a:lnTo>
                  <a:lnTo>
                    <a:pt x="13881" y="3212"/>
                  </a:lnTo>
                  <a:lnTo>
                    <a:pt x="13885" y="3237"/>
                  </a:lnTo>
                  <a:lnTo>
                    <a:pt x="13889" y="3260"/>
                  </a:lnTo>
                  <a:lnTo>
                    <a:pt x="13895" y="3281"/>
                  </a:lnTo>
                  <a:lnTo>
                    <a:pt x="13901" y="3299"/>
                  </a:lnTo>
                  <a:lnTo>
                    <a:pt x="13910" y="3318"/>
                  </a:lnTo>
                  <a:lnTo>
                    <a:pt x="13920" y="3338"/>
                  </a:lnTo>
                  <a:lnTo>
                    <a:pt x="13932" y="3356"/>
                  </a:lnTo>
                  <a:lnTo>
                    <a:pt x="13945" y="3376"/>
                  </a:lnTo>
                  <a:lnTo>
                    <a:pt x="13959" y="3394"/>
                  </a:lnTo>
                  <a:lnTo>
                    <a:pt x="13975" y="3414"/>
                  </a:lnTo>
                  <a:lnTo>
                    <a:pt x="13993" y="3433"/>
                  </a:lnTo>
                  <a:lnTo>
                    <a:pt x="13970" y="3461"/>
                  </a:lnTo>
                  <a:close/>
                  <a:moveTo>
                    <a:pt x="13691" y="2351"/>
                  </a:moveTo>
                  <a:lnTo>
                    <a:pt x="13704" y="2362"/>
                  </a:lnTo>
                  <a:lnTo>
                    <a:pt x="13715" y="2372"/>
                  </a:lnTo>
                  <a:lnTo>
                    <a:pt x="13725" y="2379"/>
                  </a:lnTo>
                  <a:lnTo>
                    <a:pt x="13731" y="2386"/>
                  </a:lnTo>
                  <a:lnTo>
                    <a:pt x="13750" y="2401"/>
                  </a:lnTo>
                  <a:lnTo>
                    <a:pt x="13767" y="2414"/>
                  </a:lnTo>
                  <a:lnTo>
                    <a:pt x="13785" y="2427"/>
                  </a:lnTo>
                  <a:lnTo>
                    <a:pt x="13802" y="2438"/>
                  </a:lnTo>
                  <a:lnTo>
                    <a:pt x="13819" y="2449"/>
                  </a:lnTo>
                  <a:lnTo>
                    <a:pt x="13837" y="2459"/>
                  </a:lnTo>
                  <a:lnTo>
                    <a:pt x="13853" y="2467"/>
                  </a:lnTo>
                  <a:lnTo>
                    <a:pt x="13871" y="2476"/>
                  </a:lnTo>
                  <a:lnTo>
                    <a:pt x="13887" y="2483"/>
                  </a:lnTo>
                  <a:lnTo>
                    <a:pt x="13903" y="2489"/>
                  </a:lnTo>
                  <a:lnTo>
                    <a:pt x="13920" y="2494"/>
                  </a:lnTo>
                  <a:lnTo>
                    <a:pt x="13936" y="2498"/>
                  </a:lnTo>
                  <a:lnTo>
                    <a:pt x="13952" y="2501"/>
                  </a:lnTo>
                  <a:lnTo>
                    <a:pt x="13968" y="2503"/>
                  </a:lnTo>
                  <a:lnTo>
                    <a:pt x="13984" y="2505"/>
                  </a:lnTo>
                  <a:lnTo>
                    <a:pt x="13999" y="2506"/>
                  </a:lnTo>
                  <a:lnTo>
                    <a:pt x="14014" y="2505"/>
                  </a:lnTo>
                  <a:lnTo>
                    <a:pt x="14030" y="2503"/>
                  </a:lnTo>
                  <a:lnTo>
                    <a:pt x="14045" y="2501"/>
                  </a:lnTo>
                  <a:lnTo>
                    <a:pt x="14059" y="2499"/>
                  </a:lnTo>
                  <a:lnTo>
                    <a:pt x="14073" y="2496"/>
                  </a:lnTo>
                  <a:lnTo>
                    <a:pt x="14086" y="2491"/>
                  </a:lnTo>
                  <a:lnTo>
                    <a:pt x="14100" y="2486"/>
                  </a:lnTo>
                  <a:lnTo>
                    <a:pt x="14113" y="2481"/>
                  </a:lnTo>
                  <a:lnTo>
                    <a:pt x="14125" y="2474"/>
                  </a:lnTo>
                  <a:lnTo>
                    <a:pt x="14137" y="2467"/>
                  </a:lnTo>
                  <a:lnTo>
                    <a:pt x="14149" y="2459"/>
                  </a:lnTo>
                  <a:lnTo>
                    <a:pt x="14161" y="2450"/>
                  </a:lnTo>
                  <a:lnTo>
                    <a:pt x="14172" y="2441"/>
                  </a:lnTo>
                  <a:lnTo>
                    <a:pt x="14183" y="2430"/>
                  </a:lnTo>
                  <a:lnTo>
                    <a:pt x="14194" y="2420"/>
                  </a:lnTo>
                  <a:lnTo>
                    <a:pt x="14205" y="2409"/>
                  </a:lnTo>
                  <a:lnTo>
                    <a:pt x="14214" y="2397"/>
                  </a:lnTo>
                  <a:lnTo>
                    <a:pt x="14222" y="2385"/>
                  </a:lnTo>
                  <a:lnTo>
                    <a:pt x="14231" y="2373"/>
                  </a:lnTo>
                  <a:lnTo>
                    <a:pt x="14239" y="2361"/>
                  </a:lnTo>
                  <a:lnTo>
                    <a:pt x="14245" y="2349"/>
                  </a:lnTo>
                  <a:lnTo>
                    <a:pt x="14251" y="2336"/>
                  </a:lnTo>
                  <a:lnTo>
                    <a:pt x="14256" y="2324"/>
                  </a:lnTo>
                  <a:lnTo>
                    <a:pt x="14262" y="2311"/>
                  </a:lnTo>
                  <a:lnTo>
                    <a:pt x="14265" y="2299"/>
                  </a:lnTo>
                  <a:lnTo>
                    <a:pt x="14268" y="2286"/>
                  </a:lnTo>
                  <a:lnTo>
                    <a:pt x="14271" y="2273"/>
                  </a:lnTo>
                  <a:lnTo>
                    <a:pt x="14272" y="2259"/>
                  </a:lnTo>
                  <a:lnTo>
                    <a:pt x="14274" y="2246"/>
                  </a:lnTo>
                  <a:lnTo>
                    <a:pt x="14275" y="2233"/>
                  </a:lnTo>
                  <a:lnTo>
                    <a:pt x="14275" y="2220"/>
                  </a:lnTo>
                  <a:lnTo>
                    <a:pt x="14274" y="2207"/>
                  </a:lnTo>
                  <a:lnTo>
                    <a:pt x="14272" y="2193"/>
                  </a:lnTo>
                  <a:lnTo>
                    <a:pt x="14270" y="2180"/>
                  </a:lnTo>
                  <a:lnTo>
                    <a:pt x="14267" y="2168"/>
                  </a:lnTo>
                  <a:lnTo>
                    <a:pt x="14264" y="2155"/>
                  </a:lnTo>
                  <a:lnTo>
                    <a:pt x="14259" y="2142"/>
                  </a:lnTo>
                  <a:lnTo>
                    <a:pt x="14254" y="2130"/>
                  </a:lnTo>
                  <a:lnTo>
                    <a:pt x="14248" y="2118"/>
                  </a:lnTo>
                  <a:lnTo>
                    <a:pt x="14242" y="2106"/>
                  </a:lnTo>
                  <a:lnTo>
                    <a:pt x="14235" y="2094"/>
                  </a:lnTo>
                  <a:lnTo>
                    <a:pt x="14228" y="2083"/>
                  </a:lnTo>
                  <a:lnTo>
                    <a:pt x="14219" y="2071"/>
                  </a:lnTo>
                  <a:lnTo>
                    <a:pt x="14210" y="2060"/>
                  </a:lnTo>
                  <a:lnTo>
                    <a:pt x="14201" y="2049"/>
                  </a:lnTo>
                  <a:lnTo>
                    <a:pt x="14191" y="2038"/>
                  </a:lnTo>
                  <a:lnTo>
                    <a:pt x="14179" y="2029"/>
                  </a:lnTo>
                  <a:lnTo>
                    <a:pt x="14168" y="2018"/>
                  </a:lnTo>
                  <a:lnTo>
                    <a:pt x="14144" y="1999"/>
                  </a:lnTo>
                  <a:lnTo>
                    <a:pt x="14115" y="1980"/>
                  </a:lnTo>
                  <a:lnTo>
                    <a:pt x="14080" y="1958"/>
                  </a:lnTo>
                  <a:lnTo>
                    <a:pt x="14039" y="1935"/>
                  </a:lnTo>
                  <a:lnTo>
                    <a:pt x="13691" y="2351"/>
                  </a:lnTo>
                  <a:close/>
                  <a:moveTo>
                    <a:pt x="15971" y="3832"/>
                  </a:moveTo>
                  <a:lnTo>
                    <a:pt x="15605" y="4098"/>
                  </a:lnTo>
                  <a:lnTo>
                    <a:pt x="15585" y="4068"/>
                  </a:lnTo>
                  <a:lnTo>
                    <a:pt x="15608" y="4046"/>
                  </a:lnTo>
                  <a:lnTo>
                    <a:pt x="15628" y="4024"/>
                  </a:lnTo>
                  <a:lnTo>
                    <a:pt x="15648" y="4002"/>
                  </a:lnTo>
                  <a:lnTo>
                    <a:pt x="15665" y="3980"/>
                  </a:lnTo>
                  <a:lnTo>
                    <a:pt x="15681" y="3959"/>
                  </a:lnTo>
                  <a:lnTo>
                    <a:pt x="15695" y="3938"/>
                  </a:lnTo>
                  <a:lnTo>
                    <a:pt x="15706" y="3917"/>
                  </a:lnTo>
                  <a:lnTo>
                    <a:pt x="15716" y="3897"/>
                  </a:lnTo>
                  <a:lnTo>
                    <a:pt x="15724" y="3877"/>
                  </a:lnTo>
                  <a:lnTo>
                    <a:pt x="15731" y="3855"/>
                  </a:lnTo>
                  <a:lnTo>
                    <a:pt x="15736" y="3834"/>
                  </a:lnTo>
                  <a:lnTo>
                    <a:pt x="15740" y="3812"/>
                  </a:lnTo>
                  <a:lnTo>
                    <a:pt x="15743" y="3791"/>
                  </a:lnTo>
                  <a:lnTo>
                    <a:pt x="15743" y="3768"/>
                  </a:lnTo>
                  <a:lnTo>
                    <a:pt x="15741" y="3745"/>
                  </a:lnTo>
                  <a:lnTo>
                    <a:pt x="15739" y="3722"/>
                  </a:lnTo>
                  <a:lnTo>
                    <a:pt x="15736" y="3699"/>
                  </a:lnTo>
                  <a:lnTo>
                    <a:pt x="15732" y="3676"/>
                  </a:lnTo>
                  <a:lnTo>
                    <a:pt x="15725" y="3654"/>
                  </a:lnTo>
                  <a:lnTo>
                    <a:pt x="15718" y="3634"/>
                  </a:lnTo>
                  <a:lnTo>
                    <a:pt x="15709" y="3613"/>
                  </a:lnTo>
                  <a:lnTo>
                    <a:pt x="15699" y="3593"/>
                  </a:lnTo>
                  <a:lnTo>
                    <a:pt x="15688" y="3575"/>
                  </a:lnTo>
                  <a:lnTo>
                    <a:pt x="15676" y="3556"/>
                  </a:lnTo>
                  <a:lnTo>
                    <a:pt x="15661" y="3537"/>
                  </a:lnTo>
                  <a:lnTo>
                    <a:pt x="15645" y="3520"/>
                  </a:lnTo>
                  <a:lnTo>
                    <a:pt x="15627" y="3505"/>
                  </a:lnTo>
                  <a:lnTo>
                    <a:pt x="15610" y="3491"/>
                  </a:lnTo>
                  <a:lnTo>
                    <a:pt x="15591" y="3480"/>
                  </a:lnTo>
                  <a:lnTo>
                    <a:pt x="15572" y="3471"/>
                  </a:lnTo>
                  <a:lnTo>
                    <a:pt x="15551" y="3464"/>
                  </a:lnTo>
                  <a:lnTo>
                    <a:pt x="15529" y="3458"/>
                  </a:lnTo>
                  <a:lnTo>
                    <a:pt x="15507" y="3455"/>
                  </a:lnTo>
                  <a:lnTo>
                    <a:pt x="15487" y="3454"/>
                  </a:lnTo>
                  <a:lnTo>
                    <a:pt x="15466" y="3454"/>
                  </a:lnTo>
                  <a:lnTo>
                    <a:pt x="15447" y="3457"/>
                  </a:lnTo>
                  <a:lnTo>
                    <a:pt x="15429" y="3462"/>
                  </a:lnTo>
                  <a:lnTo>
                    <a:pt x="15412" y="3468"/>
                  </a:lnTo>
                  <a:lnTo>
                    <a:pt x="15394" y="3477"/>
                  </a:lnTo>
                  <a:lnTo>
                    <a:pt x="15378" y="3487"/>
                  </a:lnTo>
                  <a:lnTo>
                    <a:pt x="15367" y="3497"/>
                  </a:lnTo>
                  <a:lnTo>
                    <a:pt x="15356" y="3506"/>
                  </a:lnTo>
                  <a:lnTo>
                    <a:pt x="15346" y="3517"/>
                  </a:lnTo>
                  <a:lnTo>
                    <a:pt x="15337" y="3529"/>
                  </a:lnTo>
                  <a:lnTo>
                    <a:pt x="15331" y="3542"/>
                  </a:lnTo>
                  <a:lnTo>
                    <a:pt x="15324" y="3555"/>
                  </a:lnTo>
                  <a:lnTo>
                    <a:pt x="15319" y="3569"/>
                  </a:lnTo>
                  <a:lnTo>
                    <a:pt x="15315" y="3585"/>
                  </a:lnTo>
                  <a:lnTo>
                    <a:pt x="15311" y="3597"/>
                  </a:lnTo>
                  <a:lnTo>
                    <a:pt x="15309" y="3610"/>
                  </a:lnTo>
                  <a:lnTo>
                    <a:pt x="15308" y="3624"/>
                  </a:lnTo>
                  <a:lnTo>
                    <a:pt x="15306" y="3640"/>
                  </a:lnTo>
                  <a:lnTo>
                    <a:pt x="15305" y="3675"/>
                  </a:lnTo>
                  <a:lnTo>
                    <a:pt x="15306" y="3715"/>
                  </a:lnTo>
                  <a:lnTo>
                    <a:pt x="15308" y="3761"/>
                  </a:lnTo>
                  <a:lnTo>
                    <a:pt x="15311" y="3811"/>
                  </a:lnTo>
                  <a:lnTo>
                    <a:pt x="15318" y="3867"/>
                  </a:lnTo>
                  <a:lnTo>
                    <a:pt x="15325" y="3928"/>
                  </a:lnTo>
                  <a:lnTo>
                    <a:pt x="15332" y="3977"/>
                  </a:lnTo>
                  <a:lnTo>
                    <a:pt x="15337" y="4022"/>
                  </a:lnTo>
                  <a:lnTo>
                    <a:pt x="15342" y="4065"/>
                  </a:lnTo>
                  <a:lnTo>
                    <a:pt x="15346" y="4103"/>
                  </a:lnTo>
                  <a:lnTo>
                    <a:pt x="15348" y="4138"/>
                  </a:lnTo>
                  <a:lnTo>
                    <a:pt x="15351" y="4168"/>
                  </a:lnTo>
                  <a:lnTo>
                    <a:pt x="15351" y="4194"/>
                  </a:lnTo>
                  <a:lnTo>
                    <a:pt x="15351" y="4218"/>
                  </a:lnTo>
                  <a:lnTo>
                    <a:pt x="15349" y="4239"/>
                  </a:lnTo>
                  <a:lnTo>
                    <a:pt x="15346" y="4260"/>
                  </a:lnTo>
                  <a:lnTo>
                    <a:pt x="15343" y="4279"/>
                  </a:lnTo>
                  <a:lnTo>
                    <a:pt x="15339" y="4300"/>
                  </a:lnTo>
                  <a:lnTo>
                    <a:pt x="15333" y="4319"/>
                  </a:lnTo>
                  <a:lnTo>
                    <a:pt x="15327" y="4338"/>
                  </a:lnTo>
                  <a:lnTo>
                    <a:pt x="15320" y="4356"/>
                  </a:lnTo>
                  <a:lnTo>
                    <a:pt x="15311" y="4374"/>
                  </a:lnTo>
                  <a:lnTo>
                    <a:pt x="15302" y="4392"/>
                  </a:lnTo>
                  <a:lnTo>
                    <a:pt x="15291" y="4408"/>
                  </a:lnTo>
                  <a:lnTo>
                    <a:pt x="15280" y="4424"/>
                  </a:lnTo>
                  <a:lnTo>
                    <a:pt x="15268" y="4438"/>
                  </a:lnTo>
                  <a:lnTo>
                    <a:pt x="15255" y="4454"/>
                  </a:lnTo>
                  <a:lnTo>
                    <a:pt x="15242" y="4467"/>
                  </a:lnTo>
                  <a:lnTo>
                    <a:pt x="15226" y="4479"/>
                  </a:lnTo>
                  <a:lnTo>
                    <a:pt x="15211" y="4491"/>
                  </a:lnTo>
                  <a:lnTo>
                    <a:pt x="15196" y="4502"/>
                  </a:lnTo>
                  <a:lnTo>
                    <a:pt x="15181" y="4511"/>
                  </a:lnTo>
                  <a:lnTo>
                    <a:pt x="15165" y="4520"/>
                  </a:lnTo>
                  <a:lnTo>
                    <a:pt x="15149" y="4528"/>
                  </a:lnTo>
                  <a:lnTo>
                    <a:pt x="15133" y="4534"/>
                  </a:lnTo>
                  <a:lnTo>
                    <a:pt x="15116" y="4540"/>
                  </a:lnTo>
                  <a:lnTo>
                    <a:pt x="15100" y="4545"/>
                  </a:lnTo>
                  <a:lnTo>
                    <a:pt x="15083" y="4548"/>
                  </a:lnTo>
                  <a:lnTo>
                    <a:pt x="15065" y="4552"/>
                  </a:lnTo>
                  <a:lnTo>
                    <a:pt x="15048" y="4554"/>
                  </a:lnTo>
                  <a:lnTo>
                    <a:pt x="15030" y="4556"/>
                  </a:lnTo>
                  <a:lnTo>
                    <a:pt x="15012" y="4556"/>
                  </a:lnTo>
                  <a:lnTo>
                    <a:pt x="14993" y="4555"/>
                  </a:lnTo>
                  <a:lnTo>
                    <a:pt x="14975" y="4554"/>
                  </a:lnTo>
                  <a:lnTo>
                    <a:pt x="14956" y="4552"/>
                  </a:lnTo>
                  <a:lnTo>
                    <a:pt x="14937" y="4548"/>
                  </a:lnTo>
                  <a:lnTo>
                    <a:pt x="14918" y="4544"/>
                  </a:lnTo>
                  <a:lnTo>
                    <a:pt x="14900" y="4539"/>
                  </a:lnTo>
                  <a:lnTo>
                    <a:pt x="14881" y="4533"/>
                  </a:lnTo>
                  <a:lnTo>
                    <a:pt x="14863" y="4526"/>
                  </a:lnTo>
                  <a:lnTo>
                    <a:pt x="14845" y="4518"/>
                  </a:lnTo>
                  <a:lnTo>
                    <a:pt x="14828" y="4509"/>
                  </a:lnTo>
                  <a:lnTo>
                    <a:pt x="14811" y="4499"/>
                  </a:lnTo>
                  <a:lnTo>
                    <a:pt x="14794" y="4490"/>
                  </a:lnTo>
                  <a:lnTo>
                    <a:pt x="14779" y="4478"/>
                  </a:lnTo>
                  <a:lnTo>
                    <a:pt x="14762" y="4466"/>
                  </a:lnTo>
                  <a:lnTo>
                    <a:pt x="14747" y="4451"/>
                  </a:lnTo>
                  <a:lnTo>
                    <a:pt x="14732" y="4437"/>
                  </a:lnTo>
                  <a:lnTo>
                    <a:pt x="14718" y="4423"/>
                  </a:lnTo>
                  <a:lnTo>
                    <a:pt x="14704" y="4407"/>
                  </a:lnTo>
                  <a:lnTo>
                    <a:pt x="14690" y="4389"/>
                  </a:lnTo>
                  <a:lnTo>
                    <a:pt x="14676" y="4372"/>
                  </a:lnTo>
                  <a:lnTo>
                    <a:pt x="14660" y="4349"/>
                  </a:lnTo>
                  <a:lnTo>
                    <a:pt x="14646" y="4326"/>
                  </a:lnTo>
                  <a:lnTo>
                    <a:pt x="14632" y="4303"/>
                  </a:lnTo>
                  <a:lnTo>
                    <a:pt x="14621" y="4281"/>
                  </a:lnTo>
                  <a:lnTo>
                    <a:pt x="14612" y="4262"/>
                  </a:lnTo>
                  <a:lnTo>
                    <a:pt x="14602" y="4237"/>
                  </a:lnTo>
                  <a:lnTo>
                    <a:pt x="14590" y="4202"/>
                  </a:lnTo>
                  <a:lnTo>
                    <a:pt x="14576" y="4160"/>
                  </a:lnTo>
                  <a:lnTo>
                    <a:pt x="14562" y="4117"/>
                  </a:lnTo>
                  <a:lnTo>
                    <a:pt x="14549" y="4085"/>
                  </a:lnTo>
                  <a:lnTo>
                    <a:pt x="14544" y="4071"/>
                  </a:lnTo>
                  <a:lnTo>
                    <a:pt x="14539" y="4061"/>
                  </a:lnTo>
                  <a:lnTo>
                    <a:pt x="14535" y="4052"/>
                  </a:lnTo>
                  <a:lnTo>
                    <a:pt x="14531" y="4045"/>
                  </a:lnTo>
                  <a:lnTo>
                    <a:pt x="14523" y="4037"/>
                  </a:lnTo>
                  <a:lnTo>
                    <a:pt x="14515" y="4030"/>
                  </a:lnTo>
                  <a:lnTo>
                    <a:pt x="14507" y="4026"/>
                  </a:lnTo>
                  <a:lnTo>
                    <a:pt x="14497" y="4024"/>
                  </a:lnTo>
                  <a:lnTo>
                    <a:pt x="14491" y="4022"/>
                  </a:lnTo>
                  <a:lnTo>
                    <a:pt x="14486" y="4024"/>
                  </a:lnTo>
                  <a:lnTo>
                    <a:pt x="14479" y="4025"/>
                  </a:lnTo>
                  <a:lnTo>
                    <a:pt x="14472" y="4027"/>
                  </a:lnTo>
                  <a:lnTo>
                    <a:pt x="14455" y="4032"/>
                  </a:lnTo>
                  <a:lnTo>
                    <a:pt x="14436" y="4042"/>
                  </a:lnTo>
                  <a:lnTo>
                    <a:pt x="14415" y="4013"/>
                  </a:lnTo>
                  <a:lnTo>
                    <a:pt x="14778" y="3750"/>
                  </a:lnTo>
                  <a:lnTo>
                    <a:pt x="14798" y="3779"/>
                  </a:lnTo>
                  <a:lnTo>
                    <a:pt x="14774" y="3804"/>
                  </a:lnTo>
                  <a:lnTo>
                    <a:pt x="14753" y="3829"/>
                  </a:lnTo>
                  <a:lnTo>
                    <a:pt x="14733" y="3851"/>
                  </a:lnTo>
                  <a:lnTo>
                    <a:pt x="14717" y="3874"/>
                  </a:lnTo>
                  <a:lnTo>
                    <a:pt x="14702" y="3896"/>
                  </a:lnTo>
                  <a:lnTo>
                    <a:pt x="14687" y="3918"/>
                  </a:lnTo>
                  <a:lnTo>
                    <a:pt x="14676" y="3938"/>
                  </a:lnTo>
                  <a:lnTo>
                    <a:pt x="14668" y="3957"/>
                  </a:lnTo>
                  <a:lnTo>
                    <a:pt x="14661" y="3976"/>
                  </a:lnTo>
                  <a:lnTo>
                    <a:pt x="14655" y="3996"/>
                  </a:lnTo>
                  <a:lnTo>
                    <a:pt x="14650" y="4016"/>
                  </a:lnTo>
                  <a:lnTo>
                    <a:pt x="14648" y="4038"/>
                  </a:lnTo>
                  <a:lnTo>
                    <a:pt x="14646" y="4059"/>
                  </a:lnTo>
                  <a:lnTo>
                    <a:pt x="14646" y="4082"/>
                  </a:lnTo>
                  <a:lnTo>
                    <a:pt x="14647" y="4105"/>
                  </a:lnTo>
                  <a:lnTo>
                    <a:pt x="14650" y="4129"/>
                  </a:lnTo>
                  <a:lnTo>
                    <a:pt x="14655" y="4154"/>
                  </a:lnTo>
                  <a:lnTo>
                    <a:pt x="14660" y="4177"/>
                  </a:lnTo>
                  <a:lnTo>
                    <a:pt x="14667" y="4201"/>
                  </a:lnTo>
                  <a:lnTo>
                    <a:pt x="14675" y="4224"/>
                  </a:lnTo>
                  <a:lnTo>
                    <a:pt x="14686" y="4247"/>
                  </a:lnTo>
                  <a:lnTo>
                    <a:pt x="14697" y="4269"/>
                  </a:lnTo>
                  <a:lnTo>
                    <a:pt x="14710" y="4290"/>
                  </a:lnTo>
                  <a:lnTo>
                    <a:pt x="14725" y="4311"/>
                  </a:lnTo>
                  <a:lnTo>
                    <a:pt x="14743" y="4334"/>
                  </a:lnTo>
                  <a:lnTo>
                    <a:pt x="14761" y="4355"/>
                  </a:lnTo>
                  <a:lnTo>
                    <a:pt x="14771" y="4364"/>
                  </a:lnTo>
                  <a:lnTo>
                    <a:pt x="14781" y="4373"/>
                  </a:lnTo>
                  <a:lnTo>
                    <a:pt x="14791" y="4382"/>
                  </a:lnTo>
                  <a:lnTo>
                    <a:pt x="14802" y="4389"/>
                  </a:lnTo>
                  <a:lnTo>
                    <a:pt x="14811" y="4396"/>
                  </a:lnTo>
                  <a:lnTo>
                    <a:pt x="14822" y="4402"/>
                  </a:lnTo>
                  <a:lnTo>
                    <a:pt x="14832" y="4408"/>
                  </a:lnTo>
                  <a:lnTo>
                    <a:pt x="14843" y="4413"/>
                  </a:lnTo>
                  <a:lnTo>
                    <a:pt x="14854" y="4418"/>
                  </a:lnTo>
                  <a:lnTo>
                    <a:pt x="14866" y="4422"/>
                  </a:lnTo>
                  <a:lnTo>
                    <a:pt x="14877" y="4425"/>
                  </a:lnTo>
                  <a:lnTo>
                    <a:pt x="14888" y="4428"/>
                  </a:lnTo>
                  <a:lnTo>
                    <a:pt x="14911" y="4432"/>
                  </a:lnTo>
                  <a:lnTo>
                    <a:pt x="14933" y="4433"/>
                  </a:lnTo>
                  <a:lnTo>
                    <a:pt x="14943" y="4433"/>
                  </a:lnTo>
                  <a:lnTo>
                    <a:pt x="14954" y="4432"/>
                  </a:lnTo>
                  <a:lnTo>
                    <a:pt x="14965" y="4431"/>
                  </a:lnTo>
                  <a:lnTo>
                    <a:pt x="14975" y="4430"/>
                  </a:lnTo>
                  <a:lnTo>
                    <a:pt x="14985" y="4428"/>
                  </a:lnTo>
                  <a:lnTo>
                    <a:pt x="14994" y="4424"/>
                  </a:lnTo>
                  <a:lnTo>
                    <a:pt x="15004" y="4421"/>
                  </a:lnTo>
                  <a:lnTo>
                    <a:pt x="15014" y="4417"/>
                  </a:lnTo>
                  <a:lnTo>
                    <a:pt x="15024" y="4412"/>
                  </a:lnTo>
                  <a:lnTo>
                    <a:pt x="15033" y="4408"/>
                  </a:lnTo>
                  <a:lnTo>
                    <a:pt x="15041" y="4402"/>
                  </a:lnTo>
                  <a:lnTo>
                    <a:pt x="15051" y="4396"/>
                  </a:lnTo>
                  <a:lnTo>
                    <a:pt x="15060" y="4388"/>
                  </a:lnTo>
                  <a:lnTo>
                    <a:pt x="15070" y="4381"/>
                  </a:lnTo>
                  <a:lnTo>
                    <a:pt x="15077" y="4372"/>
                  </a:lnTo>
                  <a:lnTo>
                    <a:pt x="15086" y="4362"/>
                  </a:lnTo>
                  <a:lnTo>
                    <a:pt x="15094" y="4352"/>
                  </a:lnTo>
                  <a:lnTo>
                    <a:pt x="15101" y="4342"/>
                  </a:lnTo>
                  <a:lnTo>
                    <a:pt x="15108" y="4330"/>
                  </a:lnTo>
                  <a:lnTo>
                    <a:pt x="15114" y="4318"/>
                  </a:lnTo>
                  <a:lnTo>
                    <a:pt x="15120" y="4304"/>
                  </a:lnTo>
                  <a:lnTo>
                    <a:pt x="15124" y="4291"/>
                  </a:lnTo>
                  <a:lnTo>
                    <a:pt x="15128" y="4277"/>
                  </a:lnTo>
                  <a:lnTo>
                    <a:pt x="15133" y="4262"/>
                  </a:lnTo>
                  <a:lnTo>
                    <a:pt x="15135" y="4247"/>
                  </a:lnTo>
                  <a:lnTo>
                    <a:pt x="15137" y="4230"/>
                  </a:lnTo>
                  <a:lnTo>
                    <a:pt x="15138" y="4214"/>
                  </a:lnTo>
                  <a:lnTo>
                    <a:pt x="15139" y="4197"/>
                  </a:lnTo>
                  <a:lnTo>
                    <a:pt x="15139" y="4183"/>
                  </a:lnTo>
                  <a:lnTo>
                    <a:pt x="15138" y="4164"/>
                  </a:lnTo>
                  <a:lnTo>
                    <a:pt x="15137" y="4141"/>
                  </a:lnTo>
                  <a:lnTo>
                    <a:pt x="15135" y="4114"/>
                  </a:lnTo>
                  <a:lnTo>
                    <a:pt x="15132" y="4082"/>
                  </a:lnTo>
                  <a:lnTo>
                    <a:pt x="15128" y="4045"/>
                  </a:lnTo>
                  <a:lnTo>
                    <a:pt x="15123" y="4004"/>
                  </a:lnTo>
                  <a:lnTo>
                    <a:pt x="15119" y="3959"/>
                  </a:lnTo>
                  <a:lnTo>
                    <a:pt x="15113" y="3912"/>
                  </a:lnTo>
                  <a:lnTo>
                    <a:pt x="15109" y="3870"/>
                  </a:lnTo>
                  <a:lnTo>
                    <a:pt x="15104" y="3831"/>
                  </a:lnTo>
                  <a:lnTo>
                    <a:pt x="15102" y="3794"/>
                  </a:lnTo>
                  <a:lnTo>
                    <a:pt x="15100" y="3760"/>
                  </a:lnTo>
                  <a:lnTo>
                    <a:pt x="15099" y="3730"/>
                  </a:lnTo>
                  <a:lnTo>
                    <a:pt x="15099" y="3702"/>
                  </a:lnTo>
                  <a:lnTo>
                    <a:pt x="15099" y="3678"/>
                  </a:lnTo>
                  <a:lnTo>
                    <a:pt x="15100" y="3657"/>
                  </a:lnTo>
                  <a:lnTo>
                    <a:pt x="15103" y="3635"/>
                  </a:lnTo>
                  <a:lnTo>
                    <a:pt x="15107" y="3614"/>
                  </a:lnTo>
                  <a:lnTo>
                    <a:pt x="15110" y="3593"/>
                  </a:lnTo>
                  <a:lnTo>
                    <a:pt x="15115" y="3574"/>
                  </a:lnTo>
                  <a:lnTo>
                    <a:pt x="15121" y="3555"/>
                  </a:lnTo>
                  <a:lnTo>
                    <a:pt x="15128" y="3537"/>
                  </a:lnTo>
                  <a:lnTo>
                    <a:pt x="15136" y="3519"/>
                  </a:lnTo>
                  <a:lnTo>
                    <a:pt x="15145" y="3502"/>
                  </a:lnTo>
                  <a:lnTo>
                    <a:pt x="15155" y="3486"/>
                  </a:lnTo>
                  <a:lnTo>
                    <a:pt x="15165" y="3470"/>
                  </a:lnTo>
                  <a:lnTo>
                    <a:pt x="15177" y="3455"/>
                  </a:lnTo>
                  <a:lnTo>
                    <a:pt x="15189" y="3441"/>
                  </a:lnTo>
                  <a:lnTo>
                    <a:pt x="15204" y="3428"/>
                  </a:lnTo>
                  <a:lnTo>
                    <a:pt x="15219" y="3415"/>
                  </a:lnTo>
                  <a:lnTo>
                    <a:pt x="15234" y="3403"/>
                  </a:lnTo>
                  <a:lnTo>
                    <a:pt x="15248" y="3392"/>
                  </a:lnTo>
                  <a:lnTo>
                    <a:pt x="15263" y="3383"/>
                  </a:lnTo>
                  <a:lnTo>
                    <a:pt x="15278" y="3376"/>
                  </a:lnTo>
                  <a:lnTo>
                    <a:pt x="15293" y="3368"/>
                  </a:lnTo>
                  <a:lnTo>
                    <a:pt x="15308" y="3361"/>
                  </a:lnTo>
                  <a:lnTo>
                    <a:pt x="15324" y="3356"/>
                  </a:lnTo>
                  <a:lnTo>
                    <a:pt x="15340" y="3352"/>
                  </a:lnTo>
                  <a:lnTo>
                    <a:pt x="15356" y="3347"/>
                  </a:lnTo>
                  <a:lnTo>
                    <a:pt x="15372" y="3344"/>
                  </a:lnTo>
                  <a:lnTo>
                    <a:pt x="15389" y="3342"/>
                  </a:lnTo>
                  <a:lnTo>
                    <a:pt x="15405" y="3341"/>
                  </a:lnTo>
                  <a:lnTo>
                    <a:pt x="15422" y="3341"/>
                  </a:lnTo>
                  <a:lnTo>
                    <a:pt x="15440" y="3341"/>
                  </a:lnTo>
                  <a:lnTo>
                    <a:pt x="15457" y="3342"/>
                  </a:lnTo>
                  <a:lnTo>
                    <a:pt x="15476" y="3344"/>
                  </a:lnTo>
                  <a:lnTo>
                    <a:pt x="15493" y="3347"/>
                  </a:lnTo>
                  <a:lnTo>
                    <a:pt x="15512" y="3352"/>
                  </a:lnTo>
                  <a:lnTo>
                    <a:pt x="15529" y="3356"/>
                  </a:lnTo>
                  <a:lnTo>
                    <a:pt x="15547" y="3361"/>
                  </a:lnTo>
                  <a:lnTo>
                    <a:pt x="15563" y="3368"/>
                  </a:lnTo>
                  <a:lnTo>
                    <a:pt x="15579" y="3376"/>
                  </a:lnTo>
                  <a:lnTo>
                    <a:pt x="15596" y="3383"/>
                  </a:lnTo>
                  <a:lnTo>
                    <a:pt x="15612" y="3392"/>
                  </a:lnTo>
                  <a:lnTo>
                    <a:pt x="15627" y="3402"/>
                  </a:lnTo>
                  <a:lnTo>
                    <a:pt x="15642" y="3413"/>
                  </a:lnTo>
                  <a:lnTo>
                    <a:pt x="15657" y="3424"/>
                  </a:lnTo>
                  <a:lnTo>
                    <a:pt x="15671" y="3436"/>
                  </a:lnTo>
                  <a:lnTo>
                    <a:pt x="15685" y="3449"/>
                  </a:lnTo>
                  <a:lnTo>
                    <a:pt x="15698" y="3463"/>
                  </a:lnTo>
                  <a:lnTo>
                    <a:pt x="15711" y="3478"/>
                  </a:lnTo>
                  <a:lnTo>
                    <a:pt x="15724" y="3493"/>
                  </a:lnTo>
                  <a:lnTo>
                    <a:pt x="15737" y="3510"/>
                  </a:lnTo>
                  <a:lnTo>
                    <a:pt x="15751" y="3531"/>
                  </a:lnTo>
                  <a:lnTo>
                    <a:pt x="15765" y="3554"/>
                  </a:lnTo>
                  <a:lnTo>
                    <a:pt x="15777" y="3578"/>
                  </a:lnTo>
                  <a:lnTo>
                    <a:pt x="15789" y="3603"/>
                  </a:lnTo>
                  <a:lnTo>
                    <a:pt x="15800" y="3630"/>
                  </a:lnTo>
                  <a:lnTo>
                    <a:pt x="15809" y="3659"/>
                  </a:lnTo>
                  <a:lnTo>
                    <a:pt x="15818" y="3687"/>
                  </a:lnTo>
                  <a:lnTo>
                    <a:pt x="15825" y="3718"/>
                  </a:lnTo>
                  <a:lnTo>
                    <a:pt x="15831" y="3745"/>
                  </a:lnTo>
                  <a:lnTo>
                    <a:pt x="15837" y="3765"/>
                  </a:lnTo>
                  <a:lnTo>
                    <a:pt x="15841" y="3774"/>
                  </a:lnTo>
                  <a:lnTo>
                    <a:pt x="15844" y="3782"/>
                  </a:lnTo>
                  <a:lnTo>
                    <a:pt x="15847" y="3788"/>
                  </a:lnTo>
                  <a:lnTo>
                    <a:pt x="15850" y="3794"/>
                  </a:lnTo>
                  <a:lnTo>
                    <a:pt x="15858" y="3802"/>
                  </a:lnTo>
                  <a:lnTo>
                    <a:pt x="15867" y="3810"/>
                  </a:lnTo>
                  <a:lnTo>
                    <a:pt x="15871" y="3812"/>
                  </a:lnTo>
                  <a:lnTo>
                    <a:pt x="15877" y="3814"/>
                  </a:lnTo>
                  <a:lnTo>
                    <a:pt x="15881" y="3817"/>
                  </a:lnTo>
                  <a:lnTo>
                    <a:pt x="15886" y="3818"/>
                  </a:lnTo>
                  <a:lnTo>
                    <a:pt x="15892" y="3819"/>
                  </a:lnTo>
                  <a:lnTo>
                    <a:pt x="15898" y="3819"/>
                  </a:lnTo>
                  <a:lnTo>
                    <a:pt x="15906" y="3818"/>
                  </a:lnTo>
                  <a:lnTo>
                    <a:pt x="15914" y="3817"/>
                  </a:lnTo>
                  <a:lnTo>
                    <a:pt x="15930" y="3811"/>
                  </a:lnTo>
                  <a:lnTo>
                    <a:pt x="15951" y="3804"/>
                  </a:lnTo>
                  <a:lnTo>
                    <a:pt x="15971" y="3832"/>
                  </a:lnTo>
                  <a:close/>
                  <a:moveTo>
                    <a:pt x="16747" y="5245"/>
                  </a:moveTo>
                  <a:lnTo>
                    <a:pt x="16483" y="5402"/>
                  </a:lnTo>
                  <a:lnTo>
                    <a:pt x="16466" y="5369"/>
                  </a:lnTo>
                  <a:lnTo>
                    <a:pt x="16496" y="5348"/>
                  </a:lnTo>
                  <a:lnTo>
                    <a:pt x="16521" y="5326"/>
                  </a:lnTo>
                  <a:lnTo>
                    <a:pt x="16532" y="5316"/>
                  </a:lnTo>
                  <a:lnTo>
                    <a:pt x="16541" y="5307"/>
                  </a:lnTo>
                  <a:lnTo>
                    <a:pt x="16548" y="5299"/>
                  </a:lnTo>
                  <a:lnTo>
                    <a:pt x="16555" y="5290"/>
                  </a:lnTo>
                  <a:lnTo>
                    <a:pt x="16563" y="5277"/>
                  </a:lnTo>
                  <a:lnTo>
                    <a:pt x="16570" y="5264"/>
                  </a:lnTo>
                  <a:lnTo>
                    <a:pt x="16576" y="5250"/>
                  </a:lnTo>
                  <a:lnTo>
                    <a:pt x="16581" y="5237"/>
                  </a:lnTo>
                  <a:lnTo>
                    <a:pt x="16584" y="5224"/>
                  </a:lnTo>
                  <a:lnTo>
                    <a:pt x="16588" y="5209"/>
                  </a:lnTo>
                  <a:lnTo>
                    <a:pt x="16589" y="5195"/>
                  </a:lnTo>
                  <a:lnTo>
                    <a:pt x="16590" y="5181"/>
                  </a:lnTo>
                  <a:lnTo>
                    <a:pt x="16590" y="5167"/>
                  </a:lnTo>
                  <a:lnTo>
                    <a:pt x="16588" y="5153"/>
                  </a:lnTo>
                  <a:lnTo>
                    <a:pt x="16584" y="5137"/>
                  </a:lnTo>
                  <a:lnTo>
                    <a:pt x="16580" y="5121"/>
                  </a:lnTo>
                  <a:lnTo>
                    <a:pt x="16576" y="5105"/>
                  </a:lnTo>
                  <a:lnTo>
                    <a:pt x="16569" y="5088"/>
                  </a:lnTo>
                  <a:lnTo>
                    <a:pt x="16562" y="5071"/>
                  </a:lnTo>
                  <a:lnTo>
                    <a:pt x="16552" y="5054"/>
                  </a:lnTo>
                  <a:lnTo>
                    <a:pt x="16466" y="4891"/>
                  </a:lnTo>
                  <a:lnTo>
                    <a:pt x="15585" y="5360"/>
                  </a:lnTo>
                  <a:lnTo>
                    <a:pt x="15560" y="5374"/>
                  </a:lnTo>
                  <a:lnTo>
                    <a:pt x="15538" y="5387"/>
                  </a:lnTo>
                  <a:lnTo>
                    <a:pt x="15518" y="5399"/>
                  </a:lnTo>
                  <a:lnTo>
                    <a:pt x="15502" y="5411"/>
                  </a:lnTo>
                  <a:lnTo>
                    <a:pt x="15488" y="5423"/>
                  </a:lnTo>
                  <a:lnTo>
                    <a:pt x="15478" y="5434"/>
                  </a:lnTo>
                  <a:lnTo>
                    <a:pt x="15469" y="5443"/>
                  </a:lnTo>
                  <a:lnTo>
                    <a:pt x="15465" y="5453"/>
                  </a:lnTo>
                  <a:lnTo>
                    <a:pt x="15461" y="5466"/>
                  </a:lnTo>
                  <a:lnTo>
                    <a:pt x="15458" y="5479"/>
                  </a:lnTo>
                  <a:lnTo>
                    <a:pt x="15458" y="5494"/>
                  </a:lnTo>
                  <a:lnTo>
                    <a:pt x="15459" y="5509"/>
                  </a:lnTo>
                  <a:lnTo>
                    <a:pt x="15463" y="5523"/>
                  </a:lnTo>
                  <a:lnTo>
                    <a:pt x="15467" y="5539"/>
                  </a:lnTo>
                  <a:lnTo>
                    <a:pt x="15474" y="5555"/>
                  </a:lnTo>
                  <a:lnTo>
                    <a:pt x="15482" y="5572"/>
                  </a:lnTo>
                  <a:lnTo>
                    <a:pt x="15503" y="5611"/>
                  </a:lnTo>
                  <a:lnTo>
                    <a:pt x="15471" y="5629"/>
                  </a:lnTo>
                  <a:lnTo>
                    <a:pt x="15212" y="5140"/>
                  </a:lnTo>
                  <a:lnTo>
                    <a:pt x="15243" y="5122"/>
                  </a:lnTo>
                  <a:lnTo>
                    <a:pt x="15265" y="5164"/>
                  </a:lnTo>
                  <a:lnTo>
                    <a:pt x="15275" y="5181"/>
                  </a:lnTo>
                  <a:lnTo>
                    <a:pt x="15285" y="5196"/>
                  </a:lnTo>
                  <a:lnTo>
                    <a:pt x="15297" y="5209"/>
                  </a:lnTo>
                  <a:lnTo>
                    <a:pt x="15309" y="5220"/>
                  </a:lnTo>
                  <a:lnTo>
                    <a:pt x="15322" y="5229"/>
                  </a:lnTo>
                  <a:lnTo>
                    <a:pt x="15335" y="5237"/>
                  </a:lnTo>
                  <a:lnTo>
                    <a:pt x="15343" y="5239"/>
                  </a:lnTo>
                  <a:lnTo>
                    <a:pt x="15349" y="5241"/>
                  </a:lnTo>
                  <a:lnTo>
                    <a:pt x="15357" y="5242"/>
                  </a:lnTo>
                  <a:lnTo>
                    <a:pt x="15365" y="5243"/>
                  </a:lnTo>
                  <a:lnTo>
                    <a:pt x="15375" y="5244"/>
                  </a:lnTo>
                  <a:lnTo>
                    <a:pt x="15386" y="5242"/>
                  </a:lnTo>
                  <a:lnTo>
                    <a:pt x="15401" y="5239"/>
                  </a:lnTo>
                  <a:lnTo>
                    <a:pt x="15417" y="5234"/>
                  </a:lnTo>
                  <a:lnTo>
                    <a:pt x="15434" y="5227"/>
                  </a:lnTo>
                  <a:lnTo>
                    <a:pt x="15454" y="5219"/>
                  </a:lnTo>
                  <a:lnTo>
                    <a:pt x="15475" y="5208"/>
                  </a:lnTo>
                  <a:lnTo>
                    <a:pt x="15499" y="5196"/>
                  </a:lnTo>
                  <a:lnTo>
                    <a:pt x="16379" y="4728"/>
                  </a:lnTo>
                  <a:lnTo>
                    <a:pt x="16306" y="4590"/>
                  </a:lnTo>
                  <a:lnTo>
                    <a:pt x="16285" y="4553"/>
                  </a:lnTo>
                  <a:lnTo>
                    <a:pt x="16265" y="4522"/>
                  </a:lnTo>
                  <a:lnTo>
                    <a:pt x="16257" y="4509"/>
                  </a:lnTo>
                  <a:lnTo>
                    <a:pt x="16248" y="4498"/>
                  </a:lnTo>
                  <a:lnTo>
                    <a:pt x="16240" y="4490"/>
                  </a:lnTo>
                  <a:lnTo>
                    <a:pt x="16233" y="4481"/>
                  </a:lnTo>
                  <a:lnTo>
                    <a:pt x="16222" y="4473"/>
                  </a:lnTo>
                  <a:lnTo>
                    <a:pt x="16211" y="4466"/>
                  </a:lnTo>
                  <a:lnTo>
                    <a:pt x="16200" y="4459"/>
                  </a:lnTo>
                  <a:lnTo>
                    <a:pt x="16187" y="4453"/>
                  </a:lnTo>
                  <a:lnTo>
                    <a:pt x="16174" y="4448"/>
                  </a:lnTo>
                  <a:lnTo>
                    <a:pt x="16160" y="4444"/>
                  </a:lnTo>
                  <a:lnTo>
                    <a:pt x="16146" y="4441"/>
                  </a:lnTo>
                  <a:lnTo>
                    <a:pt x="16130" y="4438"/>
                  </a:lnTo>
                  <a:lnTo>
                    <a:pt x="16114" y="4437"/>
                  </a:lnTo>
                  <a:lnTo>
                    <a:pt x="16098" y="4438"/>
                  </a:lnTo>
                  <a:lnTo>
                    <a:pt x="16080" y="4440"/>
                  </a:lnTo>
                  <a:lnTo>
                    <a:pt x="16063" y="4443"/>
                  </a:lnTo>
                  <a:lnTo>
                    <a:pt x="16044" y="4447"/>
                  </a:lnTo>
                  <a:lnTo>
                    <a:pt x="16026" y="4453"/>
                  </a:lnTo>
                  <a:lnTo>
                    <a:pt x="16006" y="4459"/>
                  </a:lnTo>
                  <a:lnTo>
                    <a:pt x="15987" y="4468"/>
                  </a:lnTo>
                  <a:lnTo>
                    <a:pt x="15969" y="4435"/>
                  </a:lnTo>
                  <a:lnTo>
                    <a:pt x="16247" y="4304"/>
                  </a:lnTo>
                  <a:lnTo>
                    <a:pt x="16747" y="5245"/>
                  </a:lnTo>
                  <a:close/>
                  <a:moveTo>
                    <a:pt x="16276" y="6587"/>
                  </a:moveTo>
                  <a:lnTo>
                    <a:pt x="16112" y="6109"/>
                  </a:lnTo>
                  <a:lnTo>
                    <a:pt x="15889" y="6092"/>
                  </a:lnTo>
                  <a:lnTo>
                    <a:pt x="15850" y="6090"/>
                  </a:lnTo>
                  <a:lnTo>
                    <a:pt x="15818" y="6090"/>
                  </a:lnTo>
                  <a:lnTo>
                    <a:pt x="15804" y="6091"/>
                  </a:lnTo>
                  <a:lnTo>
                    <a:pt x="15792" y="6094"/>
                  </a:lnTo>
                  <a:lnTo>
                    <a:pt x="15780" y="6096"/>
                  </a:lnTo>
                  <a:lnTo>
                    <a:pt x="15770" y="6099"/>
                  </a:lnTo>
                  <a:lnTo>
                    <a:pt x="15763" y="6101"/>
                  </a:lnTo>
                  <a:lnTo>
                    <a:pt x="15757" y="6104"/>
                  </a:lnTo>
                  <a:lnTo>
                    <a:pt x="15751" y="6109"/>
                  </a:lnTo>
                  <a:lnTo>
                    <a:pt x="15746" y="6114"/>
                  </a:lnTo>
                  <a:lnTo>
                    <a:pt x="15741" y="6120"/>
                  </a:lnTo>
                  <a:lnTo>
                    <a:pt x="15737" y="6127"/>
                  </a:lnTo>
                  <a:lnTo>
                    <a:pt x="15734" y="6134"/>
                  </a:lnTo>
                  <a:lnTo>
                    <a:pt x="15731" y="6143"/>
                  </a:lnTo>
                  <a:lnTo>
                    <a:pt x="15727" y="6151"/>
                  </a:lnTo>
                  <a:lnTo>
                    <a:pt x="15726" y="6163"/>
                  </a:lnTo>
                  <a:lnTo>
                    <a:pt x="15726" y="6176"/>
                  </a:lnTo>
                  <a:lnTo>
                    <a:pt x="15727" y="6190"/>
                  </a:lnTo>
                  <a:lnTo>
                    <a:pt x="15730" y="6208"/>
                  </a:lnTo>
                  <a:lnTo>
                    <a:pt x="15733" y="6225"/>
                  </a:lnTo>
                  <a:lnTo>
                    <a:pt x="15737" y="6246"/>
                  </a:lnTo>
                  <a:lnTo>
                    <a:pt x="15743" y="6268"/>
                  </a:lnTo>
                  <a:lnTo>
                    <a:pt x="15709" y="6280"/>
                  </a:lnTo>
                  <a:lnTo>
                    <a:pt x="15575" y="5891"/>
                  </a:lnTo>
                  <a:lnTo>
                    <a:pt x="15609" y="5879"/>
                  </a:lnTo>
                  <a:lnTo>
                    <a:pt x="15618" y="5896"/>
                  </a:lnTo>
                  <a:lnTo>
                    <a:pt x="15628" y="5912"/>
                  </a:lnTo>
                  <a:lnTo>
                    <a:pt x="15637" y="5926"/>
                  </a:lnTo>
                  <a:lnTo>
                    <a:pt x="15646" y="5938"/>
                  </a:lnTo>
                  <a:lnTo>
                    <a:pt x="15654" y="5948"/>
                  </a:lnTo>
                  <a:lnTo>
                    <a:pt x="15663" y="5956"/>
                  </a:lnTo>
                  <a:lnTo>
                    <a:pt x="15671" y="5963"/>
                  </a:lnTo>
                  <a:lnTo>
                    <a:pt x="15678" y="5967"/>
                  </a:lnTo>
                  <a:lnTo>
                    <a:pt x="15695" y="5975"/>
                  </a:lnTo>
                  <a:lnTo>
                    <a:pt x="15714" y="5981"/>
                  </a:lnTo>
                  <a:lnTo>
                    <a:pt x="15736" y="5988"/>
                  </a:lnTo>
                  <a:lnTo>
                    <a:pt x="15761" y="5993"/>
                  </a:lnTo>
                  <a:lnTo>
                    <a:pt x="15789" y="5998"/>
                  </a:lnTo>
                  <a:lnTo>
                    <a:pt x="15821" y="6002"/>
                  </a:lnTo>
                  <a:lnTo>
                    <a:pt x="15855" y="6006"/>
                  </a:lnTo>
                  <a:lnTo>
                    <a:pt x="15892" y="6009"/>
                  </a:lnTo>
                  <a:lnTo>
                    <a:pt x="17056" y="6094"/>
                  </a:lnTo>
                  <a:lnTo>
                    <a:pt x="17067" y="6125"/>
                  </a:lnTo>
                  <a:lnTo>
                    <a:pt x="16189" y="6908"/>
                  </a:lnTo>
                  <a:lnTo>
                    <a:pt x="16164" y="6931"/>
                  </a:lnTo>
                  <a:lnTo>
                    <a:pt x="16141" y="6953"/>
                  </a:lnTo>
                  <a:lnTo>
                    <a:pt x="16120" y="6973"/>
                  </a:lnTo>
                  <a:lnTo>
                    <a:pt x="16104" y="6993"/>
                  </a:lnTo>
                  <a:lnTo>
                    <a:pt x="16089" y="7010"/>
                  </a:lnTo>
                  <a:lnTo>
                    <a:pt x="16077" y="7028"/>
                  </a:lnTo>
                  <a:lnTo>
                    <a:pt x="16067" y="7043"/>
                  </a:lnTo>
                  <a:lnTo>
                    <a:pt x="16061" y="7057"/>
                  </a:lnTo>
                  <a:lnTo>
                    <a:pt x="16056" y="7071"/>
                  </a:lnTo>
                  <a:lnTo>
                    <a:pt x="16052" y="7087"/>
                  </a:lnTo>
                  <a:lnTo>
                    <a:pt x="16050" y="7102"/>
                  </a:lnTo>
                  <a:lnTo>
                    <a:pt x="16050" y="7118"/>
                  </a:lnTo>
                  <a:lnTo>
                    <a:pt x="16050" y="7136"/>
                  </a:lnTo>
                  <a:lnTo>
                    <a:pt x="16052" y="7153"/>
                  </a:lnTo>
                  <a:lnTo>
                    <a:pt x="16055" y="7172"/>
                  </a:lnTo>
                  <a:lnTo>
                    <a:pt x="16059" y="7190"/>
                  </a:lnTo>
                  <a:lnTo>
                    <a:pt x="16026" y="7202"/>
                  </a:lnTo>
                  <a:lnTo>
                    <a:pt x="15858" y="6714"/>
                  </a:lnTo>
                  <a:lnTo>
                    <a:pt x="15892" y="6703"/>
                  </a:lnTo>
                  <a:lnTo>
                    <a:pt x="15899" y="6720"/>
                  </a:lnTo>
                  <a:lnTo>
                    <a:pt x="15907" y="6736"/>
                  </a:lnTo>
                  <a:lnTo>
                    <a:pt x="15914" y="6750"/>
                  </a:lnTo>
                  <a:lnTo>
                    <a:pt x="15921" y="6762"/>
                  </a:lnTo>
                  <a:lnTo>
                    <a:pt x="15929" y="6772"/>
                  </a:lnTo>
                  <a:lnTo>
                    <a:pt x="15936" y="6782"/>
                  </a:lnTo>
                  <a:lnTo>
                    <a:pt x="15944" y="6788"/>
                  </a:lnTo>
                  <a:lnTo>
                    <a:pt x="15951" y="6794"/>
                  </a:lnTo>
                  <a:lnTo>
                    <a:pt x="15958" y="6798"/>
                  </a:lnTo>
                  <a:lnTo>
                    <a:pt x="15966" y="6801"/>
                  </a:lnTo>
                  <a:lnTo>
                    <a:pt x="15973" y="6805"/>
                  </a:lnTo>
                  <a:lnTo>
                    <a:pt x="15981" y="6806"/>
                  </a:lnTo>
                  <a:lnTo>
                    <a:pt x="15989" y="6807"/>
                  </a:lnTo>
                  <a:lnTo>
                    <a:pt x="15996" y="6806"/>
                  </a:lnTo>
                  <a:lnTo>
                    <a:pt x="16004" y="6805"/>
                  </a:lnTo>
                  <a:lnTo>
                    <a:pt x="16012" y="6802"/>
                  </a:lnTo>
                  <a:lnTo>
                    <a:pt x="16021" y="6798"/>
                  </a:lnTo>
                  <a:lnTo>
                    <a:pt x="16033" y="6793"/>
                  </a:lnTo>
                  <a:lnTo>
                    <a:pt x="16045" y="6785"/>
                  </a:lnTo>
                  <a:lnTo>
                    <a:pt x="16059" y="6775"/>
                  </a:lnTo>
                  <a:lnTo>
                    <a:pt x="16074" y="6764"/>
                  </a:lnTo>
                  <a:lnTo>
                    <a:pt x="16090" y="6752"/>
                  </a:lnTo>
                  <a:lnTo>
                    <a:pt x="16106" y="6738"/>
                  </a:lnTo>
                  <a:lnTo>
                    <a:pt x="16125" y="6723"/>
                  </a:lnTo>
                  <a:lnTo>
                    <a:pt x="16276" y="6587"/>
                  </a:lnTo>
                  <a:close/>
                  <a:moveTo>
                    <a:pt x="16335" y="6538"/>
                  </a:moveTo>
                  <a:lnTo>
                    <a:pt x="16762" y="6157"/>
                  </a:lnTo>
                  <a:lnTo>
                    <a:pt x="16189" y="6114"/>
                  </a:lnTo>
                  <a:lnTo>
                    <a:pt x="16335" y="6538"/>
                  </a:lnTo>
                  <a:close/>
                  <a:moveTo>
                    <a:pt x="17415" y="8066"/>
                  </a:moveTo>
                  <a:lnTo>
                    <a:pt x="17114" y="8123"/>
                  </a:lnTo>
                  <a:lnTo>
                    <a:pt x="17108" y="8086"/>
                  </a:lnTo>
                  <a:lnTo>
                    <a:pt x="17145" y="8075"/>
                  </a:lnTo>
                  <a:lnTo>
                    <a:pt x="17176" y="8064"/>
                  </a:lnTo>
                  <a:lnTo>
                    <a:pt x="17189" y="8059"/>
                  </a:lnTo>
                  <a:lnTo>
                    <a:pt x="17200" y="8054"/>
                  </a:lnTo>
                  <a:lnTo>
                    <a:pt x="17211" y="8048"/>
                  </a:lnTo>
                  <a:lnTo>
                    <a:pt x="17219" y="8042"/>
                  </a:lnTo>
                  <a:lnTo>
                    <a:pt x="17231" y="8033"/>
                  </a:lnTo>
                  <a:lnTo>
                    <a:pt x="17242" y="8022"/>
                  </a:lnTo>
                  <a:lnTo>
                    <a:pt x="17253" y="8012"/>
                  </a:lnTo>
                  <a:lnTo>
                    <a:pt x="17262" y="8001"/>
                  </a:lnTo>
                  <a:lnTo>
                    <a:pt x="17270" y="7989"/>
                  </a:lnTo>
                  <a:lnTo>
                    <a:pt x="17278" y="7977"/>
                  </a:lnTo>
                  <a:lnTo>
                    <a:pt x="17284" y="7965"/>
                  </a:lnTo>
                  <a:lnTo>
                    <a:pt x="17289" y="7952"/>
                  </a:lnTo>
                  <a:lnTo>
                    <a:pt x="17293" y="7938"/>
                  </a:lnTo>
                  <a:lnTo>
                    <a:pt x="17298" y="7924"/>
                  </a:lnTo>
                  <a:lnTo>
                    <a:pt x="17300" y="7909"/>
                  </a:lnTo>
                  <a:lnTo>
                    <a:pt x="17301" y="7892"/>
                  </a:lnTo>
                  <a:lnTo>
                    <a:pt x="17302" y="7875"/>
                  </a:lnTo>
                  <a:lnTo>
                    <a:pt x="17301" y="7858"/>
                  </a:lnTo>
                  <a:lnTo>
                    <a:pt x="17300" y="7839"/>
                  </a:lnTo>
                  <a:lnTo>
                    <a:pt x="17298" y="7819"/>
                  </a:lnTo>
                  <a:lnTo>
                    <a:pt x="17272" y="7637"/>
                  </a:lnTo>
                  <a:lnTo>
                    <a:pt x="16284" y="7776"/>
                  </a:lnTo>
                  <a:lnTo>
                    <a:pt x="16256" y="7780"/>
                  </a:lnTo>
                  <a:lnTo>
                    <a:pt x="16230" y="7785"/>
                  </a:lnTo>
                  <a:lnTo>
                    <a:pt x="16208" y="7790"/>
                  </a:lnTo>
                  <a:lnTo>
                    <a:pt x="16188" y="7796"/>
                  </a:lnTo>
                  <a:lnTo>
                    <a:pt x="16172" y="7802"/>
                  </a:lnTo>
                  <a:lnTo>
                    <a:pt x="16157" y="7809"/>
                  </a:lnTo>
                  <a:lnTo>
                    <a:pt x="16147" y="7815"/>
                  </a:lnTo>
                  <a:lnTo>
                    <a:pt x="16139" y="7823"/>
                  </a:lnTo>
                  <a:lnTo>
                    <a:pt x="16131" y="7834"/>
                  </a:lnTo>
                  <a:lnTo>
                    <a:pt x="16125" y="7846"/>
                  </a:lnTo>
                  <a:lnTo>
                    <a:pt x="16119" y="7859"/>
                  </a:lnTo>
                  <a:lnTo>
                    <a:pt x="16115" y="7873"/>
                  </a:lnTo>
                  <a:lnTo>
                    <a:pt x="16113" y="7888"/>
                  </a:lnTo>
                  <a:lnTo>
                    <a:pt x="16113" y="7904"/>
                  </a:lnTo>
                  <a:lnTo>
                    <a:pt x="16113" y="7922"/>
                  </a:lnTo>
                  <a:lnTo>
                    <a:pt x="16115" y="7939"/>
                  </a:lnTo>
                  <a:lnTo>
                    <a:pt x="16122" y="7985"/>
                  </a:lnTo>
                  <a:lnTo>
                    <a:pt x="16086" y="7989"/>
                  </a:lnTo>
                  <a:lnTo>
                    <a:pt x="16009" y="7442"/>
                  </a:lnTo>
                  <a:lnTo>
                    <a:pt x="16044" y="7436"/>
                  </a:lnTo>
                  <a:lnTo>
                    <a:pt x="16051" y="7482"/>
                  </a:lnTo>
                  <a:lnTo>
                    <a:pt x="16054" y="7502"/>
                  </a:lnTo>
                  <a:lnTo>
                    <a:pt x="16058" y="7520"/>
                  </a:lnTo>
                  <a:lnTo>
                    <a:pt x="16065" y="7536"/>
                  </a:lnTo>
                  <a:lnTo>
                    <a:pt x="16073" y="7551"/>
                  </a:lnTo>
                  <a:lnTo>
                    <a:pt x="16077" y="7557"/>
                  </a:lnTo>
                  <a:lnTo>
                    <a:pt x="16081" y="7564"/>
                  </a:lnTo>
                  <a:lnTo>
                    <a:pt x="16087" y="7569"/>
                  </a:lnTo>
                  <a:lnTo>
                    <a:pt x="16092" y="7574"/>
                  </a:lnTo>
                  <a:lnTo>
                    <a:pt x="16098" y="7579"/>
                  </a:lnTo>
                  <a:lnTo>
                    <a:pt x="16103" y="7584"/>
                  </a:lnTo>
                  <a:lnTo>
                    <a:pt x="16110" y="7588"/>
                  </a:lnTo>
                  <a:lnTo>
                    <a:pt x="16116" y="7591"/>
                  </a:lnTo>
                  <a:lnTo>
                    <a:pt x="16126" y="7595"/>
                  </a:lnTo>
                  <a:lnTo>
                    <a:pt x="16138" y="7597"/>
                  </a:lnTo>
                  <a:lnTo>
                    <a:pt x="16152" y="7600"/>
                  </a:lnTo>
                  <a:lnTo>
                    <a:pt x="16168" y="7601"/>
                  </a:lnTo>
                  <a:lnTo>
                    <a:pt x="16188" y="7600"/>
                  </a:lnTo>
                  <a:lnTo>
                    <a:pt x="16209" y="7598"/>
                  </a:lnTo>
                  <a:lnTo>
                    <a:pt x="16233" y="7596"/>
                  </a:lnTo>
                  <a:lnTo>
                    <a:pt x="16259" y="7593"/>
                  </a:lnTo>
                  <a:lnTo>
                    <a:pt x="17246" y="7455"/>
                  </a:lnTo>
                  <a:lnTo>
                    <a:pt x="17225" y="7299"/>
                  </a:lnTo>
                  <a:lnTo>
                    <a:pt x="17218" y="7257"/>
                  </a:lnTo>
                  <a:lnTo>
                    <a:pt x="17211" y="7222"/>
                  </a:lnTo>
                  <a:lnTo>
                    <a:pt x="17206" y="7206"/>
                  </a:lnTo>
                  <a:lnTo>
                    <a:pt x="17202" y="7193"/>
                  </a:lnTo>
                  <a:lnTo>
                    <a:pt x="17197" y="7182"/>
                  </a:lnTo>
                  <a:lnTo>
                    <a:pt x="17193" y="7172"/>
                  </a:lnTo>
                  <a:lnTo>
                    <a:pt x="17187" y="7161"/>
                  </a:lnTo>
                  <a:lnTo>
                    <a:pt x="17179" y="7150"/>
                  </a:lnTo>
                  <a:lnTo>
                    <a:pt x="17170" y="7139"/>
                  </a:lnTo>
                  <a:lnTo>
                    <a:pt x="17160" y="7130"/>
                  </a:lnTo>
                  <a:lnTo>
                    <a:pt x="17150" y="7120"/>
                  </a:lnTo>
                  <a:lnTo>
                    <a:pt x="17138" y="7112"/>
                  </a:lnTo>
                  <a:lnTo>
                    <a:pt x="17125" y="7104"/>
                  </a:lnTo>
                  <a:lnTo>
                    <a:pt x="17111" y="7096"/>
                  </a:lnTo>
                  <a:lnTo>
                    <a:pt x="17097" y="7091"/>
                  </a:lnTo>
                  <a:lnTo>
                    <a:pt x="17081" y="7086"/>
                  </a:lnTo>
                  <a:lnTo>
                    <a:pt x="17065" y="7081"/>
                  </a:lnTo>
                  <a:lnTo>
                    <a:pt x="17047" y="7077"/>
                  </a:lnTo>
                  <a:lnTo>
                    <a:pt x="17029" y="7075"/>
                  </a:lnTo>
                  <a:lnTo>
                    <a:pt x="17009" y="7074"/>
                  </a:lnTo>
                  <a:lnTo>
                    <a:pt x="16988" y="7074"/>
                  </a:lnTo>
                  <a:lnTo>
                    <a:pt x="16967" y="7075"/>
                  </a:lnTo>
                  <a:lnTo>
                    <a:pt x="16961" y="7039"/>
                  </a:lnTo>
                  <a:lnTo>
                    <a:pt x="17267" y="7012"/>
                  </a:lnTo>
                  <a:lnTo>
                    <a:pt x="17415" y="8066"/>
                  </a:lnTo>
                  <a:close/>
                  <a:moveTo>
                    <a:pt x="16144" y="9009"/>
                  </a:moveTo>
                  <a:lnTo>
                    <a:pt x="16108" y="9007"/>
                  </a:lnTo>
                  <a:lnTo>
                    <a:pt x="16118" y="8449"/>
                  </a:lnTo>
                  <a:lnTo>
                    <a:pt x="16154" y="8449"/>
                  </a:lnTo>
                  <a:lnTo>
                    <a:pt x="16153" y="8496"/>
                  </a:lnTo>
                  <a:lnTo>
                    <a:pt x="16154" y="8515"/>
                  </a:lnTo>
                  <a:lnTo>
                    <a:pt x="16155" y="8533"/>
                  </a:lnTo>
                  <a:lnTo>
                    <a:pt x="16159" y="8550"/>
                  </a:lnTo>
                  <a:lnTo>
                    <a:pt x="16164" y="8565"/>
                  </a:lnTo>
                  <a:lnTo>
                    <a:pt x="16171" y="8580"/>
                  </a:lnTo>
                  <a:lnTo>
                    <a:pt x="16178" y="8593"/>
                  </a:lnTo>
                  <a:lnTo>
                    <a:pt x="16188" y="8604"/>
                  </a:lnTo>
                  <a:lnTo>
                    <a:pt x="16199" y="8613"/>
                  </a:lnTo>
                  <a:lnTo>
                    <a:pt x="16208" y="8619"/>
                  </a:lnTo>
                  <a:lnTo>
                    <a:pt x="16220" y="8624"/>
                  </a:lnTo>
                  <a:lnTo>
                    <a:pt x="16234" y="8629"/>
                  </a:lnTo>
                  <a:lnTo>
                    <a:pt x="16251" y="8632"/>
                  </a:lnTo>
                  <a:lnTo>
                    <a:pt x="16271" y="8635"/>
                  </a:lnTo>
                  <a:lnTo>
                    <a:pt x="16294" y="8637"/>
                  </a:lnTo>
                  <a:lnTo>
                    <a:pt x="16319" y="8638"/>
                  </a:lnTo>
                  <a:lnTo>
                    <a:pt x="16347" y="8639"/>
                  </a:lnTo>
                  <a:lnTo>
                    <a:pt x="17190" y="8654"/>
                  </a:lnTo>
                  <a:lnTo>
                    <a:pt x="17236" y="8654"/>
                  </a:lnTo>
                  <a:lnTo>
                    <a:pt x="17272" y="8653"/>
                  </a:lnTo>
                  <a:lnTo>
                    <a:pt x="17288" y="8651"/>
                  </a:lnTo>
                  <a:lnTo>
                    <a:pt x="17301" y="8649"/>
                  </a:lnTo>
                  <a:lnTo>
                    <a:pt x="17312" y="8647"/>
                  </a:lnTo>
                  <a:lnTo>
                    <a:pt x="17321" y="8644"/>
                  </a:lnTo>
                  <a:lnTo>
                    <a:pt x="17327" y="8642"/>
                  </a:lnTo>
                  <a:lnTo>
                    <a:pt x="17333" y="8638"/>
                  </a:lnTo>
                  <a:lnTo>
                    <a:pt x="17338" y="8634"/>
                  </a:lnTo>
                  <a:lnTo>
                    <a:pt x="17343" y="8630"/>
                  </a:lnTo>
                  <a:lnTo>
                    <a:pt x="17353" y="8619"/>
                  </a:lnTo>
                  <a:lnTo>
                    <a:pt x="17363" y="8606"/>
                  </a:lnTo>
                  <a:lnTo>
                    <a:pt x="17368" y="8595"/>
                  </a:lnTo>
                  <a:lnTo>
                    <a:pt x="17373" y="8584"/>
                  </a:lnTo>
                  <a:lnTo>
                    <a:pt x="17377" y="8573"/>
                  </a:lnTo>
                  <a:lnTo>
                    <a:pt x="17380" y="8562"/>
                  </a:lnTo>
                  <a:lnTo>
                    <a:pt x="17384" y="8551"/>
                  </a:lnTo>
                  <a:lnTo>
                    <a:pt x="17386" y="8540"/>
                  </a:lnTo>
                  <a:lnTo>
                    <a:pt x="17387" y="8528"/>
                  </a:lnTo>
                  <a:lnTo>
                    <a:pt x="17387" y="8516"/>
                  </a:lnTo>
                  <a:lnTo>
                    <a:pt x="17388" y="8471"/>
                  </a:lnTo>
                  <a:lnTo>
                    <a:pt x="17424" y="8472"/>
                  </a:lnTo>
                  <a:lnTo>
                    <a:pt x="17414" y="9030"/>
                  </a:lnTo>
                  <a:lnTo>
                    <a:pt x="17378" y="9030"/>
                  </a:lnTo>
                  <a:lnTo>
                    <a:pt x="17379" y="8982"/>
                  </a:lnTo>
                  <a:lnTo>
                    <a:pt x="17379" y="8964"/>
                  </a:lnTo>
                  <a:lnTo>
                    <a:pt x="17377" y="8945"/>
                  </a:lnTo>
                  <a:lnTo>
                    <a:pt x="17374" y="8929"/>
                  </a:lnTo>
                  <a:lnTo>
                    <a:pt x="17368" y="8914"/>
                  </a:lnTo>
                  <a:lnTo>
                    <a:pt x="17362" y="8900"/>
                  </a:lnTo>
                  <a:lnTo>
                    <a:pt x="17354" y="8887"/>
                  </a:lnTo>
                  <a:lnTo>
                    <a:pt x="17346" y="8876"/>
                  </a:lnTo>
                  <a:lnTo>
                    <a:pt x="17335" y="8866"/>
                  </a:lnTo>
                  <a:lnTo>
                    <a:pt x="17325" y="8859"/>
                  </a:lnTo>
                  <a:lnTo>
                    <a:pt x="17314" y="8855"/>
                  </a:lnTo>
                  <a:lnTo>
                    <a:pt x="17299" y="8851"/>
                  </a:lnTo>
                  <a:lnTo>
                    <a:pt x="17282" y="8846"/>
                  </a:lnTo>
                  <a:lnTo>
                    <a:pt x="17262" y="8843"/>
                  </a:lnTo>
                  <a:lnTo>
                    <a:pt x="17240" y="8841"/>
                  </a:lnTo>
                  <a:lnTo>
                    <a:pt x="17215" y="8840"/>
                  </a:lnTo>
                  <a:lnTo>
                    <a:pt x="17187" y="8839"/>
                  </a:lnTo>
                  <a:lnTo>
                    <a:pt x="16344" y="8823"/>
                  </a:lnTo>
                  <a:lnTo>
                    <a:pt x="16298" y="8823"/>
                  </a:lnTo>
                  <a:lnTo>
                    <a:pt x="16261" y="8826"/>
                  </a:lnTo>
                  <a:lnTo>
                    <a:pt x="16246" y="8827"/>
                  </a:lnTo>
                  <a:lnTo>
                    <a:pt x="16233" y="8829"/>
                  </a:lnTo>
                  <a:lnTo>
                    <a:pt x="16222" y="8831"/>
                  </a:lnTo>
                  <a:lnTo>
                    <a:pt x="16212" y="8834"/>
                  </a:lnTo>
                  <a:lnTo>
                    <a:pt x="16206" y="8837"/>
                  </a:lnTo>
                  <a:lnTo>
                    <a:pt x="16200" y="8840"/>
                  </a:lnTo>
                  <a:lnTo>
                    <a:pt x="16195" y="8844"/>
                  </a:lnTo>
                  <a:lnTo>
                    <a:pt x="16189" y="8849"/>
                  </a:lnTo>
                  <a:lnTo>
                    <a:pt x="16185" y="8854"/>
                  </a:lnTo>
                  <a:lnTo>
                    <a:pt x="16179" y="8860"/>
                  </a:lnTo>
                  <a:lnTo>
                    <a:pt x="16175" y="8867"/>
                  </a:lnTo>
                  <a:lnTo>
                    <a:pt x="16171" y="8874"/>
                  </a:lnTo>
                  <a:lnTo>
                    <a:pt x="16164" y="8884"/>
                  </a:lnTo>
                  <a:lnTo>
                    <a:pt x="16160" y="8894"/>
                  </a:lnTo>
                  <a:lnTo>
                    <a:pt x="16155" y="8905"/>
                  </a:lnTo>
                  <a:lnTo>
                    <a:pt x="16152" y="8916"/>
                  </a:lnTo>
                  <a:lnTo>
                    <a:pt x="16149" y="8927"/>
                  </a:lnTo>
                  <a:lnTo>
                    <a:pt x="16148" y="8939"/>
                  </a:lnTo>
                  <a:lnTo>
                    <a:pt x="16146" y="8950"/>
                  </a:lnTo>
                  <a:lnTo>
                    <a:pt x="16146" y="8961"/>
                  </a:lnTo>
                  <a:lnTo>
                    <a:pt x="16144" y="9009"/>
                  </a:lnTo>
                  <a:close/>
                  <a:moveTo>
                    <a:pt x="17317" y="10209"/>
                  </a:moveTo>
                  <a:lnTo>
                    <a:pt x="16870" y="10153"/>
                  </a:lnTo>
                  <a:lnTo>
                    <a:pt x="16874" y="10118"/>
                  </a:lnTo>
                  <a:lnTo>
                    <a:pt x="16906" y="10117"/>
                  </a:lnTo>
                  <a:lnTo>
                    <a:pt x="16936" y="10115"/>
                  </a:lnTo>
                  <a:lnTo>
                    <a:pt x="16966" y="10112"/>
                  </a:lnTo>
                  <a:lnTo>
                    <a:pt x="16993" y="10108"/>
                  </a:lnTo>
                  <a:lnTo>
                    <a:pt x="17019" y="10103"/>
                  </a:lnTo>
                  <a:lnTo>
                    <a:pt x="17043" y="10096"/>
                  </a:lnTo>
                  <a:lnTo>
                    <a:pt x="17066" y="10090"/>
                  </a:lnTo>
                  <a:lnTo>
                    <a:pt x="17086" y="10081"/>
                  </a:lnTo>
                  <a:lnTo>
                    <a:pt x="17107" y="10072"/>
                  </a:lnTo>
                  <a:lnTo>
                    <a:pt x="17126" y="10062"/>
                  </a:lnTo>
                  <a:lnTo>
                    <a:pt x="17144" y="10050"/>
                  </a:lnTo>
                  <a:lnTo>
                    <a:pt x="17163" y="10037"/>
                  </a:lnTo>
                  <a:lnTo>
                    <a:pt x="17179" y="10021"/>
                  </a:lnTo>
                  <a:lnTo>
                    <a:pt x="17194" y="10005"/>
                  </a:lnTo>
                  <a:lnTo>
                    <a:pt x="17209" y="9989"/>
                  </a:lnTo>
                  <a:lnTo>
                    <a:pt x="17224" y="9970"/>
                  </a:lnTo>
                  <a:lnTo>
                    <a:pt x="17237" y="9950"/>
                  </a:lnTo>
                  <a:lnTo>
                    <a:pt x="17249" y="9931"/>
                  </a:lnTo>
                  <a:lnTo>
                    <a:pt x="17258" y="9910"/>
                  </a:lnTo>
                  <a:lnTo>
                    <a:pt x="17267" y="9891"/>
                  </a:lnTo>
                  <a:lnTo>
                    <a:pt x="17275" y="9870"/>
                  </a:lnTo>
                  <a:lnTo>
                    <a:pt x="17281" y="9848"/>
                  </a:lnTo>
                  <a:lnTo>
                    <a:pt x="17286" y="9827"/>
                  </a:lnTo>
                  <a:lnTo>
                    <a:pt x="17290" y="9806"/>
                  </a:lnTo>
                  <a:lnTo>
                    <a:pt x="17291" y="9781"/>
                  </a:lnTo>
                  <a:lnTo>
                    <a:pt x="17291" y="9758"/>
                  </a:lnTo>
                  <a:lnTo>
                    <a:pt x="17290" y="9735"/>
                  </a:lnTo>
                  <a:lnTo>
                    <a:pt x="17286" y="9713"/>
                  </a:lnTo>
                  <a:lnTo>
                    <a:pt x="17279" y="9691"/>
                  </a:lnTo>
                  <a:lnTo>
                    <a:pt x="17272" y="9672"/>
                  </a:lnTo>
                  <a:lnTo>
                    <a:pt x="17261" y="9652"/>
                  </a:lnTo>
                  <a:lnTo>
                    <a:pt x="17249" y="9634"/>
                  </a:lnTo>
                  <a:lnTo>
                    <a:pt x="17236" y="9616"/>
                  </a:lnTo>
                  <a:lnTo>
                    <a:pt x="17221" y="9601"/>
                  </a:lnTo>
                  <a:lnTo>
                    <a:pt x="17206" y="9588"/>
                  </a:lnTo>
                  <a:lnTo>
                    <a:pt x="17190" y="9577"/>
                  </a:lnTo>
                  <a:lnTo>
                    <a:pt x="17174" y="9567"/>
                  </a:lnTo>
                  <a:lnTo>
                    <a:pt x="17156" y="9561"/>
                  </a:lnTo>
                  <a:lnTo>
                    <a:pt x="17138" y="9555"/>
                  </a:lnTo>
                  <a:lnTo>
                    <a:pt x="17119" y="9552"/>
                  </a:lnTo>
                  <a:lnTo>
                    <a:pt x="17104" y="9551"/>
                  </a:lnTo>
                  <a:lnTo>
                    <a:pt x="17090" y="9551"/>
                  </a:lnTo>
                  <a:lnTo>
                    <a:pt x="17076" y="9552"/>
                  </a:lnTo>
                  <a:lnTo>
                    <a:pt x="17061" y="9555"/>
                  </a:lnTo>
                  <a:lnTo>
                    <a:pt x="17047" y="9560"/>
                  </a:lnTo>
                  <a:lnTo>
                    <a:pt x="17033" y="9565"/>
                  </a:lnTo>
                  <a:lnTo>
                    <a:pt x="17020" y="9572"/>
                  </a:lnTo>
                  <a:lnTo>
                    <a:pt x="17006" y="9579"/>
                  </a:lnTo>
                  <a:lnTo>
                    <a:pt x="16996" y="9587"/>
                  </a:lnTo>
                  <a:lnTo>
                    <a:pt x="16985" y="9594"/>
                  </a:lnTo>
                  <a:lnTo>
                    <a:pt x="16974" y="9604"/>
                  </a:lnTo>
                  <a:lnTo>
                    <a:pt x="16962" y="9615"/>
                  </a:lnTo>
                  <a:lnTo>
                    <a:pt x="16937" y="9639"/>
                  </a:lnTo>
                  <a:lnTo>
                    <a:pt x="16910" y="9670"/>
                  </a:lnTo>
                  <a:lnTo>
                    <a:pt x="16881" y="9704"/>
                  </a:lnTo>
                  <a:lnTo>
                    <a:pt x="16849" y="9744"/>
                  </a:lnTo>
                  <a:lnTo>
                    <a:pt x="16816" y="9788"/>
                  </a:lnTo>
                  <a:lnTo>
                    <a:pt x="16780" y="9838"/>
                  </a:lnTo>
                  <a:lnTo>
                    <a:pt x="16751" y="9879"/>
                  </a:lnTo>
                  <a:lnTo>
                    <a:pt x="16724" y="9916"/>
                  </a:lnTo>
                  <a:lnTo>
                    <a:pt x="16699" y="9949"/>
                  </a:lnTo>
                  <a:lnTo>
                    <a:pt x="16676" y="9980"/>
                  </a:lnTo>
                  <a:lnTo>
                    <a:pt x="16654" y="10007"/>
                  </a:lnTo>
                  <a:lnTo>
                    <a:pt x="16634" y="10031"/>
                  </a:lnTo>
                  <a:lnTo>
                    <a:pt x="16616" y="10051"/>
                  </a:lnTo>
                  <a:lnTo>
                    <a:pt x="16601" y="10067"/>
                  </a:lnTo>
                  <a:lnTo>
                    <a:pt x="16585" y="10082"/>
                  </a:lnTo>
                  <a:lnTo>
                    <a:pt x="16569" y="10095"/>
                  </a:lnTo>
                  <a:lnTo>
                    <a:pt x="16553" y="10107"/>
                  </a:lnTo>
                  <a:lnTo>
                    <a:pt x="16536" y="10119"/>
                  </a:lnTo>
                  <a:lnTo>
                    <a:pt x="16519" y="10130"/>
                  </a:lnTo>
                  <a:lnTo>
                    <a:pt x="16502" y="10139"/>
                  </a:lnTo>
                  <a:lnTo>
                    <a:pt x="16483" y="10148"/>
                  </a:lnTo>
                  <a:lnTo>
                    <a:pt x="16465" y="10154"/>
                  </a:lnTo>
                  <a:lnTo>
                    <a:pt x="16446" y="10161"/>
                  </a:lnTo>
                  <a:lnTo>
                    <a:pt x="16428" y="10166"/>
                  </a:lnTo>
                  <a:lnTo>
                    <a:pt x="16408" y="10169"/>
                  </a:lnTo>
                  <a:lnTo>
                    <a:pt x="16389" y="10173"/>
                  </a:lnTo>
                  <a:lnTo>
                    <a:pt x="16370" y="10175"/>
                  </a:lnTo>
                  <a:lnTo>
                    <a:pt x="16351" y="10175"/>
                  </a:lnTo>
                  <a:lnTo>
                    <a:pt x="16332" y="10174"/>
                  </a:lnTo>
                  <a:lnTo>
                    <a:pt x="16312" y="10173"/>
                  </a:lnTo>
                  <a:lnTo>
                    <a:pt x="16295" y="10169"/>
                  </a:lnTo>
                  <a:lnTo>
                    <a:pt x="16276" y="10166"/>
                  </a:lnTo>
                  <a:lnTo>
                    <a:pt x="16259" y="10162"/>
                  </a:lnTo>
                  <a:lnTo>
                    <a:pt x="16242" y="10156"/>
                  </a:lnTo>
                  <a:lnTo>
                    <a:pt x="16226" y="10151"/>
                  </a:lnTo>
                  <a:lnTo>
                    <a:pt x="16210" y="10143"/>
                  </a:lnTo>
                  <a:lnTo>
                    <a:pt x="16195" y="10136"/>
                  </a:lnTo>
                  <a:lnTo>
                    <a:pt x="16179" y="10127"/>
                  </a:lnTo>
                  <a:lnTo>
                    <a:pt x="16164" y="10117"/>
                  </a:lnTo>
                  <a:lnTo>
                    <a:pt x="16150" y="10107"/>
                  </a:lnTo>
                  <a:lnTo>
                    <a:pt x="16136" y="10096"/>
                  </a:lnTo>
                  <a:lnTo>
                    <a:pt x="16123" y="10083"/>
                  </a:lnTo>
                  <a:lnTo>
                    <a:pt x="16110" y="10071"/>
                  </a:lnTo>
                  <a:lnTo>
                    <a:pt x="16097" y="10057"/>
                  </a:lnTo>
                  <a:lnTo>
                    <a:pt x="16085" y="10042"/>
                  </a:lnTo>
                  <a:lnTo>
                    <a:pt x="16073" y="10027"/>
                  </a:lnTo>
                  <a:lnTo>
                    <a:pt x="16062" y="10010"/>
                  </a:lnTo>
                  <a:lnTo>
                    <a:pt x="16052" y="9994"/>
                  </a:lnTo>
                  <a:lnTo>
                    <a:pt x="16042" y="9978"/>
                  </a:lnTo>
                  <a:lnTo>
                    <a:pt x="16033" y="9960"/>
                  </a:lnTo>
                  <a:lnTo>
                    <a:pt x="16026" y="9942"/>
                  </a:lnTo>
                  <a:lnTo>
                    <a:pt x="16019" y="9924"/>
                  </a:lnTo>
                  <a:lnTo>
                    <a:pt x="16014" y="9906"/>
                  </a:lnTo>
                  <a:lnTo>
                    <a:pt x="16009" y="9886"/>
                  </a:lnTo>
                  <a:lnTo>
                    <a:pt x="16005" y="9868"/>
                  </a:lnTo>
                  <a:lnTo>
                    <a:pt x="16002" y="9847"/>
                  </a:lnTo>
                  <a:lnTo>
                    <a:pt x="16000" y="9827"/>
                  </a:lnTo>
                  <a:lnTo>
                    <a:pt x="15998" y="9807"/>
                  </a:lnTo>
                  <a:lnTo>
                    <a:pt x="15998" y="9786"/>
                  </a:lnTo>
                  <a:lnTo>
                    <a:pt x="15998" y="9764"/>
                  </a:lnTo>
                  <a:lnTo>
                    <a:pt x="16000" y="9743"/>
                  </a:lnTo>
                  <a:lnTo>
                    <a:pt x="16003" y="9720"/>
                  </a:lnTo>
                  <a:lnTo>
                    <a:pt x="16006" y="9692"/>
                  </a:lnTo>
                  <a:lnTo>
                    <a:pt x="16012" y="9665"/>
                  </a:lnTo>
                  <a:lnTo>
                    <a:pt x="16017" y="9640"/>
                  </a:lnTo>
                  <a:lnTo>
                    <a:pt x="16025" y="9615"/>
                  </a:lnTo>
                  <a:lnTo>
                    <a:pt x="16030" y="9597"/>
                  </a:lnTo>
                  <a:lnTo>
                    <a:pt x="16041" y="9570"/>
                  </a:lnTo>
                  <a:lnTo>
                    <a:pt x="16055" y="9538"/>
                  </a:lnTo>
                  <a:lnTo>
                    <a:pt x="16074" y="9496"/>
                  </a:lnTo>
                  <a:lnTo>
                    <a:pt x="16092" y="9456"/>
                  </a:lnTo>
                  <a:lnTo>
                    <a:pt x="16106" y="9423"/>
                  </a:lnTo>
                  <a:lnTo>
                    <a:pt x="16115" y="9398"/>
                  </a:lnTo>
                  <a:lnTo>
                    <a:pt x="16118" y="9382"/>
                  </a:lnTo>
                  <a:lnTo>
                    <a:pt x="16119" y="9371"/>
                  </a:lnTo>
                  <a:lnTo>
                    <a:pt x="16117" y="9360"/>
                  </a:lnTo>
                  <a:lnTo>
                    <a:pt x="16114" y="9352"/>
                  </a:lnTo>
                  <a:lnTo>
                    <a:pt x="16108" y="9343"/>
                  </a:lnTo>
                  <a:lnTo>
                    <a:pt x="16105" y="9339"/>
                  </a:lnTo>
                  <a:lnTo>
                    <a:pt x="16101" y="9335"/>
                  </a:lnTo>
                  <a:lnTo>
                    <a:pt x="16095" y="9332"/>
                  </a:lnTo>
                  <a:lnTo>
                    <a:pt x="16089" y="9328"/>
                  </a:lnTo>
                  <a:lnTo>
                    <a:pt x="16073" y="9321"/>
                  </a:lnTo>
                  <a:lnTo>
                    <a:pt x="16052" y="9315"/>
                  </a:lnTo>
                  <a:lnTo>
                    <a:pt x="16056" y="9280"/>
                  </a:lnTo>
                  <a:lnTo>
                    <a:pt x="16501" y="9334"/>
                  </a:lnTo>
                  <a:lnTo>
                    <a:pt x="16496" y="9369"/>
                  </a:lnTo>
                  <a:lnTo>
                    <a:pt x="16461" y="9371"/>
                  </a:lnTo>
                  <a:lnTo>
                    <a:pt x="16430" y="9374"/>
                  </a:lnTo>
                  <a:lnTo>
                    <a:pt x="16399" y="9379"/>
                  </a:lnTo>
                  <a:lnTo>
                    <a:pt x="16371" y="9383"/>
                  </a:lnTo>
                  <a:lnTo>
                    <a:pt x="16345" y="9390"/>
                  </a:lnTo>
                  <a:lnTo>
                    <a:pt x="16321" y="9396"/>
                  </a:lnTo>
                  <a:lnTo>
                    <a:pt x="16299" y="9403"/>
                  </a:lnTo>
                  <a:lnTo>
                    <a:pt x="16279" y="9410"/>
                  </a:lnTo>
                  <a:lnTo>
                    <a:pt x="16261" y="9420"/>
                  </a:lnTo>
                  <a:lnTo>
                    <a:pt x="16244" y="9431"/>
                  </a:lnTo>
                  <a:lnTo>
                    <a:pt x="16226" y="9443"/>
                  </a:lnTo>
                  <a:lnTo>
                    <a:pt x="16210" y="9456"/>
                  </a:lnTo>
                  <a:lnTo>
                    <a:pt x="16193" y="9471"/>
                  </a:lnTo>
                  <a:lnTo>
                    <a:pt x="16178" y="9488"/>
                  </a:lnTo>
                  <a:lnTo>
                    <a:pt x="16163" y="9506"/>
                  </a:lnTo>
                  <a:lnTo>
                    <a:pt x="16149" y="9525"/>
                  </a:lnTo>
                  <a:lnTo>
                    <a:pt x="16135" y="9545"/>
                  </a:lnTo>
                  <a:lnTo>
                    <a:pt x="16123" y="9567"/>
                  </a:lnTo>
                  <a:lnTo>
                    <a:pt x="16113" y="9589"/>
                  </a:lnTo>
                  <a:lnTo>
                    <a:pt x="16103" y="9612"/>
                  </a:lnTo>
                  <a:lnTo>
                    <a:pt x="16095" y="9635"/>
                  </a:lnTo>
                  <a:lnTo>
                    <a:pt x="16089" y="9659"/>
                  </a:lnTo>
                  <a:lnTo>
                    <a:pt x="16083" y="9684"/>
                  </a:lnTo>
                  <a:lnTo>
                    <a:pt x="16079" y="9709"/>
                  </a:lnTo>
                  <a:lnTo>
                    <a:pt x="16077" y="9738"/>
                  </a:lnTo>
                  <a:lnTo>
                    <a:pt x="16077" y="9766"/>
                  </a:lnTo>
                  <a:lnTo>
                    <a:pt x="16077" y="9780"/>
                  </a:lnTo>
                  <a:lnTo>
                    <a:pt x="16078" y="9793"/>
                  </a:lnTo>
                  <a:lnTo>
                    <a:pt x="16080" y="9806"/>
                  </a:lnTo>
                  <a:lnTo>
                    <a:pt x="16082" y="9818"/>
                  </a:lnTo>
                  <a:lnTo>
                    <a:pt x="16085" y="9830"/>
                  </a:lnTo>
                  <a:lnTo>
                    <a:pt x="16088" y="9842"/>
                  </a:lnTo>
                  <a:lnTo>
                    <a:pt x="16092" y="9854"/>
                  </a:lnTo>
                  <a:lnTo>
                    <a:pt x="16097" y="9864"/>
                  </a:lnTo>
                  <a:lnTo>
                    <a:pt x="16101" y="9875"/>
                  </a:lnTo>
                  <a:lnTo>
                    <a:pt x="16106" y="9885"/>
                  </a:lnTo>
                  <a:lnTo>
                    <a:pt x="16113" y="9896"/>
                  </a:lnTo>
                  <a:lnTo>
                    <a:pt x="16119" y="9906"/>
                  </a:lnTo>
                  <a:lnTo>
                    <a:pt x="16134" y="9923"/>
                  </a:lnTo>
                  <a:lnTo>
                    <a:pt x="16149" y="9940"/>
                  </a:lnTo>
                  <a:lnTo>
                    <a:pt x="16156" y="9947"/>
                  </a:lnTo>
                  <a:lnTo>
                    <a:pt x="16164" y="9954"/>
                  </a:lnTo>
                  <a:lnTo>
                    <a:pt x="16173" y="9960"/>
                  </a:lnTo>
                  <a:lnTo>
                    <a:pt x="16181" y="9966"/>
                  </a:lnTo>
                  <a:lnTo>
                    <a:pt x="16190" y="9971"/>
                  </a:lnTo>
                  <a:lnTo>
                    <a:pt x="16200" y="9976"/>
                  </a:lnTo>
                  <a:lnTo>
                    <a:pt x="16209" y="9980"/>
                  </a:lnTo>
                  <a:lnTo>
                    <a:pt x="16218" y="9983"/>
                  </a:lnTo>
                  <a:lnTo>
                    <a:pt x="16228" y="9986"/>
                  </a:lnTo>
                  <a:lnTo>
                    <a:pt x="16239" y="9990"/>
                  </a:lnTo>
                  <a:lnTo>
                    <a:pt x="16249" y="9992"/>
                  </a:lnTo>
                  <a:lnTo>
                    <a:pt x="16260" y="9993"/>
                  </a:lnTo>
                  <a:lnTo>
                    <a:pt x="16272" y="9994"/>
                  </a:lnTo>
                  <a:lnTo>
                    <a:pt x="16284" y="9994"/>
                  </a:lnTo>
                  <a:lnTo>
                    <a:pt x="16296" y="9994"/>
                  </a:lnTo>
                  <a:lnTo>
                    <a:pt x="16309" y="9992"/>
                  </a:lnTo>
                  <a:lnTo>
                    <a:pt x="16321" y="9990"/>
                  </a:lnTo>
                  <a:lnTo>
                    <a:pt x="16334" y="9988"/>
                  </a:lnTo>
                  <a:lnTo>
                    <a:pt x="16347" y="9983"/>
                  </a:lnTo>
                  <a:lnTo>
                    <a:pt x="16360" y="9979"/>
                  </a:lnTo>
                  <a:lnTo>
                    <a:pt x="16372" y="9973"/>
                  </a:lnTo>
                  <a:lnTo>
                    <a:pt x="16385" y="9967"/>
                  </a:lnTo>
                  <a:lnTo>
                    <a:pt x="16398" y="9959"/>
                  </a:lnTo>
                  <a:lnTo>
                    <a:pt x="16411" y="9950"/>
                  </a:lnTo>
                  <a:lnTo>
                    <a:pt x="16423" y="9942"/>
                  </a:lnTo>
                  <a:lnTo>
                    <a:pt x="16435" y="9931"/>
                  </a:lnTo>
                  <a:lnTo>
                    <a:pt x="16448" y="9920"/>
                  </a:lnTo>
                  <a:lnTo>
                    <a:pt x="16460" y="9908"/>
                  </a:lnTo>
                  <a:lnTo>
                    <a:pt x="16470" y="9898"/>
                  </a:lnTo>
                  <a:lnTo>
                    <a:pt x="16482" y="9884"/>
                  </a:lnTo>
                  <a:lnTo>
                    <a:pt x="16496" y="9866"/>
                  </a:lnTo>
                  <a:lnTo>
                    <a:pt x="16514" y="9844"/>
                  </a:lnTo>
                  <a:lnTo>
                    <a:pt x="16533" y="9819"/>
                  </a:lnTo>
                  <a:lnTo>
                    <a:pt x="16555" y="9789"/>
                  </a:lnTo>
                  <a:lnTo>
                    <a:pt x="16580" y="9757"/>
                  </a:lnTo>
                  <a:lnTo>
                    <a:pt x="16607" y="9720"/>
                  </a:lnTo>
                  <a:lnTo>
                    <a:pt x="16634" y="9683"/>
                  </a:lnTo>
                  <a:lnTo>
                    <a:pt x="16661" y="9648"/>
                  </a:lnTo>
                  <a:lnTo>
                    <a:pt x="16686" y="9616"/>
                  </a:lnTo>
                  <a:lnTo>
                    <a:pt x="16709" y="9588"/>
                  </a:lnTo>
                  <a:lnTo>
                    <a:pt x="16729" y="9562"/>
                  </a:lnTo>
                  <a:lnTo>
                    <a:pt x="16750" y="9539"/>
                  </a:lnTo>
                  <a:lnTo>
                    <a:pt x="16767" y="9518"/>
                  </a:lnTo>
                  <a:lnTo>
                    <a:pt x="16785" y="9502"/>
                  </a:lnTo>
                  <a:lnTo>
                    <a:pt x="16801" y="9486"/>
                  </a:lnTo>
                  <a:lnTo>
                    <a:pt x="16817" y="9471"/>
                  </a:lnTo>
                  <a:lnTo>
                    <a:pt x="16834" y="9458"/>
                  </a:lnTo>
                  <a:lnTo>
                    <a:pt x="16851" y="9446"/>
                  </a:lnTo>
                  <a:lnTo>
                    <a:pt x="16868" y="9435"/>
                  </a:lnTo>
                  <a:lnTo>
                    <a:pt x="16885" y="9426"/>
                  </a:lnTo>
                  <a:lnTo>
                    <a:pt x="16902" y="9417"/>
                  </a:lnTo>
                  <a:lnTo>
                    <a:pt x="16920" y="9409"/>
                  </a:lnTo>
                  <a:lnTo>
                    <a:pt x="16938" y="9404"/>
                  </a:lnTo>
                  <a:lnTo>
                    <a:pt x="16957" y="9398"/>
                  </a:lnTo>
                  <a:lnTo>
                    <a:pt x="16975" y="9394"/>
                  </a:lnTo>
                  <a:lnTo>
                    <a:pt x="16994" y="9391"/>
                  </a:lnTo>
                  <a:lnTo>
                    <a:pt x="17012" y="9390"/>
                  </a:lnTo>
                  <a:lnTo>
                    <a:pt x="17032" y="9389"/>
                  </a:lnTo>
                  <a:lnTo>
                    <a:pt x="17052" y="9390"/>
                  </a:lnTo>
                  <a:lnTo>
                    <a:pt x="17072" y="9392"/>
                  </a:lnTo>
                  <a:lnTo>
                    <a:pt x="17089" y="9394"/>
                  </a:lnTo>
                  <a:lnTo>
                    <a:pt x="17106" y="9397"/>
                  </a:lnTo>
                  <a:lnTo>
                    <a:pt x="17122" y="9402"/>
                  </a:lnTo>
                  <a:lnTo>
                    <a:pt x="17139" y="9407"/>
                  </a:lnTo>
                  <a:lnTo>
                    <a:pt x="17154" y="9413"/>
                  </a:lnTo>
                  <a:lnTo>
                    <a:pt x="17169" y="9419"/>
                  </a:lnTo>
                  <a:lnTo>
                    <a:pt x="17183" y="9427"/>
                  </a:lnTo>
                  <a:lnTo>
                    <a:pt x="17199" y="9434"/>
                  </a:lnTo>
                  <a:lnTo>
                    <a:pt x="17213" y="9443"/>
                  </a:lnTo>
                  <a:lnTo>
                    <a:pt x="17226" y="9453"/>
                  </a:lnTo>
                  <a:lnTo>
                    <a:pt x="17239" y="9464"/>
                  </a:lnTo>
                  <a:lnTo>
                    <a:pt x="17252" y="9475"/>
                  </a:lnTo>
                  <a:lnTo>
                    <a:pt x="17264" y="9487"/>
                  </a:lnTo>
                  <a:lnTo>
                    <a:pt x="17276" y="9500"/>
                  </a:lnTo>
                  <a:lnTo>
                    <a:pt x="17288" y="9514"/>
                  </a:lnTo>
                  <a:lnTo>
                    <a:pt x="17299" y="9528"/>
                  </a:lnTo>
                  <a:lnTo>
                    <a:pt x="17310" y="9543"/>
                  </a:lnTo>
                  <a:lnTo>
                    <a:pt x="17319" y="9558"/>
                  </a:lnTo>
                  <a:lnTo>
                    <a:pt x="17328" y="9575"/>
                  </a:lnTo>
                  <a:lnTo>
                    <a:pt x="17336" y="9591"/>
                  </a:lnTo>
                  <a:lnTo>
                    <a:pt x="17343" y="9607"/>
                  </a:lnTo>
                  <a:lnTo>
                    <a:pt x="17349" y="9624"/>
                  </a:lnTo>
                  <a:lnTo>
                    <a:pt x="17354" y="9641"/>
                  </a:lnTo>
                  <a:lnTo>
                    <a:pt x="17360" y="9659"/>
                  </a:lnTo>
                  <a:lnTo>
                    <a:pt x="17363" y="9677"/>
                  </a:lnTo>
                  <a:lnTo>
                    <a:pt x="17366" y="9696"/>
                  </a:lnTo>
                  <a:lnTo>
                    <a:pt x="17368" y="9714"/>
                  </a:lnTo>
                  <a:lnTo>
                    <a:pt x="17370" y="9733"/>
                  </a:lnTo>
                  <a:lnTo>
                    <a:pt x="17370" y="9752"/>
                  </a:lnTo>
                  <a:lnTo>
                    <a:pt x="17370" y="9772"/>
                  </a:lnTo>
                  <a:lnTo>
                    <a:pt x="17368" y="9793"/>
                  </a:lnTo>
                  <a:lnTo>
                    <a:pt x="17366" y="9812"/>
                  </a:lnTo>
                  <a:lnTo>
                    <a:pt x="17362" y="9838"/>
                  </a:lnTo>
                  <a:lnTo>
                    <a:pt x="17356" y="9864"/>
                  </a:lnTo>
                  <a:lnTo>
                    <a:pt x="17349" y="9891"/>
                  </a:lnTo>
                  <a:lnTo>
                    <a:pt x="17340" y="9918"/>
                  </a:lnTo>
                  <a:lnTo>
                    <a:pt x="17330" y="9944"/>
                  </a:lnTo>
                  <a:lnTo>
                    <a:pt x="17318" y="9971"/>
                  </a:lnTo>
                  <a:lnTo>
                    <a:pt x="17304" y="9998"/>
                  </a:lnTo>
                  <a:lnTo>
                    <a:pt x="17289" y="10026"/>
                  </a:lnTo>
                  <a:lnTo>
                    <a:pt x="17275" y="10049"/>
                  </a:lnTo>
                  <a:lnTo>
                    <a:pt x="17265" y="10069"/>
                  </a:lnTo>
                  <a:lnTo>
                    <a:pt x="17258" y="10086"/>
                  </a:lnTo>
                  <a:lnTo>
                    <a:pt x="17255" y="10098"/>
                  </a:lnTo>
                  <a:lnTo>
                    <a:pt x="17255" y="10109"/>
                  </a:lnTo>
                  <a:lnTo>
                    <a:pt x="17256" y="10120"/>
                  </a:lnTo>
                  <a:lnTo>
                    <a:pt x="17258" y="10126"/>
                  </a:lnTo>
                  <a:lnTo>
                    <a:pt x="17260" y="10131"/>
                  </a:lnTo>
                  <a:lnTo>
                    <a:pt x="17263" y="10136"/>
                  </a:lnTo>
                  <a:lnTo>
                    <a:pt x="17265" y="10140"/>
                  </a:lnTo>
                  <a:lnTo>
                    <a:pt x="17269" y="10144"/>
                  </a:lnTo>
                  <a:lnTo>
                    <a:pt x="17274" y="10149"/>
                  </a:lnTo>
                  <a:lnTo>
                    <a:pt x="17279" y="10153"/>
                  </a:lnTo>
                  <a:lnTo>
                    <a:pt x="17286" y="10157"/>
                  </a:lnTo>
                  <a:lnTo>
                    <a:pt x="17302" y="10165"/>
                  </a:lnTo>
                  <a:lnTo>
                    <a:pt x="17322" y="10173"/>
                  </a:lnTo>
                  <a:lnTo>
                    <a:pt x="17317" y="10209"/>
                  </a:lnTo>
                  <a:close/>
                  <a:moveTo>
                    <a:pt x="16842" y="11819"/>
                  </a:moveTo>
                  <a:lnTo>
                    <a:pt x="16547" y="11738"/>
                  </a:lnTo>
                  <a:lnTo>
                    <a:pt x="16558" y="11704"/>
                  </a:lnTo>
                  <a:lnTo>
                    <a:pt x="16596" y="11710"/>
                  </a:lnTo>
                  <a:lnTo>
                    <a:pt x="16628" y="11713"/>
                  </a:lnTo>
                  <a:lnTo>
                    <a:pt x="16642" y="11715"/>
                  </a:lnTo>
                  <a:lnTo>
                    <a:pt x="16655" y="11713"/>
                  </a:lnTo>
                  <a:lnTo>
                    <a:pt x="16667" y="11713"/>
                  </a:lnTo>
                  <a:lnTo>
                    <a:pt x="16678" y="11712"/>
                  </a:lnTo>
                  <a:lnTo>
                    <a:pt x="16692" y="11709"/>
                  </a:lnTo>
                  <a:lnTo>
                    <a:pt x="16707" y="11705"/>
                  </a:lnTo>
                  <a:lnTo>
                    <a:pt x="16721" y="11699"/>
                  </a:lnTo>
                  <a:lnTo>
                    <a:pt x="16735" y="11694"/>
                  </a:lnTo>
                  <a:lnTo>
                    <a:pt x="16747" y="11687"/>
                  </a:lnTo>
                  <a:lnTo>
                    <a:pt x="16759" y="11680"/>
                  </a:lnTo>
                  <a:lnTo>
                    <a:pt x="16770" y="11671"/>
                  </a:lnTo>
                  <a:lnTo>
                    <a:pt x="16780" y="11662"/>
                  </a:lnTo>
                  <a:lnTo>
                    <a:pt x="16790" y="11651"/>
                  </a:lnTo>
                  <a:lnTo>
                    <a:pt x="16799" y="11640"/>
                  </a:lnTo>
                  <a:lnTo>
                    <a:pt x="16809" y="11627"/>
                  </a:lnTo>
                  <a:lnTo>
                    <a:pt x="16816" y="11613"/>
                  </a:lnTo>
                  <a:lnTo>
                    <a:pt x="16825" y="11598"/>
                  </a:lnTo>
                  <a:lnTo>
                    <a:pt x="16833" y="11582"/>
                  </a:lnTo>
                  <a:lnTo>
                    <a:pt x="16839" y="11564"/>
                  </a:lnTo>
                  <a:lnTo>
                    <a:pt x="16846" y="11546"/>
                  </a:lnTo>
                  <a:lnTo>
                    <a:pt x="16902" y="11372"/>
                  </a:lnTo>
                  <a:lnTo>
                    <a:pt x="15954" y="11063"/>
                  </a:lnTo>
                  <a:lnTo>
                    <a:pt x="15927" y="11055"/>
                  </a:lnTo>
                  <a:lnTo>
                    <a:pt x="15902" y="11048"/>
                  </a:lnTo>
                  <a:lnTo>
                    <a:pt x="15879" y="11043"/>
                  </a:lnTo>
                  <a:lnTo>
                    <a:pt x="15859" y="11039"/>
                  </a:lnTo>
                  <a:lnTo>
                    <a:pt x="15842" y="11037"/>
                  </a:lnTo>
                  <a:lnTo>
                    <a:pt x="15826" y="11037"/>
                  </a:lnTo>
                  <a:lnTo>
                    <a:pt x="15813" y="11038"/>
                  </a:lnTo>
                  <a:lnTo>
                    <a:pt x="15804" y="11042"/>
                  </a:lnTo>
                  <a:lnTo>
                    <a:pt x="15791" y="11047"/>
                  </a:lnTo>
                  <a:lnTo>
                    <a:pt x="15780" y="11056"/>
                  </a:lnTo>
                  <a:lnTo>
                    <a:pt x="15770" y="11064"/>
                  </a:lnTo>
                  <a:lnTo>
                    <a:pt x="15760" y="11076"/>
                  </a:lnTo>
                  <a:lnTo>
                    <a:pt x="15751" y="11088"/>
                  </a:lnTo>
                  <a:lnTo>
                    <a:pt x="15744" y="11103"/>
                  </a:lnTo>
                  <a:lnTo>
                    <a:pt x="15736" y="11119"/>
                  </a:lnTo>
                  <a:lnTo>
                    <a:pt x="15730" y="11136"/>
                  </a:lnTo>
                  <a:lnTo>
                    <a:pt x="15715" y="11179"/>
                  </a:lnTo>
                  <a:lnTo>
                    <a:pt x="15682" y="11168"/>
                  </a:lnTo>
                  <a:lnTo>
                    <a:pt x="15853" y="10642"/>
                  </a:lnTo>
                  <a:lnTo>
                    <a:pt x="15886" y="10653"/>
                  </a:lnTo>
                  <a:lnTo>
                    <a:pt x="15872" y="10696"/>
                  </a:lnTo>
                  <a:lnTo>
                    <a:pt x="15867" y="10716"/>
                  </a:lnTo>
                  <a:lnTo>
                    <a:pt x="15863" y="10735"/>
                  </a:lnTo>
                  <a:lnTo>
                    <a:pt x="15862" y="10751"/>
                  </a:lnTo>
                  <a:lnTo>
                    <a:pt x="15862" y="10767"/>
                  </a:lnTo>
                  <a:lnTo>
                    <a:pt x="15865" y="10784"/>
                  </a:lnTo>
                  <a:lnTo>
                    <a:pt x="15869" y="10798"/>
                  </a:lnTo>
                  <a:lnTo>
                    <a:pt x="15875" y="10811"/>
                  </a:lnTo>
                  <a:lnTo>
                    <a:pt x="15884" y="10824"/>
                  </a:lnTo>
                  <a:lnTo>
                    <a:pt x="15891" y="10831"/>
                  </a:lnTo>
                  <a:lnTo>
                    <a:pt x="15900" y="10839"/>
                  </a:lnTo>
                  <a:lnTo>
                    <a:pt x="15912" y="10847"/>
                  </a:lnTo>
                  <a:lnTo>
                    <a:pt x="15927" y="10854"/>
                  </a:lnTo>
                  <a:lnTo>
                    <a:pt x="15944" y="10863"/>
                  </a:lnTo>
                  <a:lnTo>
                    <a:pt x="15964" y="10871"/>
                  </a:lnTo>
                  <a:lnTo>
                    <a:pt x="15987" y="10879"/>
                  </a:lnTo>
                  <a:lnTo>
                    <a:pt x="16010" y="10887"/>
                  </a:lnTo>
                  <a:lnTo>
                    <a:pt x="16960" y="11195"/>
                  </a:lnTo>
                  <a:lnTo>
                    <a:pt x="17008" y="11046"/>
                  </a:lnTo>
                  <a:lnTo>
                    <a:pt x="17020" y="11006"/>
                  </a:lnTo>
                  <a:lnTo>
                    <a:pt x="17029" y="10971"/>
                  </a:lnTo>
                  <a:lnTo>
                    <a:pt x="17032" y="10956"/>
                  </a:lnTo>
                  <a:lnTo>
                    <a:pt x="17034" y="10941"/>
                  </a:lnTo>
                  <a:lnTo>
                    <a:pt x="17035" y="10929"/>
                  </a:lnTo>
                  <a:lnTo>
                    <a:pt x="17035" y="10919"/>
                  </a:lnTo>
                  <a:lnTo>
                    <a:pt x="17034" y="10905"/>
                  </a:lnTo>
                  <a:lnTo>
                    <a:pt x="17032" y="10892"/>
                  </a:lnTo>
                  <a:lnTo>
                    <a:pt x="17029" y="10879"/>
                  </a:lnTo>
                  <a:lnTo>
                    <a:pt x="17024" y="10866"/>
                  </a:lnTo>
                  <a:lnTo>
                    <a:pt x="17019" y="10853"/>
                  </a:lnTo>
                  <a:lnTo>
                    <a:pt x="17012" y="10840"/>
                  </a:lnTo>
                  <a:lnTo>
                    <a:pt x="17004" y="10828"/>
                  </a:lnTo>
                  <a:lnTo>
                    <a:pt x="16995" y="10815"/>
                  </a:lnTo>
                  <a:lnTo>
                    <a:pt x="16985" y="10803"/>
                  </a:lnTo>
                  <a:lnTo>
                    <a:pt x="16973" y="10791"/>
                  </a:lnTo>
                  <a:lnTo>
                    <a:pt x="16960" y="10780"/>
                  </a:lnTo>
                  <a:lnTo>
                    <a:pt x="16946" y="10769"/>
                  </a:lnTo>
                  <a:lnTo>
                    <a:pt x="16930" y="10760"/>
                  </a:lnTo>
                  <a:lnTo>
                    <a:pt x="16913" y="10750"/>
                  </a:lnTo>
                  <a:lnTo>
                    <a:pt x="16895" y="10740"/>
                  </a:lnTo>
                  <a:lnTo>
                    <a:pt x="16874" y="10731"/>
                  </a:lnTo>
                  <a:lnTo>
                    <a:pt x="16886" y="10696"/>
                  </a:lnTo>
                  <a:lnTo>
                    <a:pt x="17172" y="10806"/>
                  </a:lnTo>
                  <a:lnTo>
                    <a:pt x="16842" y="11819"/>
                  </a:lnTo>
                  <a:close/>
                  <a:moveTo>
                    <a:pt x="15323" y="12144"/>
                  </a:moveTo>
                  <a:lnTo>
                    <a:pt x="15291" y="12129"/>
                  </a:lnTo>
                  <a:lnTo>
                    <a:pt x="15518" y="11618"/>
                  </a:lnTo>
                  <a:lnTo>
                    <a:pt x="15551" y="11632"/>
                  </a:lnTo>
                  <a:lnTo>
                    <a:pt x="15532" y="11674"/>
                  </a:lnTo>
                  <a:lnTo>
                    <a:pt x="15525" y="11693"/>
                  </a:lnTo>
                  <a:lnTo>
                    <a:pt x="15519" y="11710"/>
                  </a:lnTo>
                  <a:lnTo>
                    <a:pt x="15516" y="11727"/>
                  </a:lnTo>
                  <a:lnTo>
                    <a:pt x="15515" y="11743"/>
                  </a:lnTo>
                  <a:lnTo>
                    <a:pt x="15515" y="11758"/>
                  </a:lnTo>
                  <a:lnTo>
                    <a:pt x="15517" y="11773"/>
                  </a:lnTo>
                  <a:lnTo>
                    <a:pt x="15522" y="11787"/>
                  </a:lnTo>
                  <a:lnTo>
                    <a:pt x="15528" y="11801"/>
                  </a:lnTo>
                  <a:lnTo>
                    <a:pt x="15533" y="11809"/>
                  </a:lnTo>
                  <a:lnTo>
                    <a:pt x="15542" y="11819"/>
                  </a:lnTo>
                  <a:lnTo>
                    <a:pt x="15554" y="11828"/>
                  </a:lnTo>
                  <a:lnTo>
                    <a:pt x="15568" y="11839"/>
                  </a:lnTo>
                  <a:lnTo>
                    <a:pt x="15586" y="11848"/>
                  </a:lnTo>
                  <a:lnTo>
                    <a:pt x="15605" y="11859"/>
                  </a:lnTo>
                  <a:lnTo>
                    <a:pt x="15628" y="11871"/>
                  </a:lnTo>
                  <a:lnTo>
                    <a:pt x="15653" y="11882"/>
                  </a:lnTo>
                  <a:lnTo>
                    <a:pt x="16424" y="12225"/>
                  </a:lnTo>
                  <a:lnTo>
                    <a:pt x="16466" y="12244"/>
                  </a:lnTo>
                  <a:lnTo>
                    <a:pt x="16501" y="12256"/>
                  </a:lnTo>
                  <a:lnTo>
                    <a:pt x="16515" y="12261"/>
                  </a:lnTo>
                  <a:lnTo>
                    <a:pt x="16528" y="12264"/>
                  </a:lnTo>
                  <a:lnTo>
                    <a:pt x="16539" y="12267"/>
                  </a:lnTo>
                  <a:lnTo>
                    <a:pt x="16548" y="12268"/>
                  </a:lnTo>
                  <a:lnTo>
                    <a:pt x="16555" y="12268"/>
                  </a:lnTo>
                  <a:lnTo>
                    <a:pt x="16562" y="12267"/>
                  </a:lnTo>
                  <a:lnTo>
                    <a:pt x="16568" y="12266"/>
                  </a:lnTo>
                  <a:lnTo>
                    <a:pt x="16575" y="12263"/>
                  </a:lnTo>
                  <a:lnTo>
                    <a:pt x="16589" y="12257"/>
                  </a:lnTo>
                  <a:lnTo>
                    <a:pt x="16603" y="12248"/>
                  </a:lnTo>
                  <a:lnTo>
                    <a:pt x="16612" y="12240"/>
                  </a:lnTo>
                  <a:lnTo>
                    <a:pt x="16620" y="12233"/>
                  </a:lnTo>
                  <a:lnTo>
                    <a:pt x="16628" y="12224"/>
                  </a:lnTo>
                  <a:lnTo>
                    <a:pt x="16636" y="12215"/>
                  </a:lnTo>
                  <a:lnTo>
                    <a:pt x="16642" y="12207"/>
                  </a:lnTo>
                  <a:lnTo>
                    <a:pt x="16649" y="12197"/>
                  </a:lnTo>
                  <a:lnTo>
                    <a:pt x="16654" y="12187"/>
                  </a:lnTo>
                  <a:lnTo>
                    <a:pt x="16660" y="12176"/>
                  </a:lnTo>
                  <a:lnTo>
                    <a:pt x="16678" y="12134"/>
                  </a:lnTo>
                  <a:lnTo>
                    <a:pt x="16711" y="12149"/>
                  </a:lnTo>
                  <a:lnTo>
                    <a:pt x="16483" y="12660"/>
                  </a:lnTo>
                  <a:lnTo>
                    <a:pt x="16450" y="12646"/>
                  </a:lnTo>
                  <a:lnTo>
                    <a:pt x="16470" y="12602"/>
                  </a:lnTo>
                  <a:lnTo>
                    <a:pt x="16478" y="12585"/>
                  </a:lnTo>
                  <a:lnTo>
                    <a:pt x="16482" y="12567"/>
                  </a:lnTo>
                  <a:lnTo>
                    <a:pt x="16485" y="12551"/>
                  </a:lnTo>
                  <a:lnTo>
                    <a:pt x="16487" y="12534"/>
                  </a:lnTo>
                  <a:lnTo>
                    <a:pt x="16486" y="12519"/>
                  </a:lnTo>
                  <a:lnTo>
                    <a:pt x="16484" y="12504"/>
                  </a:lnTo>
                  <a:lnTo>
                    <a:pt x="16481" y="12490"/>
                  </a:lnTo>
                  <a:lnTo>
                    <a:pt x="16474" y="12477"/>
                  </a:lnTo>
                  <a:lnTo>
                    <a:pt x="16468" y="12468"/>
                  </a:lnTo>
                  <a:lnTo>
                    <a:pt x="16459" y="12458"/>
                  </a:lnTo>
                  <a:lnTo>
                    <a:pt x="16448" y="12448"/>
                  </a:lnTo>
                  <a:lnTo>
                    <a:pt x="16434" y="12439"/>
                  </a:lnTo>
                  <a:lnTo>
                    <a:pt x="16417" y="12428"/>
                  </a:lnTo>
                  <a:lnTo>
                    <a:pt x="16397" y="12417"/>
                  </a:lnTo>
                  <a:lnTo>
                    <a:pt x="16374" y="12406"/>
                  </a:lnTo>
                  <a:lnTo>
                    <a:pt x="16349" y="12394"/>
                  </a:lnTo>
                  <a:lnTo>
                    <a:pt x="15578" y="12051"/>
                  </a:lnTo>
                  <a:lnTo>
                    <a:pt x="15537" y="12034"/>
                  </a:lnTo>
                  <a:lnTo>
                    <a:pt x="15502" y="12021"/>
                  </a:lnTo>
                  <a:lnTo>
                    <a:pt x="15487" y="12016"/>
                  </a:lnTo>
                  <a:lnTo>
                    <a:pt x="15475" y="12013"/>
                  </a:lnTo>
                  <a:lnTo>
                    <a:pt x="15463" y="12011"/>
                  </a:lnTo>
                  <a:lnTo>
                    <a:pt x="15454" y="12010"/>
                  </a:lnTo>
                  <a:lnTo>
                    <a:pt x="15447" y="12010"/>
                  </a:lnTo>
                  <a:lnTo>
                    <a:pt x="15441" y="12011"/>
                  </a:lnTo>
                  <a:lnTo>
                    <a:pt x="15434" y="12012"/>
                  </a:lnTo>
                  <a:lnTo>
                    <a:pt x="15427" y="12014"/>
                  </a:lnTo>
                  <a:lnTo>
                    <a:pt x="15420" y="12017"/>
                  </a:lnTo>
                  <a:lnTo>
                    <a:pt x="15414" y="12021"/>
                  </a:lnTo>
                  <a:lnTo>
                    <a:pt x="15406" y="12025"/>
                  </a:lnTo>
                  <a:lnTo>
                    <a:pt x="15400" y="12029"/>
                  </a:lnTo>
                  <a:lnTo>
                    <a:pt x="15391" y="12037"/>
                  </a:lnTo>
                  <a:lnTo>
                    <a:pt x="15382" y="12044"/>
                  </a:lnTo>
                  <a:lnTo>
                    <a:pt x="15373" y="12053"/>
                  </a:lnTo>
                  <a:lnTo>
                    <a:pt x="15366" y="12062"/>
                  </a:lnTo>
                  <a:lnTo>
                    <a:pt x="15359" y="12071"/>
                  </a:lnTo>
                  <a:lnTo>
                    <a:pt x="15353" y="12080"/>
                  </a:lnTo>
                  <a:lnTo>
                    <a:pt x="15347" y="12090"/>
                  </a:lnTo>
                  <a:lnTo>
                    <a:pt x="15343" y="12100"/>
                  </a:lnTo>
                  <a:lnTo>
                    <a:pt x="15323" y="12144"/>
                  </a:lnTo>
                  <a:close/>
                  <a:moveTo>
                    <a:pt x="15709" y="13957"/>
                  </a:moveTo>
                  <a:lnTo>
                    <a:pt x="15317" y="13748"/>
                  </a:lnTo>
                  <a:lnTo>
                    <a:pt x="15333" y="13722"/>
                  </a:lnTo>
                  <a:lnTo>
                    <a:pt x="15358" y="13728"/>
                  </a:lnTo>
                  <a:lnTo>
                    <a:pt x="15382" y="13734"/>
                  </a:lnTo>
                  <a:lnTo>
                    <a:pt x="15406" y="13739"/>
                  </a:lnTo>
                  <a:lnTo>
                    <a:pt x="15429" y="13743"/>
                  </a:lnTo>
                  <a:lnTo>
                    <a:pt x="15452" y="13746"/>
                  </a:lnTo>
                  <a:lnTo>
                    <a:pt x="15474" y="13749"/>
                  </a:lnTo>
                  <a:lnTo>
                    <a:pt x="15495" y="13751"/>
                  </a:lnTo>
                  <a:lnTo>
                    <a:pt x="15517" y="13751"/>
                  </a:lnTo>
                  <a:lnTo>
                    <a:pt x="15537" y="13752"/>
                  </a:lnTo>
                  <a:lnTo>
                    <a:pt x="15557" y="13751"/>
                  </a:lnTo>
                  <a:lnTo>
                    <a:pt x="15577" y="13750"/>
                  </a:lnTo>
                  <a:lnTo>
                    <a:pt x="15596" y="13746"/>
                  </a:lnTo>
                  <a:lnTo>
                    <a:pt x="15614" y="13744"/>
                  </a:lnTo>
                  <a:lnTo>
                    <a:pt x="15633" y="13740"/>
                  </a:lnTo>
                  <a:lnTo>
                    <a:pt x="15650" y="13736"/>
                  </a:lnTo>
                  <a:lnTo>
                    <a:pt x="15666" y="13730"/>
                  </a:lnTo>
                  <a:lnTo>
                    <a:pt x="15683" y="13724"/>
                  </a:lnTo>
                  <a:lnTo>
                    <a:pt x="15699" y="13716"/>
                  </a:lnTo>
                  <a:lnTo>
                    <a:pt x="15714" y="13709"/>
                  </a:lnTo>
                  <a:lnTo>
                    <a:pt x="15730" y="13701"/>
                  </a:lnTo>
                  <a:lnTo>
                    <a:pt x="15745" y="13692"/>
                  </a:lnTo>
                  <a:lnTo>
                    <a:pt x="15759" y="13682"/>
                  </a:lnTo>
                  <a:lnTo>
                    <a:pt x="15773" y="13672"/>
                  </a:lnTo>
                  <a:lnTo>
                    <a:pt x="15787" y="13662"/>
                  </a:lnTo>
                  <a:lnTo>
                    <a:pt x="15800" y="13650"/>
                  </a:lnTo>
                  <a:lnTo>
                    <a:pt x="15813" y="13638"/>
                  </a:lnTo>
                  <a:lnTo>
                    <a:pt x="15825" y="13624"/>
                  </a:lnTo>
                  <a:lnTo>
                    <a:pt x="15837" y="13611"/>
                  </a:lnTo>
                  <a:lnTo>
                    <a:pt x="15849" y="13597"/>
                  </a:lnTo>
                  <a:lnTo>
                    <a:pt x="15860" y="13582"/>
                  </a:lnTo>
                  <a:lnTo>
                    <a:pt x="15871" y="13567"/>
                  </a:lnTo>
                  <a:lnTo>
                    <a:pt x="15882" y="13550"/>
                  </a:lnTo>
                  <a:lnTo>
                    <a:pt x="15898" y="13523"/>
                  </a:lnTo>
                  <a:lnTo>
                    <a:pt x="15911" y="13495"/>
                  </a:lnTo>
                  <a:lnTo>
                    <a:pt x="15923" y="13467"/>
                  </a:lnTo>
                  <a:lnTo>
                    <a:pt x="15933" y="13437"/>
                  </a:lnTo>
                  <a:lnTo>
                    <a:pt x="15941" y="13408"/>
                  </a:lnTo>
                  <a:lnTo>
                    <a:pt x="15946" y="13377"/>
                  </a:lnTo>
                  <a:lnTo>
                    <a:pt x="15949" y="13347"/>
                  </a:lnTo>
                  <a:lnTo>
                    <a:pt x="15951" y="13316"/>
                  </a:lnTo>
                  <a:lnTo>
                    <a:pt x="15949" y="13301"/>
                  </a:lnTo>
                  <a:lnTo>
                    <a:pt x="15948" y="13286"/>
                  </a:lnTo>
                  <a:lnTo>
                    <a:pt x="15947" y="13270"/>
                  </a:lnTo>
                  <a:lnTo>
                    <a:pt x="15944" y="13254"/>
                  </a:lnTo>
                  <a:lnTo>
                    <a:pt x="15941" y="13239"/>
                  </a:lnTo>
                  <a:lnTo>
                    <a:pt x="15938" y="13223"/>
                  </a:lnTo>
                  <a:lnTo>
                    <a:pt x="15933" y="13207"/>
                  </a:lnTo>
                  <a:lnTo>
                    <a:pt x="15928" y="13192"/>
                  </a:lnTo>
                  <a:lnTo>
                    <a:pt x="15921" y="13176"/>
                  </a:lnTo>
                  <a:lnTo>
                    <a:pt x="15915" y="13161"/>
                  </a:lnTo>
                  <a:lnTo>
                    <a:pt x="15907" y="13144"/>
                  </a:lnTo>
                  <a:lnTo>
                    <a:pt x="15899" y="13129"/>
                  </a:lnTo>
                  <a:lnTo>
                    <a:pt x="15890" y="13113"/>
                  </a:lnTo>
                  <a:lnTo>
                    <a:pt x="15881" y="13097"/>
                  </a:lnTo>
                  <a:lnTo>
                    <a:pt x="15870" y="13081"/>
                  </a:lnTo>
                  <a:lnTo>
                    <a:pt x="15859" y="13065"/>
                  </a:lnTo>
                  <a:lnTo>
                    <a:pt x="15847" y="13050"/>
                  </a:lnTo>
                  <a:lnTo>
                    <a:pt x="15835" y="13033"/>
                  </a:lnTo>
                  <a:lnTo>
                    <a:pt x="15822" y="13018"/>
                  </a:lnTo>
                  <a:lnTo>
                    <a:pt x="15808" y="13003"/>
                  </a:lnTo>
                  <a:lnTo>
                    <a:pt x="15794" y="12986"/>
                  </a:lnTo>
                  <a:lnTo>
                    <a:pt x="15779" y="12971"/>
                  </a:lnTo>
                  <a:lnTo>
                    <a:pt x="15762" y="12956"/>
                  </a:lnTo>
                  <a:lnTo>
                    <a:pt x="15746" y="12941"/>
                  </a:lnTo>
                  <a:lnTo>
                    <a:pt x="15710" y="12911"/>
                  </a:lnTo>
                  <a:lnTo>
                    <a:pt x="15672" y="12882"/>
                  </a:lnTo>
                  <a:lnTo>
                    <a:pt x="15630" y="12852"/>
                  </a:lnTo>
                  <a:lnTo>
                    <a:pt x="15587" y="12824"/>
                  </a:lnTo>
                  <a:lnTo>
                    <a:pt x="15549" y="12801"/>
                  </a:lnTo>
                  <a:lnTo>
                    <a:pt x="15512" y="12782"/>
                  </a:lnTo>
                  <a:lnTo>
                    <a:pt x="15476" y="12764"/>
                  </a:lnTo>
                  <a:lnTo>
                    <a:pt x="15439" y="12748"/>
                  </a:lnTo>
                  <a:lnTo>
                    <a:pt x="15403" y="12735"/>
                  </a:lnTo>
                  <a:lnTo>
                    <a:pt x="15367" y="12724"/>
                  </a:lnTo>
                  <a:lnTo>
                    <a:pt x="15331" y="12715"/>
                  </a:lnTo>
                  <a:lnTo>
                    <a:pt x="15296" y="12710"/>
                  </a:lnTo>
                  <a:lnTo>
                    <a:pt x="15279" y="12708"/>
                  </a:lnTo>
                  <a:lnTo>
                    <a:pt x="15261" y="12705"/>
                  </a:lnTo>
                  <a:lnTo>
                    <a:pt x="15244" y="12704"/>
                  </a:lnTo>
                  <a:lnTo>
                    <a:pt x="15227" y="12704"/>
                  </a:lnTo>
                  <a:lnTo>
                    <a:pt x="15210" y="12704"/>
                  </a:lnTo>
                  <a:lnTo>
                    <a:pt x="15194" y="12705"/>
                  </a:lnTo>
                  <a:lnTo>
                    <a:pt x="15177" y="12707"/>
                  </a:lnTo>
                  <a:lnTo>
                    <a:pt x="15161" y="12709"/>
                  </a:lnTo>
                  <a:lnTo>
                    <a:pt x="15145" y="12712"/>
                  </a:lnTo>
                  <a:lnTo>
                    <a:pt x="15129" y="12715"/>
                  </a:lnTo>
                  <a:lnTo>
                    <a:pt x="15113" y="12720"/>
                  </a:lnTo>
                  <a:lnTo>
                    <a:pt x="15098" y="12724"/>
                  </a:lnTo>
                  <a:lnTo>
                    <a:pt x="15082" y="12729"/>
                  </a:lnTo>
                  <a:lnTo>
                    <a:pt x="15066" y="12735"/>
                  </a:lnTo>
                  <a:lnTo>
                    <a:pt x="15051" y="12741"/>
                  </a:lnTo>
                  <a:lnTo>
                    <a:pt x="15037" y="12749"/>
                  </a:lnTo>
                  <a:lnTo>
                    <a:pt x="15022" y="12757"/>
                  </a:lnTo>
                  <a:lnTo>
                    <a:pt x="15008" y="12764"/>
                  </a:lnTo>
                  <a:lnTo>
                    <a:pt x="14993" y="12773"/>
                  </a:lnTo>
                  <a:lnTo>
                    <a:pt x="14979" y="12783"/>
                  </a:lnTo>
                  <a:lnTo>
                    <a:pt x="14966" y="12793"/>
                  </a:lnTo>
                  <a:lnTo>
                    <a:pt x="14953" y="12802"/>
                  </a:lnTo>
                  <a:lnTo>
                    <a:pt x="14940" y="12813"/>
                  </a:lnTo>
                  <a:lnTo>
                    <a:pt x="14928" y="12824"/>
                  </a:lnTo>
                  <a:lnTo>
                    <a:pt x="14916" y="12836"/>
                  </a:lnTo>
                  <a:lnTo>
                    <a:pt x="14904" y="12849"/>
                  </a:lnTo>
                  <a:lnTo>
                    <a:pt x="14892" y="12861"/>
                  </a:lnTo>
                  <a:lnTo>
                    <a:pt x="14881" y="12874"/>
                  </a:lnTo>
                  <a:lnTo>
                    <a:pt x="14870" y="12888"/>
                  </a:lnTo>
                  <a:lnTo>
                    <a:pt x="14859" y="12903"/>
                  </a:lnTo>
                  <a:lnTo>
                    <a:pt x="14850" y="12918"/>
                  </a:lnTo>
                  <a:lnTo>
                    <a:pt x="14840" y="12933"/>
                  </a:lnTo>
                  <a:lnTo>
                    <a:pt x="14823" y="12960"/>
                  </a:lnTo>
                  <a:lnTo>
                    <a:pt x="14810" y="12986"/>
                  </a:lnTo>
                  <a:lnTo>
                    <a:pt x="14798" y="13014"/>
                  </a:lnTo>
                  <a:lnTo>
                    <a:pt x="14788" y="13041"/>
                  </a:lnTo>
                  <a:lnTo>
                    <a:pt x="14780" y="13069"/>
                  </a:lnTo>
                  <a:lnTo>
                    <a:pt x="14773" y="13096"/>
                  </a:lnTo>
                  <a:lnTo>
                    <a:pt x="14769" y="13124"/>
                  </a:lnTo>
                  <a:lnTo>
                    <a:pt x="14767" y="13152"/>
                  </a:lnTo>
                  <a:lnTo>
                    <a:pt x="14767" y="13166"/>
                  </a:lnTo>
                  <a:lnTo>
                    <a:pt x="14767" y="13181"/>
                  </a:lnTo>
                  <a:lnTo>
                    <a:pt x="14768" y="13197"/>
                  </a:lnTo>
                  <a:lnTo>
                    <a:pt x="14769" y="13212"/>
                  </a:lnTo>
                  <a:lnTo>
                    <a:pt x="14774" y="13246"/>
                  </a:lnTo>
                  <a:lnTo>
                    <a:pt x="14782" y="13281"/>
                  </a:lnTo>
                  <a:lnTo>
                    <a:pt x="14792" y="13320"/>
                  </a:lnTo>
                  <a:lnTo>
                    <a:pt x="14805" y="13360"/>
                  </a:lnTo>
                  <a:lnTo>
                    <a:pt x="14819" y="13402"/>
                  </a:lnTo>
                  <a:lnTo>
                    <a:pt x="14838" y="13447"/>
                  </a:lnTo>
                  <a:lnTo>
                    <a:pt x="14805" y="13462"/>
                  </a:lnTo>
                  <a:lnTo>
                    <a:pt x="14793" y="13440"/>
                  </a:lnTo>
                  <a:lnTo>
                    <a:pt x="14782" y="13419"/>
                  </a:lnTo>
                  <a:lnTo>
                    <a:pt x="14772" y="13398"/>
                  </a:lnTo>
                  <a:lnTo>
                    <a:pt x="14764" y="13376"/>
                  </a:lnTo>
                  <a:lnTo>
                    <a:pt x="14755" y="13356"/>
                  </a:lnTo>
                  <a:lnTo>
                    <a:pt x="14747" y="13334"/>
                  </a:lnTo>
                  <a:lnTo>
                    <a:pt x="14740" y="13313"/>
                  </a:lnTo>
                  <a:lnTo>
                    <a:pt x="14733" y="13292"/>
                  </a:lnTo>
                  <a:lnTo>
                    <a:pt x="14728" y="13272"/>
                  </a:lnTo>
                  <a:lnTo>
                    <a:pt x="14723" y="13252"/>
                  </a:lnTo>
                  <a:lnTo>
                    <a:pt x="14719" y="13231"/>
                  </a:lnTo>
                  <a:lnTo>
                    <a:pt x="14716" y="13212"/>
                  </a:lnTo>
                  <a:lnTo>
                    <a:pt x="14713" y="13191"/>
                  </a:lnTo>
                  <a:lnTo>
                    <a:pt x="14711" y="13172"/>
                  </a:lnTo>
                  <a:lnTo>
                    <a:pt x="14710" y="13153"/>
                  </a:lnTo>
                  <a:lnTo>
                    <a:pt x="14710" y="13133"/>
                  </a:lnTo>
                  <a:lnTo>
                    <a:pt x="14710" y="13114"/>
                  </a:lnTo>
                  <a:lnTo>
                    <a:pt x="14711" y="13094"/>
                  </a:lnTo>
                  <a:lnTo>
                    <a:pt x="14713" y="13076"/>
                  </a:lnTo>
                  <a:lnTo>
                    <a:pt x="14717" y="13056"/>
                  </a:lnTo>
                  <a:lnTo>
                    <a:pt x="14720" y="13038"/>
                  </a:lnTo>
                  <a:lnTo>
                    <a:pt x="14724" y="13018"/>
                  </a:lnTo>
                  <a:lnTo>
                    <a:pt x="14729" y="12998"/>
                  </a:lnTo>
                  <a:lnTo>
                    <a:pt x="14734" y="12980"/>
                  </a:lnTo>
                  <a:lnTo>
                    <a:pt x="14741" y="12960"/>
                  </a:lnTo>
                  <a:lnTo>
                    <a:pt x="14748" y="12942"/>
                  </a:lnTo>
                  <a:lnTo>
                    <a:pt x="14756" y="12922"/>
                  </a:lnTo>
                  <a:lnTo>
                    <a:pt x="14765" y="12903"/>
                  </a:lnTo>
                  <a:lnTo>
                    <a:pt x="14773" y="12884"/>
                  </a:lnTo>
                  <a:lnTo>
                    <a:pt x="14784" y="12864"/>
                  </a:lnTo>
                  <a:lnTo>
                    <a:pt x="14795" y="12846"/>
                  </a:lnTo>
                  <a:lnTo>
                    <a:pt x="14806" y="12826"/>
                  </a:lnTo>
                  <a:lnTo>
                    <a:pt x="14828" y="12794"/>
                  </a:lnTo>
                  <a:lnTo>
                    <a:pt x="14851" y="12762"/>
                  </a:lnTo>
                  <a:lnTo>
                    <a:pt x="14875" y="12733"/>
                  </a:lnTo>
                  <a:lnTo>
                    <a:pt x="14900" y="12704"/>
                  </a:lnTo>
                  <a:lnTo>
                    <a:pt x="14926" y="12679"/>
                  </a:lnTo>
                  <a:lnTo>
                    <a:pt x="14953" y="12655"/>
                  </a:lnTo>
                  <a:lnTo>
                    <a:pt x="14981" y="12634"/>
                  </a:lnTo>
                  <a:lnTo>
                    <a:pt x="15010" y="12614"/>
                  </a:lnTo>
                  <a:lnTo>
                    <a:pt x="15040" y="12597"/>
                  </a:lnTo>
                  <a:lnTo>
                    <a:pt x="15071" y="12581"/>
                  </a:lnTo>
                  <a:lnTo>
                    <a:pt x="15102" y="12567"/>
                  </a:lnTo>
                  <a:lnTo>
                    <a:pt x="15135" y="12555"/>
                  </a:lnTo>
                  <a:lnTo>
                    <a:pt x="15169" y="12545"/>
                  </a:lnTo>
                  <a:lnTo>
                    <a:pt x="15204" y="12538"/>
                  </a:lnTo>
                  <a:lnTo>
                    <a:pt x="15239" y="12532"/>
                  </a:lnTo>
                  <a:lnTo>
                    <a:pt x="15276" y="12528"/>
                  </a:lnTo>
                  <a:lnTo>
                    <a:pt x="15305" y="12527"/>
                  </a:lnTo>
                  <a:lnTo>
                    <a:pt x="15332" y="12526"/>
                  </a:lnTo>
                  <a:lnTo>
                    <a:pt x="15359" y="12527"/>
                  </a:lnTo>
                  <a:lnTo>
                    <a:pt x="15386" y="12528"/>
                  </a:lnTo>
                  <a:lnTo>
                    <a:pt x="15414" y="12531"/>
                  </a:lnTo>
                  <a:lnTo>
                    <a:pt x="15441" y="12536"/>
                  </a:lnTo>
                  <a:lnTo>
                    <a:pt x="15468" y="12541"/>
                  </a:lnTo>
                  <a:lnTo>
                    <a:pt x="15494" y="12546"/>
                  </a:lnTo>
                  <a:lnTo>
                    <a:pt x="15522" y="12554"/>
                  </a:lnTo>
                  <a:lnTo>
                    <a:pt x="15548" y="12563"/>
                  </a:lnTo>
                  <a:lnTo>
                    <a:pt x="15575" y="12573"/>
                  </a:lnTo>
                  <a:lnTo>
                    <a:pt x="15601" y="12583"/>
                  </a:lnTo>
                  <a:lnTo>
                    <a:pt x="15627" y="12595"/>
                  </a:lnTo>
                  <a:lnTo>
                    <a:pt x="15653" y="12610"/>
                  </a:lnTo>
                  <a:lnTo>
                    <a:pt x="15678" y="12624"/>
                  </a:lnTo>
                  <a:lnTo>
                    <a:pt x="15704" y="12639"/>
                  </a:lnTo>
                  <a:lnTo>
                    <a:pt x="15725" y="12652"/>
                  </a:lnTo>
                  <a:lnTo>
                    <a:pt x="15745" y="12665"/>
                  </a:lnTo>
                  <a:lnTo>
                    <a:pt x="15764" y="12679"/>
                  </a:lnTo>
                  <a:lnTo>
                    <a:pt x="15783" y="12695"/>
                  </a:lnTo>
                  <a:lnTo>
                    <a:pt x="15801" y="12709"/>
                  </a:lnTo>
                  <a:lnTo>
                    <a:pt x="15819" y="12725"/>
                  </a:lnTo>
                  <a:lnTo>
                    <a:pt x="15835" y="12740"/>
                  </a:lnTo>
                  <a:lnTo>
                    <a:pt x="15851" y="12757"/>
                  </a:lnTo>
                  <a:lnTo>
                    <a:pt x="15868" y="12774"/>
                  </a:lnTo>
                  <a:lnTo>
                    <a:pt x="15883" y="12790"/>
                  </a:lnTo>
                  <a:lnTo>
                    <a:pt x="15898" y="12809"/>
                  </a:lnTo>
                  <a:lnTo>
                    <a:pt x="15912" y="12826"/>
                  </a:lnTo>
                  <a:lnTo>
                    <a:pt x="15926" y="12845"/>
                  </a:lnTo>
                  <a:lnTo>
                    <a:pt x="15939" y="12864"/>
                  </a:lnTo>
                  <a:lnTo>
                    <a:pt x="15951" y="12883"/>
                  </a:lnTo>
                  <a:lnTo>
                    <a:pt x="15963" y="12904"/>
                  </a:lnTo>
                  <a:lnTo>
                    <a:pt x="15973" y="12923"/>
                  </a:lnTo>
                  <a:lnTo>
                    <a:pt x="15984" y="12944"/>
                  </a:lnTo>
                  <a:lnTo>
                    <a:pt x="15994" y="12965"/>
                  </a:lnTo>
                  <a:lnTo>
                    <a:pt x="16003" y="12985"/>
                  </a:lnTo>
                  <a:lnTo>
                    <a:pt x="16010" y="13006"/>
                  </a:lnTo>
                  <a:lnTo>
                    <a:pt x="16018" y="13027"/>
                  </a:lnTo>
                  <a:lnTo>
                    <a:pt x="16025" y="13047"/>
                  </a:lnTo>
                  <a:lnTo>
                    <a:pt x="16031" y="13069"/>
                  </a:lnTo>
                  <a:lnTo>
                    <a:pt x="16036" y="13090"/>
                  </a:lnTo>
                  <a:lnTo>
                    <a:pt x="16040" y="13112"/>
                  </a:lnTo>
                  <a:lnTo>
                    <a:pt x="16043" y="13132"/>
                  </a:lnTo>
                  <a:lnTo>
                    <a:pt x="16046" y="13154"/>
                  </a:lnTo>
                  <a:lnTo>
                    <a:pt x="16049" y="13176"/>
                  </a:lnTo>
                  <a:lnTo>
                    <a:pt x="16050" y="13198"/>
                  </a:lnTo>
                  <a:lnTo>
                    <a:pt x="16051" y="13221"/>
                  </a:lnTo>
                  <a:lnTo>
                    <a:pt x="16050" y="13242"/>
                  </a:lnTo>
                  <a:lnTo>
                    <a:pt x="16049" y="13264"/>
                  </a:lnTo>
                  <a:lnTo>
                    <a:pt x="16048" y="13286"/>
                  </a:lnTo>
                  <a:lnTo>
                    <a:pt x="16045" y="13308"/>
                  </a:lnTo>
                  <a:lnTo>
                    <a:pt x="16042" y="13329"/>
                  </a:lnTo>
                  <a:lnTo>
                    <a:pt x="16038" y="13351"/>
                  </a:lnTo>
                  <a:lnTo>
                    <a:pt x="16033" y="13372"/>
                  </a:lnTo>
                  <a:lnTo>
                    <a:pt x="16028" y="13394"/>
                  </a:lnTo>
                  <a:lnTo>
                    <a:pt x="16022" y="13414"/>
                  </a:lnTo>
                  <a:lnTo>
                    <a:pt x="16015" y="13435"/>
                  </a:lnTo>
                  <a:lnTo>
                    <a:pt x="16008" y="13456"/>
                  </a:lnTo>
                  <a:lnTo>
                    <a:pt x="16000" y="13475"/>
                  </a:lnTo>
                  <a:lnTo>
                    <a:pt x="15991" y="13496"/>
                  </a:lnTo>
                  <a:lnTo>
                    <a:pt x="15981" y="13516"/>
                  </a:lnTo>
                  <a:lnTo>
                    <a:pt x="15971" y="13535"/>
                  </a:lnTo>
                  <a:lnTo>
                    <a:pt x="15960" y="13555"/>
                  </a:lnTo>
                  <a:lnTo>
                    <a:pt x="15948" y="13574"/>
                  </a:lnTo>
                  <a:lnTo>
                    <a:pt x="15929" y="13604"/>
                  </a:lnTo>
                  <a:lnTo>
                    <a:pt x="15907" y="13632"/>
                  </a:lnTo>
                  <a:lnTo>
                    <a:pt x="15884" y="13658"/>
                  </a:lnTo>
                  <a:lnTo>
                    <a:pt x="15859" y="13684"/>
                  </a:lnTo>
                  <a:lnTo>
                    <a:pt x="15833" y="13708"/>
                  </a:lnTo>
                  <a:lnTo>
                    <a:pt x="15804" y="13732"/>
                  </a:lnTo>
                  <a:lnTo>
                    <a:pt x="15774" y="13754"/>
                  </a:lnTo>
                  <a:lnTo>
                    <a:pt x="15741" y="13775"/>
                  </a:lnTo>
                  <a:lnTo>
                    <a:pt x="15724" y="13786"/>
                  </a:lnTo>
                  <a:lnTo>
                    <a:pt x="15710" y="13795"/>
                  </a:lnTo>
                  <a:lnTo>
                    <a:pt x="15700" y="13804"/>
                  </a:lnTo>
                  <a:lnTo>
                    <a:pt x="15694" y="13812"/>
                  </a:lnTo>
                  <a:lnTo>
                    <a:pt x="15690" y="13817"/>
                  </a:lnTo>
                  <a:lnTo>
                    <a:pt x="15687" y="13824"/>
                  </a:lnTo>
                  <a:lnTo>
                    <a:pt x="15686" y="13829"/>
                  </a:lnTo>
                  <a:lnTo>
                    <a:pt x="15685" y="13835"/>
                  </a:lnTo>
                  <a:lnTo>
                    <a:pt x="15684" y="13841"/>
                  </a:lnTo>
                  <a:lnTo>
                    <a:pt x="15684" y="13848"/>
                  </a:lnTo>
                  <a:lnTo>
                    <a:pt x="15684" y="13853"/>
                  </a:lnTo>
                  <a:lnTo>
                    <a:pt x="15685" y="13860"/>
                  </a:lnTo>
                  <a:lnTo>
                    <a:pt x="15687" y="13868"/>
                  </a:lnTo>
                  <a:lnTo>
                    <a:pt x="15690" y="13877"/>
                  </a:lnTo>
                  <a:lnTo>
                    <a:pt x="15695" y="13886"/>
                  </a:lnTo>
                  <a:lnTo>
                    <a:pt x="15700" y="13895"/>
                  </a:lnTo>
                  <a:lnTo>
                    <a:pt x="15706" y="13903"/>
                  </a:lnTo>
                  <a:lnTo>
                    <a:pt x="15712" y="13912"/>
                  </a:lnTo>
                  <a:lnTo>
                    <a:pt x="15719" y="13921"/>
                  </a:lnTo>
                  <a:lnTo>
                    <a:pt x="15727" y="13928"/>
                  </a:lnTo>
                  <a:lnTo>
                    <a:pt x="15709" y="139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487360" y="6331320"/>
              <a:ext cx="73440" cy="84960"/>
            </a:xfrm>
            <a:custGeom>
              <a:avLst/>
              <a:gdLst/>
              <a:ahLst/>
              <a:rect l="l" t="t" r="r" b="b"/>
              <a:pathLst>
                <a:path w="1285" h="1493">
                  <a:moveTo>
                    <a:pt x="900" y="1493"/>
                  </a:moveTo>
                  <a:lnTo>
                    <a:pt x="570" y="1185"/>
                  </a:lnTo>
                  <a:lnTo>
                    <a:pt x="594" y="1159"/>
                  </a:lnTo>
                  <a:lnTo>
                    <a:pt x="621" y="1177"/>
                  </a:lnTo>
                  <a:lnTo>
                    <a:pt x="646" y="1194"/>
                  </a:lnTo>
                  <a:lnTo>
                    <a:pt x="671" y="1208"/>
                  </a:lnTo>
                  <a:lnTo>
                    <a:pt x="696" y="1221"/>
                  </a:lnTo>
                  <a:lnTo>
                    <a:pt x="720" y="1232"/>
                  </a:lnTo>
                  <a:lnTo>
                    <a:pt x="743" y="1241"/>
                  </a:lnTo>
                  <a:lnTo>
                    <a:pt x="766" y="1249"/>
                  </a:lnTo>
                  <a:lnTo>
                    <a:pt x="788" y="1255"/>
                  </a:lnTo>
                  <a:lnTo>
                    <a:pt x="810" y="1259"/>
                  </a:lnTo>
                  <a:lnTo>
                    <a:pt x="831" y="1261"/>
                  </a:lnTo>
                  <a:lnTo>
                    <a:pt x="854" y="1262"/>
                  </a:lnTo>
                  <a:lnTo>
                    <a:pt x="876" y="1262"/>
                  </a:lnTo>
                  <a:lnTo>
                    <a:pt x="898" y="1260"/>
                  </a:lnTo>
                  <a:lnTo>
                    <a:pt x="920" y="1257"/>
                  </a:lnTo>
                  <a:lnTo>
                    <a:pt x="942" y="1251"/>
                  </a:lnTo>
                  <a:lnTo>
                    <a:pt x="964" y="1245"/>
                  </a:lnTo>
                  <a:lnTo>
                    <a:pt x="987" y="1236"/>
                  </a:lnTo>
                  <a:lnTo>
                    <a:pt x="1008" y="1227"/>
                  </a:lnTo>
                  <a:lnTo>
                    <a:pt x="1027" y="1218"/>
                  </a:lnTo>
                  <a:lnTo>
                    <a:pt x="1047" y="1207"/>
                  </a:lnTo>
                  <a:lnTo>
                    <a:pt x="1065" y="1194"/>
                  </a:lnTo>
                  <a:lnTo>
                    <a:pt x="1083" y="1180"/>
                  </a:lnTo>
                  <a:lnTo>
                    <a:pt x="1099" y="1166"/>
                  </a:lnTo>
                  <a:lnTo>
                    <a:pt x="1114" y="1150"/>
                  </a:lnTo>
                  <a:lnTo>
                    <a:pt x="1131" y="1131"/>
                  </a:lnTo>
                  <a:lnTo>
                    <a:pt x="1144" y="1113"/>
                  </a:lnTo>
                  <a:lnTo>
                    <a:pt x="1156" y="1093"/>
                  </a:lnTo>
                  <a:lnTo>
                    <a:pt x="1166" y="1073"/>
                  </a:lnTo>
                  <a:lnTo>
                    <a:pt x="1173" y="1052"/>
                  </a:lnTo>
                  <a:lnTo>
                    <a:pt x="1179" y="1031"/>
                  </a:lnTo>
                  <a:lnTo>
                    <a:pt x="1182" y="1010"/>
                  </a:lnTo>
                  <a:lnTo>
                    <a:pt x="1183" y="988"/>
                  </a:lnTo>
                  <a:lnTo>
                    <a:pt x="1182" y="966"/>
                  </a:lnTo>
                  <a:lnTo>
                    <a:pt x="1179" y="945"/>
                  </a:lnTo>
                  <a:lnTo>
                    <a:pt x="1174" y="926"/>
                  </a:lnTo>
                  <a:lnTo>
                    <a:pt x="1169" y="907"/>
                  </a:lnTo>
                  <a:lnTo>
                    <a:pt x="1160" y="890"/>
                  </a:lnTo>
                  <a:lnTo>
                    <a:pt x="1150" y="873"/>
                  </a:lnTo>
                  <a:lnTo>
                    <a:pt x="1140" y="858"/>
                  </a:lnTo>
                  <a:lnTo>
                    <a:pt x="1125" y="845"/>
                  </a:lnTo>
                  <a:lnTo>
                    <a:pt x="1114" y="835"/>
                  </a:lnTo>
                  <a:lnTo>
                    <a:pt x="1102" y="827"/>
                  </a:lnTo>
                  <a:lnTo>
                    <a:pt x="1091" y="820"/>
                  </a:lnTo>
                  <a:lnTo>
                    <a:pt x="1076" y="814"/>
                  </a:lnTo>
                  <a:lnTo>
                    <a:pt x="1063" y="808"/>
                  </a:lnTo>
                  <a:lnTo>
                    <a:pt x="1049" y="805"/>
                  </a:lnTo>
                  <a:lnTo>
                    <a:pt x="1034" y="803"/>
                  </a:lnTo>
                  <a:lnTo>
                    <a:pt x="1018" y="800"/>
                  </a:lnTo>
                  <a:lnTo>
                    <a:pt x="1006" y="800"/>
                  </a:lnTo>
                  <a:lnTo>
                    <a:pt x="992" y="800"/>
                  </a:lnTo>
                  <a:lnTo>
                    <a:pt x="977" y="802"/>
                  </a:lnTo>
                  <a:lnTo>
                    <a:pt x="962" y="804"/>
                  </a:lnTo>
                  <a:lnTo>
                    <a:pt x="927" y="809"/>
                  </a:lnTo>
                  <a:lnTo>
                    <a:pt x="888" y="817"/>
                  </a:lnTo>
                  <a:lnTo>
                    <a:pt x="843" y="828"/>
                  </a:lnTo>
                  <a:lnTo>
                    <a:pt x="794" y="842"/>
                  </a:lnTo>
                  <a:lnTo>
                    <a:pt x="741" y="858"/>
                  </a:lnTo>
                  <a:lnTo>
                    <a:pt x="683" y="878"/>
                  </a:lnTo>
                  <a:lnTo>
                    <a:pt x="636" y="893"/>
                  </a:lnTo>
                  <a:lnTo>
                    <a:pt x="592" y="907"/>
                  </a:lnTo>
                  <a:lnTo>
                    <a:pt x="551" y="920"/>
                  </a:lnTo>
                  <a:lnTo>
                    <a:pt x="516" y="931"/>
                  </a:lnTo>
                  <a:lnTo>
                    <a:pt x="482" y="940"/>
                  </a:lnTo>
                  <a:lnTo>
                    <a:pt x="452" y="947"/>
                  </a:lnTo>
                  <a:lnTo>
                    <a:pt x="425" y="953"/>
                  </a:lnTo>
                  <a:lnTo>
                    <a:pt x="403" y="957"/>
                  </a:lnTo>
                  <a:lnTo>
                    <a:pt x="382" y="959"/>
                  </a:lnTo>
                  <a:lnTo>
                    <a:pt x="361" y="962"/>
                  </a:lnTo>
                  <a:lnTo>
                    <a:pt x="341" y="962"/>
                  </a:lnTo>
                  <a:lnTo>
                    <a:pt x="321" y="962"/>
                  </a:lnTo>
                  <a:lnTo>
                    <a:pt x="301" y="959"/>
                  </a:lnTo>
                  <a:lnTo>
                    <a:pt x="281" y="957"/>
                  </a:lnTo>
                  <a:lnTo>
                    <a:pt x="262" y="953"/>
                  </a:lnTo>
                  <a:lnTo>
                    <a:pt x="242" y="949"/>
                  </a:lnTo>
                  <a:lnTo>
                    <a:pt x="224" y="942"/>
                  </a:lnTo>
                  <a:lnTo>
                    <a:pt x="205" y="935"/>
                  </a:lnTo>
                  <a:lnTo>
                    <a:pt x="188" y="927"/>
                  </a:lnTo>
                  <a:lnTo>
                    <a:pt x="170" y="918"/>
                  </a:lnTo>
                  <a:lnTo>
                    <a:pt x="154" y="908"/>
                  </a:lnTo>
                  <a:lnTo>
                    <a:pt x="138" y="897"/>
                  </a:lnTo>
                  <a:lnTo>
                    <a:pt x="123" y="885"/>
                  </a:lnTo>
                  <a:lnTo>
                    <a:pt x="108" y="873"/>
                  </a:lnTo>
                  <a:lnTo>
                    <a:pt x="95" y="860"/>
                  </a:lnTo>
                  <a:lnTo>
                    <a:pt x="83" y="847"/>
                  </a:lnTo>
                  <a:lnTo>
                    <a:pt x="71" y="833"/>
                  </a:lnTo>
                  <a:lnTo>
                    <a:pt x="61" y="819"/>
                  </a:lnTo>
                  <a:lnTo>
                    <a:pt x="52" y="805"/>
                  </a:lnTo>
                  <a:lnTo>
                    <a:pt x="42" y="790"/>
                  </a:lnTo>
                  <a:lnTo>
                    <a:pt x="34" y="773"/>
                  </a:lnTo>
                  <a:lnTo>
                    <a:pt x="27" y="758"/>
                  </a:lnTo>
                  <a:lnTo>
                    <a:pt x="21" y="742"/>
                  </a:lnTo>
                  <a:lnTo>
                    <a:pt x="16" y="724"/>
                  </a:lnTo>
                  <a:lnTo>
                    <a:pt x="10" y="708"/>
                  </a:lnTo>
                  <a:lnTo>
                    <a:pt x="7" y="689"/>
                  </a:lnTo>
                  <a:lnTo>
                    <a:pt x="4" y="672"/>
                  </a:lnTo>
                  <a:lnTo>
                    <a:pt x="2" y="653"/>
                  </a:lnTo>
                  <a:lnTo>
                    <a:pt x="0" y="634"/>
                  </a:lnTo>
                  <a:lnTo>
                    <a:pt x="0" y="614"/>
                  </a:lnTo>
                  <a:lnTo>
                    <a:pt x="0" y="595"/>
                  </a:lnTo>
                  <a:lnTo>
                    <a:pt x="2" y="575"/>
                  </a:lnTo>
                  <a:lnTo>
                    <a:pt x="4" y="557"/>
                  </a:lnTo>
                  <a:lnTo>
                    <a:pt x="8" y="537"/>
                  </a:lnTo>
                  <a:lnTo>
                    <a:pt x="12" y="518"/>
                  </a:lnTo>
                  <a:lnTo>
                    <a:pt x="17" y="500"/>
                  </a:lnTo>
                  <a:lnTo>
                    <a:pt x="23" y="481"/>
                  </a:lnTo>
                  <a:lnTo>
                    <a:pt x="31" y="463"/>
                  </a:lnTo>
                  <a:lnTo>
                    <a:pt x="39" y="445"/>
                  </a:lnTo>
                  <a:lnTo>
                    <a:pt x="48" y="428"/>
                  </a:lnTo>
                  <a:lnTo>
                    <a:pt x="58" y="410"/>
                  </a:lnTo>
                  <a:lnTo>
                    <a:pt x="69" y="392"/>
                  </a:lnTo>
                  <a:lnTo>
                    <a:pt x="81" y="376"/>
                  </a:lnTo>
                  <a:lnTo>
                    <a:pt x="94" y="358"/>
                  </a:lnTo>
                  <a:lnTo>
                    <a:pt x="108" y="341"/>
                  </a:lnTo>
                  <a:lnTo>
                    <a:pt x="123" y="325"/>
                  </a:lnTo>
                  <a:lnTo>
                    <a:pt x="143" y="305"/>
                  </a:lnTo>
                  <a:lnTo>
                    <a:pt x="163" y="285"/>
                  </a:lnTo>
                  <a:lnTo>
                    <a:pt x="182" y="268"/>
                  </a:lnTo>
                  <a:lnTo>
                    <a:pt x="203" y="253"/>
                  </a:lnTo>
                  <a:lnTo>
                    <a:pt x="218" y="242"/>
                  </a:lnTo>
                  <a:lnTo>
                    <a:pt x="242" y="227"/>
                  </a:lnTo>
                  <a:lnTo>
                    <a:pt x="274" y="208"/>
                  </a:lnTo>
                  <a:lnTo>
                    <a:pt x="313" y="186"/>
                  </a:lnTo>
                  <a:lnTo>
                    <a:pt x="351" y="163"/>
                  </a:lnTo>
                  <a:lnTo>
                    <a:pt x="382" y="146"/>
                  </a:lnTo>
                  <a:lnTo>
                    <a:pt x="394" y="137"/>
                  </a:lnTo>
                  <a:lnTo>
                    <a:pt x="403" y="131"/>
                  </a:lnTo>
                  <a:lnTo>
                    <a:pt x="411" y="125"/>
                  </a:lnTo>
                  <a:lnTo>
                    <a:pt x="416" y="120"/>
                  </a:lnTo>
                  <a:lnTo>
                    <a:pt x="423" y="111"/>
                  </a:lnTo>
                  <a:lnTo>
                    <a:pt x="428" y="101"/>
                  </a:lnTo>
                  <a:lnTo>
                    <a:pt x="431" y="92"/>
                  </a:lnTo>
                  <a:lnTo>
                    <a:pt x="432" y="82"/>
                  </a:lnTo>
                  <a:lnTo>
                    <a:pt x="431" y="76"/>
                  </a:lnTo>
                  <a:lnTo>
                    <a:pt x="429" y="71"/>
                  </a:lnTo>
                  <a:lnTo>
                    <a:pt x="426" y="64"/>
                  </a:lnTo>
                  <a:lnTo>
                    <a:pt x="423" y="58"/>
                  </a:lnTo>
                  <a:lnTo>
                    <a:pt x="414" y="43"/>
                  </a:lnTo>
                  <a:lnTo>
                    <a:pt x="402" y="26"/>
                  </a:lnTo>
                  <a:lnTo>
                    <a:pt x="426" y="0"/>
                  </a:lnTo>
                  <a:lnTo>
                    <a:pt x="753" y="305"/>
                  </a:lnTo>
                  <a:lnTo>
                    <a:pt x="729" y="331"/>
                  </a:lnTo>
                  <a:lnTo>
                    <a:pt x="700" y="313"/>
                  </a:lnTo>
                  <a:lnTo>
                    <a:pt x="671" y="296"/>
                  </a:lnTo>
                  <a:lnTo>
                    <a:pt x="645" y="282"/>
                  </a:lnTo>
                  <a:lnTo>
                    <a:pt x="619" y="269"/>
                  </a:lnTo>
                  <a:lnTo>
                    <a:pt x="595" y="258"/>
                  </a:lnTo>
                  <a:lnTo>
                    <a:pt x="571" y="249"/>
                  </a:lnTo>
                  <a:lnTo>
                    <a:pt x="549" y="243"/>
                  </a:lnTo>
                  <a:lnTo>
                    <a:pt x="529" y="237"/>
                  </a:lnTo>
                  <a:lnTo>
                    <a:pt x="509" y="234"/>
                  </a:lnTo>
                  <a:lnTo>
                    <a:pt x="488" y="232"/>
                  </a:lnTo>
                  <a:lnTo>
                    <a:pt x="468" y="232"/>
                  </a:lnTo>
                  <a:lnTo>
                    <a:pt x="446" y="233"/>
                  </a:lnTo>
                  <a:lnTo>
                    <a:pt x="424" y="235"/>
                  </a:lnTo>
                  <a:lnTo>
                    <a:pt x="402" y="240"/>
                  </a:lnTo>
                  <a:lnTo>
                    <a:pt x="379" y="246"/>
                  </a:lnTo>
                  <a:lnTo>
                    <a:pt x="357" y="253"/>
                  </a:lnTo>
                  <a:lnTo>
                    <a:pt x="334" y="261"/>
                  </a:lnTo>
                  <a:lnTo>
                    <a:pt x="311" y="272"/>
                  </a:lnTo>
                  <a:lnTo>
                    <a:pt x="289" y="283"/>
                  </a:lnTo>
                  <a:lnTo>
                    <a:pt x="268" y="296"/>
                  </a:lnTo>
                  <a:lnTo>
                    <a:pt x="249" y="310"/>
                  </a:lnTo>
                  <a:lnTo>
                    <a:pt x="229" y="326"/>
                  </a:lnTo>
                  <a:lnTo>
                    <a:pt x="211" y="343"/>
                  </a:lnTo>
                  <a:lnTo>
                    <a:pt x="192" y="362"/>
                  </a:lnTo>
                  <a:lnTo>
                    <a:pt x="172" y="383"/>
                  </a:lnTo>
                  <a:lnTo>
                    <a:pt x="156" y="405"/>
                  </a:lnTo>
                  <a:lnTo>
                    <a:pt x="149" y="417"/>
                  </a:lnTo>
                  <a:lnTo>
                    <a:pt x="142" y="428"/>
                  </a:lnTo>
                  <a:lnTo>
                    <a:pt x="135" y="439"/>
                  </a:lnTo>
                  <a:lnTo>
                    <a:pt x="130" y="451"/>
                  </a:lnTo>
                  <a:lnTo>
                    <a:pt x="126" y="462"/>
                  </a:lnTo>
                  <a:lnTo>
                    <a:pt x="121" y="474"/>
                  </a:lnTo>
                  <a:lnTo>
                    <a:pt x="117" y="485"/>
                  </a:lnTo>
                  <a:lnTo>
                    <a:pt x="115" y="497"/>
                  </a:lnTo>
                  <a:lnTo>
                    <a:pt x="111" y="509"/>
                  </a:lnTo>
                  <a:lnTo>
                    <a:pt x="110" y="520"/>
                  </a:lnTo>
                  <a:lnTo>
                    <a:pt x="109" y="532"/>
                  </a:lnTo>
                  <a:lnTo>
                    <a:pt x="108" y="543"/>
                  </a:lnTo>
                  <a:lnTo>
                    <a:pt x="109" y="566"/>
                  </a:lnTo>
                  <a:lnTo>
                    <a:pt x="113" y="588"/>
                  </a:lnTo>
                  <a:lnTo>
                    <a:pt x="115" y="599"/>
                  </a:lnTo>
                  <a:lnTo>
                    <a:pt x="117" y="609"/>
                  </a:lnTo>
                  <a:lnTo>
                    <a:pt x="120" y="620"/>
                  </a:lnTo>
                  <a:lnTo>
                    <a:pt x="123" y="630"/>
                  </a:lnTo>
                  <a:lnTo>
                    <a:pt x="128" y="638"/>
                  </a:lnTo>
                  <a:lnTo>
                    <a:pt x="132" y="648"/>
                  </a:lnTo>
                  <a:lnTo>
                    <a:pt x="138" y="657"/>
                  </a:lnTo>
                  <a:lnTo>
                    <a:pt x="143" y="665"/>
                  </a:lnTo>
                  <a:lnTo>
                    <a:pt x="150" y="673"/>
                  </a:lnTo>
                  <a:lnTo>
                    <a:pt x="156" y="682"/>
                  </a:lnTo>
                  <a:lnTo>
                    <a:pt x="164" y="689"/>
                  </a:lnTo>
                  <a:lnTo>
                    <a:pt x="171" y="697"/>
                  </a:lnTo>
                  <a:lnTo>
                    <a:pt x="180" y="705"/>
                  </a:lnTo>
                  <a:lnTo>
                    <a:pt x="190" y="712"/>
                  </a:lnTo>
                  <a:lnTo>
                    <a:pt x="200" y="719"/>
                  </a:lnTo>
                  <a:lnTo>
                    <a:pt x="211" y="725"/>
                  </a:lnTo>
                  <a:lnTo>
                    <a:pt x="223" y="731"/>
                  </a:lnTo>
                  <a:lnTo>
                    <a:pt x="235" y="735"/>
                  </a:lnTo>
                  <a:lnTo>
                    <a:pt x="247" y="741"/>
                  </a:lnTo>
                  <a:lnTo>
                    <a:pt x="260" y="744"/>
                  </a:lnTo>
                  <a:lnTo>
                    <a:pt x="274" y="747"/>
                  </a:lnTo>
                  <a:lnTo>
                    <a:pt x="288" y="749"/>
                  </a:lnTo>
                  <a:lnTo>
                    <a:pt x="303" y="750"/>
                  </a:lnTo>
                  <a:lnTo>
                    <a:pt x="318" y="751"/>
                  </a:lnTo>
                  <a:lnTo>
                    <a:pt x="334" y="751"/>
                  </a:lnTo>
                  <a:lnTo>
                    <a:pt x="350" y="750"/>
                  </a:lnTo>
                  <a:lnTo>
                    <a:pt x="366" y="748"/>
                  </a:lnTo>
                  <a:lnTo>
                    <a:pt x="383" y="746"/>
                  </a:lnTo>
                  <a:lnTo>
                    <a:pt x="397" y="744"/>
                  </a:lnTo>
                  <a:lnTo>
                    <a:pt x="415" y="739"/>
                  </a:lnTo>
                  <a:lnTo>
                    <a:pt x="437" y="733"/>
                  </a:lnTo>
                  <a:lnTo>
                    <a:pt x="464" y="725"/>
                  </a:lnTo>
                  <a:lnTo>
                    <a:pt x="495" y="717"/>
                  </a:lnTo>
                  <a:lnTo>
                    <a:pt x="530" y="706"/>
                  </a:lnTo>
                  <a:lnTo>
                    <a:pt x="569" y="694"/>
                  </a:lnTo>
                  <a:lnTo>
                    <a:pt x="612" y="680"/>
                  </a:lnTo>
                  <a:lnTo>
                    <a:pt x="657" y="665"/>
                  </a:lnTo>
                  <a:lnTo>
                    <a:pt x="698" y="653"/>
                  </a:lnTo>
                  <a:lnTo>
                    <a:pt x="737" y="643"/>
                  </a:lnTo>
                  <a:lnTo>
                    <a:pt x="773" y="633"/>
                  </a:lnTo>
                  <a:lnTo>
                    <a:pt x="805" y="624"/>
                  </a:lnTo>
                  <a:lnTo>
                    <a:pt x="835" y="618"/>
                  </a:lnTo>
                  <a:lnTo>
                    <a:pt x="861" y="612"/>
                  </a:lnTo>
                  <a:lnTo>
                    <a:pt x="885" y="608"/>
                  </a:lnTo>
                  <a:lnTo>
                    <a:pt x="906" y="604"/>
                  </a:lnTo>
                  <a:lnTo>
                    <a:pt x="928" y="603"/>
                  </a:lnTo>
                  <a:lnTo>
                    <a:pt x="950" y="602"/>
                  </a:lnTo>
                  <a:lnTo>
                    <a:pt x="971" y="602"/>
                  </a:lnTo>
                  <a:lnTo>
                    <a:pt x="990" y="603"/>
                  </a:lnTo>
                  <a:lnTo>
                    <a:pt x="1010" y="606"/>
                  </a:lnTo>
                  <a:lnTo>
                    <a:pt x="1030" y="609"/>
                  </a:lnTo>
                  <a:lnTo>
                    <a:pt x="1048" y="613"/>
                  </a:lnTo>
                  <a:lnTo>
                    <a:pt x="1067" y="619"/>
                  </a:lnTo>
                  <a:lnTo>
                    <a:pt x="1084" y="625"/>
                  </a:lnTo>
                  <a:lnTo>
                    <a:pt x="1101" y="633"/>
                  </a:lnTo>
                  <a:lnTo>
                    <a:pt x="1119" y="641"/>
                  </a:lnTo>
                  <a:lnTo>
                    <a:pt x="1135" y="651"/>
                  </a:lnTo>
                  <a:lnTo>
                    <a:pt x="1151" y="662"/>
                  </a:lnTo>
                  <a:lnTo>
                    <a:pt x="1167" y="674"/>
                  </a:lnTo>
                  <a:lnTo>
                    <a:pt x="1182" y="687"/>
                  </a:lnTo>
                  <a:lnTo>
                    <a:pt x="1194" y="700"/>
                  </a:lnTo>
                  <a:lnTo>
                    <a:pt x="1206" y="712"/>
                  </a:lnTo>
                  <a:lnTo>
                    <a:pt x="1217" y="725"/>
                  </a:lnTo>
                  <a:lnTo>
                    <a:pt x="1227" y="738"/>
                  </a:lnTo>
                  <a:lnTo>
                    <a:pt x="1235" y="753"/>
                  </a:lnTo>
                  <a:lnTo>
                    <a:pt x="1244" y="767"/>
                  </a:lnTo>
                  <a:lnTo>
                    <a:pt x="1252" y="781"/>
                  </a:lnTo>
                  <a:lnTo>
                    <a:pt x="1258" y="796"/>
                  </a:lnTo>
                  <a:lnTo>
                    <a:pt x="1265" y="811"/>
                  </a:lnTo>
                  <a:lnTo>
                    <a:pt x="1270" y="828"/>
                  </a:lnTo>
                  <a:lnTo>
                    <a:pt x="1275" y="844"/>
                  </a:lnTo>
                  <a:lnTo>
                    <a:pt x="1278" y="860"/>
                  </a:lnTo>
                  <a:lnTo>
                    <a:pt x="1281" y="878"/>
                  </a:lnTo>
                  <a:lnTo>
                    <a:pt x="1283" y="895"/>
                  </a:lnTo>
                  <a:lnTo>
                    <a:pt x="1284" y="913"/>
                  </a:lnTo>
                  <a:lnTo>
                    <a:pt x="1285" y="931"/>
                  </a:lnTo>
                  <a:lnTo>
                    <a:pt x="1284" y="950"/>
                  </a:lnTo>
                  <a:lnTo>
                    <a:pt x="1283" y="968"/>
                  </a:lnTo>
                  <a:lnTo>
                    <a:pt x="1281" y="986"/>
                  </a:lnTo>
                  <a:lnTo>
                    <a:pt x="1278" y="1004"/>
                  </a:lnTo>
                  <a:lnTo>
                    <a:pt x="1275" y="1022"/>
                  </a:lnTo>
                  <a:lnTo>
                    <a:pt x="1269" y="1039"/>
                  </a:lnTo>
                  <a:lnTo>
                    <a:pt x="1264" y="1056"/>
                  </a:lnTo>
                  <a:lnTo>
                    <a:pt x="1257" y="1073"/>
                  </a:lnTo>
                  <a:lnTo>
                    <a:pt x="1249" y="1090"/>
                  </a:lnTo>
                  <a:lnTo>
                    <a:pt x="1241" y="1106"/>
                  </a:lnTo>
                  <a:lnTo>
                    <a:pt x="1232" y="1123"/>
                  </a:lnTo>
                  <a:lnTo>
                    <a:pt x="1221" y="1139"/>
                  </a:lnTo>
                  <a:lnTo>
                    <a:pt x="1210" y="1154"/>
                  </a:lnTo>
                  <a:lnTo>
                    <a:pt x="1198" y="1171"/>
                  </a:lnTo>
                  <a:lnTo>
                    <a:pt x="1185" y="1186"/>
                  </a:lnTo>
                  <a:lnTo>
                    <a:pt x="1172" y="1201"/>
                  </a:lnTo>
                  <a:lnTo>
                    <a:pt x="1154" y="1220"/>
                  </a:lnTo>
                  <a:lnTo>
                    <a:pt x="1134" y="1238"/>
                  </a:lnTo>
                  <a:lnTo>
                    <a:pt x="1112" y="1255"/>
                  </a:lnTo>
                  <a:lnTo>
                    <a:pt x="1089" y="1271"/>
                  </a:lnTo>
                  <a:lnTo>
                    <a:pt x="1065" y="1286"/>
                  </a:lnTo>
                  <a:lnTo>
                    <a:pt x="1040" y="1301"/>
                  </a:lnTo>
                  <a:lnTo>
                    <a:pt x="1013" y="1314"/>
                  </a:lnTo>
                  <a:lnTo>
                    <a:pt x="985" y="1328"/>
                  </a:lnTo>
                  <a:lnTo>
                    <a:pt x="960" y="1338"/>
                  </a:lnTo>
                  <a:lnTo>
                    <a:pt x="940" y="1349"/>
                  </a:lnTo>
                  <a:lnTo>
                    <a:pt x="925" y="1358"/>
                  </a:lnTo>
                  <a:lnTo>
                    <a:pt x="915" y="1367"/>
                  </a:lnTo>
                  <a:lnTo>
                    <a:pt x="908" y="1377"/>
                  </a:lnTo>
                  <a:lnTo>
                    <a:pt x="902" y="1386"/>
                  </a:lnTo>
                  <a:lnTo>
                    <a:pt x="900" y="1391"/>
                  </a:lnTo>
                  <a:lnTo>
                    <a:pt x="899" y="1396"/>
                  </a:lnTo>
                  <a:lnTo>
                    <a:pt x="898" y="1402"/>
                  </a:lnTo>
                  <a:lnTo>
                    <a:pt x="898" y="1407"/>
                  </a:lnTo>
                  <a:lnTo>
                    <a:pt x="899" y="1412"/>
                  </a:lnTo>
                  <a:lnTo>
                    <a:pt x="900" y="1419"/>
                  </a:lnTo>
                  <a:lnTo>
                    <a:pt x="902" y="1426"/>
                  </a:lnTo>
                  <a:lnTo>
                    <a:pt x="904" y="1433"/>
                  </a:lnTo>
                  <a:lnTo>
                    <a:pt x="913" y="1448"/>
                  </a:lnTo>
                  <a:lnTo>
                    <a:pt x="925" y="1467"/>
                  </a:lnTo>
                  <a:lnTo>
                    <a:pt x="900" y="14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36BB-E346-46E3-94DD-DB7AC8951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0" y="28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608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U. S.  Bureau of Labor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066680"/>
            <a:ext cx="8686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088480" y="228600"/>
            <a:ext cx="597960" cy="685800"/>
            <a:chOff x="8088480" y="228600"/>
            <a:chExt cx="597960" cy="685800"/>
          </a:xfrm>
        </p:grpSpPr>
        <p:sp>
          <p:nvSpPr>
            <p:cNvPr id="94" name=""/>
            <p:cNvSpPr/>
            <p:nvPr/>
          </p:nvSpPr>
          <p:spPr>
            <a:xfrm>
              <a:off x="8088480" y="228600"/>
              <a:ext cx="580320" cy="310320"/>
            </a:xfrm>
            <a:custGeom>
              <a:avLst/>
              <a:gdLst/>
              <a:ahLst/>
              <a:rect l="l" t="t" r="r" b="b"/>
              <a:pathLst>
                <a:path w="895" h="477">
                  <a:moveTo>
                    <a:pt x="114" y="477"/>
                  </a:moveTo>
                  <a:lnTo>
                    <a:pt x="0" y="395"/>
                  </a:lnTo>
                  <a:lnTo>
                    <a:pt x="399" y="395"/>
                  </a:lnTo>
                  <a:lnTo>
                    <a:pt x="527" y="0"/>
                  </a:lnTo>
                  <a:lnTo>
                    <a:pt x="610" y="252"/>
                  </a:lnTo>
                  <a:lnTo>
                    <a:pt x="723" y="158"/>
                  </a:lnTo>
                  <a:lnTo>
                    <a:pt x="778" y="222"/>
                  </a:lnTo>
                  <a:lnTo>
                    <a:pt x="829" y="179"/>
                  </a:lnTo>
                  <a:lnTo>
                    <a:pt x="813" y="162"/>
                  </a:lnTo>
                  <a:lnTo>
                    <a:pt x="895" y="162"/>
                  </a:lnTo>
                  <a:lnTo>
                    <a:pt x="888" y="243"/>
                  </a:lnTo>
                  <a:lnTo>
                    <a:pt x="872" y="226"/>
                  </a:lnTo>
                  <a:lnTo>
                    <a:pt x="766" y="315"/>
                  </a:lnTo>
                  <a:lnTo>
                    <a:pt x="714" y="258"/>
                  </a:lnTo>
                  <a:lnTo>
                    <a:pt x="560" y="387"/>
                  </a:lnTo>
                  <a:lnTo>
                    <a:pt x="527" y="277"/>
                  </a:lnTo>
                  <a:lnTo>
                    <a:pt x="465" y="477"/>
                  </a:lnTo>
                  <a:lnTo>
                    <a:pt x="114" y="477"/>
                  </a:lnTo>
                  <a:close/>
                </a:path>
              </a:pathLst>
            </a:custGeom>
            <a:solidFill>
              <a:srgbClr val="28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68040" y="547200"/>
              <a:ext cx="518400" cy="367200"/>
            </a:xfrm>
            <a:custGeom>
              <a:avLst/>
              <a:gdLst/>
              <a:ahLst/>
              <a:rect l="l" t="t" r="r" b="b"/>
              <a:pathLst>
                <a:path w="800" h="564">
                  <a:moveTo>
                    <a:pt x="132" y="382"/>
                  </a:moveTo>
                  <a:lnTo>
                    <a:pt x="315" y="382"/>
                  </a:lnTo>
                  <a:lnTo>
                    <a:pt x="203" y="464"/>
                  </a:lnTo>
                  <a:lnTo>
                    <a:pt x="105" y="464"/>
                  </a:lnTo>
                  <a:lnTo>
                    <a:pt x="132" y="382"/>
                  </a:lnTo>
                  <a:close/>
                  <a:moveTo>
                    <a:pt x="0" y="0"/>
                  </a:moveTo>
                  <a:lnTo>
                    <a:pt x="800" y="0"/>
                  </a:lnTo>
                  <a:lnTo>
                    <a:pt x="688" y="83"/>
                  </a:lnTo>
                  <a:lnTo>
                    <a:pt x="114" y="83"/>
                  </a:lnTo>
                  <a:lnTo>
                    <a:pt x="0" y="0"/>
                  </a:lnTo>
                  <a:close/>
                  <a:moveTo>
                    <a:pt x="123" y="96"/>
                  </a:moveTo>
                  <a:lnTo>
                    <a:pt x="680" y="96"/>
                  </a:lnTo>
                  <a:lnTo>
                    <a:pt x="605" y="150"/>
                  </a:lnTo>
                  <a:lnTo>
                    <a:pt x="614" y="178"/>
                  </a:lnTo>
                  <a:lnTo>
                    <a:pt x="191" y="178"/>
                  </a:lnTo>
                  <a:lnTo>
                    <a:pt x="200" y="152"/>
                  </a:lnTo>
                  <a:lnTo>
                    <a:pt x="123" y="96"/>
                  </a:lnTo>
                  <a:close/>
                  <a:moveTo>
                    <a:pt x="189" y="191"/>
                  </a:moveTo>
                  <a:lnTo>
                    <a:pt x="616" y="191"/>
                  </a:lnTo>
                  <a:lnTo>
                    <a:pt x="642" y="273"/>
                  </a:lnTo>
                  <a:lnTo>
                    <a:pt x="163" y="273"/>
                  </a:lnTo>
                  <a:lnTo>
                    <a:pt x="189" y="191"/>
                  </a:lnTo>
                  <a:close/>
                  <a:moveTo>
                    <a:pt x="161" y="286"/>
                  </a:moveTo>
                  <a:lnTo>
                    <a:pt x="644" y="286"/>
                  </a:lnTo>
                  <a:lnTo>
                    <a:pt x="671" y="369"/>
                  </a:lnTo>
                  <a:lnTo>
                    <a:pt x="482" y="369"/>
                  </a:lnTo>
                  <a:lnTo>
                    <a:pt x="403" y="311"/>
                  </a:lnTo>
                  <a:lnTo>
                    <a:pt x="324" y="369"/>
                  </a:lnTo>
                  <a:lnTo>
                    <a:pt x="134" y="369"/>
                  </a:lnTo>
                  <a:lnTo>
                    <a:pt x="161" y="286"/>
                  </a:lnTo>
                  <a:close/>
                  <a:moveTo>
                    <a:pt x="491" y="382"/>
                  </a:moveTo>
                  <a:lnTo>
                    <a:pt x="606" y="464"/>
                  </a:lnTo>
                  <a:lnTo>
                    <a:pt x="699" y="464"/>
                  </a:lnTo>
                  <a:lnTo>
                    <a:pt x="673" y="382"/>
                  </a:lnTo>
                  <a:lnTo>
                    <a:pt x="491" y="382"/>
                  </a:lnTo>
                  <a:close/>
                  <a:moveTo>
                    <a:pt x="614" y="477"/>
                  </a:moveTo>
                  <a:lnTo>
                    <a:pt x="701" y="477"/>
                  </a:lnTo>
                  <a:lnTo>
                    <a:pt x="728" y="559"/>
                  </a:lnTo>
                  <a:lnTo>
                    <a:pt x="614" y="477"/>
                  </a:lnTo>
                  <a:close/>
                  <a:moveTo>
                    <a:pt x="103" y="477"/>
                  </a:moveTo>
                  <a:lnTo>
                    <a:pt x="195" y="477"/>
                  </a:lnTo>
                  <a:lnTo>
                    <a:pt x="75" y="564"/>
                  </a:lnTo>
                  <a:lnTo>
                    <a:pt x="103" y="477"/>
                  </a:lnTo>
                  <a:close/>
                </a:path>
              </a:pathLst>
            </a:custGeom>
            <a:solidFill>
              <a:srgbClr val="d12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ages and Compensation, Training, and Promotion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in the National Longitudinal Surveys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ia Gla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Summer Workshop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NLSY97 Wages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llect base salary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xcluding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non-wage compensation (e.g., overtime pay, tips, commissions, and bonuse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aily or per item report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 number of days work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 item or per job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 length of time to complete one ite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ook Antiqua"/>
              </a:rPr>
              <a:t>NLSY97 Non-Wage Compensation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ich of the forms of compensation on this list did you receive?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vertime Pa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ip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miss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onus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centive Pa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ther (specify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 selects all that appl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ook Antiqua"/>
              </a:rPr>
              <a:t>NLSY97 Overtime Pay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ltiple overtime rates allowe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 each rate collec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ours/week usually work overti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mount overtime or rate earn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ouble time &amp; time and a half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ime un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 number of days of daily or per item ra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 length of time to complete an item if per item ra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ook Antiqua"/>
              </a:rPr>
              <a:t>NLSY97 Non-Overtime,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Book Antiqua"/>
              </a:rPr>
              <a:t> Non-Salary Compensation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oop through each type separatel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 each type collect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mount usually earn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ime un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 number of days of daily or per item ra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 length of time to complete an item if per item ra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NLSY - Wages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ny, many variables collected in the loop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good place to start is the created variabl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se work history data to link wages for a given job across yea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ook Antiqua"/>
              </a:rPr>
              <a:t>Wage Created</a:t>
            </a:r>
            <a:r>
              <a:rPr b="1" lang="en-US" sz="4800" spc="-1" strike="noStrike">
                <a:solidFill>
                  <a:srgbClr val="a50021"/>
                </a:solidFill>
                <a:latin typeface="Book Antiqua"/>
              </a:rPr>
              <a:t> Variables</a:t>
            </a:r>
            <a:endParaRPr b="0" lang="en-US" sz="4800" spc="-1" strike="noStrike">
              <a:solidFill>
                <a:srgbClr val="990000"/>
              </a:solidFill>
              <a:latin typeface="Book Antiqu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893960"/>
                <a:gridCol w="2547720"/>
                <a:gridCol w="378792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ourly W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ourly Compen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LSY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R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LSY9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CV_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RLY_P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RLY_COMPEN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Fringe Benefits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Book Antiqua"/>
              </a:rPr>
              <a:t>NLSY Special Topics: 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Book Antiqua"/>
              </a:rPr>
              <a:t>Fringe Benefits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LSY79: Collected every year except 198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79-1992 – main or current job if worked 20 hours or more per week, not self employed or in the milita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93-2006 - any job at which respondent works more than 10 hours per week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79-1993 asked only about CPS job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94-2006 asked about all job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LSY97 all round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mployee jobs lasting at least 13 weeks that end after respondent’s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birthday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Book Antiqua"/>
              </a:rPr>
              <a:t>Fringe Benefits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LSY97 &amp; after 1991 NLSY79: number of sick and vacation day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LSY97 &amp; NLSY79: Benefits possible for R to receive as part of job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edical, surgical, or hospitalization insurance which covers injuries or major illnesses off the job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ife insurance that covers your death for reasons not connected to your job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ental benefit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aid or unpaid  maternity or paternity leave which allows you to return to the same job, or one similar to i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retirement plan other than Social Secu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flexible work schedul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uition reimbursement for certain types of schooling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mpany provided or subsidized child car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mployee stock ownership plans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NLSY79 Special Topics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mo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84/r6, ’88/r10-’90/r12 &amp; ’96/r15-’02/r2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ate of promotion, demotion, job chang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son for promotion, demotion, job chang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y not possible to get promo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pervisory Activity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96/r15-’98/r16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umber of people supervis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sponsibility for decide pay, promotions, or task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Topics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ages and Compens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ringe Benefi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mo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Training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NLSY79 Training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fore 1986, government training and other training were ask in separate sec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nce 1988, all training has been asked in the same se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Book Antiqua"/>
              </a:rPr>
              <a:t>Government Training in the NLSY79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Questions asked 1979-1986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formation collected in the “on jobs”  and employer supplement sections for government jobs and in the “government training” section for other government training program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ata found in the “government jobs”, “government training” and “job information” areas of intere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Book Antiqua"/>
              </a:rPr>
              <a:t>Government Training in the NLSY79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r each government job, information gathered 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me of the government operated progra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ether the program was part of a CETA/JTPA or WIN progra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son the respondent entered the progra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inds of services offered by the progra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ether subsidized or unsubsidized employmen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upportive services such as childcare provid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spondents attitudes toward the program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tart date, stop date, industry, rate of pay, and occupation located in job inform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Book Antiqua"/>
              </a:rPr>
              <a:t>Example: 1982 SPONSOR OF GOVT  JOB #1 </a:t>
            </a:r>
            <a:br>
              <a:rPr sz="3200"/>
            </a:br>
            <a:endParaRPr b="0" lang="en-US" sz="32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12       1 CETA (NON-SPECIFIC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0       2 CETA ON-THE-JOB TRAINING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1       3 CETA SUMMER PROGRA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4       4 OTHER CET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6       5 IN-SCHOOL WORK EXPERIENCE PROGRA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4       6 JOB OPPORTUNITIES IN THE BUSINESS SECTOR (JOBS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       7 MDTA ON-THE-JOB TRAINING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       8 NEIGHBORHOOD YOUTH CORPS (NYC) (NON-SPECIFIC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  9 NEIGHBORHOOD YOUTH CORPS IN-SCHOOL PROGRA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0      10 NEIGHBORHOOD YOUTH CORPS OUT-OF-SCHOOL PROGRA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0      11 NEIGHBORHOOD YOUTH CORPS SUMMER PROGRA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      12 PUBLIC EMPLOYMENT PROGRAM (PEP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0      13 PUBLIC SERVICE EMPLOYEMNT (PSE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      14 SUMMER PGM FOR ECONOMICALLY DISAD YOUTH (SPEDY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3      15 SUMMER YOUTH WORK EXPERIENCE PROGRA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 16 URBAN CONSERVATION CORP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6      17 WORK INCENTIVE PROGRAM (WIN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 18 YOUNG ADULT CONSERVATION CORP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 19 YOUTH COMMUNITY CONSERVATN &amp; IMPROVEMT PROGRAM (YCCIP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 20 YOUTH CONSERVATION CORPS (YCC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7      21 YOUTH EMPLOYMENT AND TRAINING PROGRAM (YETP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5      22 YOUTH INCENTIVE ENTITLEMENT PILOT PROJECTS (YIEPP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68      23 OTH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-------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8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Y DID YOU DECIDE TO ENTER THIS PROGRAM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14       1 TO MAKE MONE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6       2 BETTER JOB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74       3 TO GET A JOB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53       4 JOB TRAIN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9       5 SOMETHING TO DO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4       6 SOUNDED INTEREST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34       7 OTH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94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Example: Why entered job 1, 1982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Book Antiqua"/>
              </a:rPr>
              <a:t>SERVICES PROVIDED: 1982 Govt Job 1</a:t>
            </a:r>
            <a:br>
              <a:rPr sz="2400"/>
            </a:br>
            <a:endParaRPr b="0" lang="en-US" sz="2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JOB COUNSELING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47       1 YE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48       0 NO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ASSROOM TRAINING TO PREPARE FOR A GED?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42       1 YE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52       0 NO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N-THE-JOB TRAINING?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91       1 YE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04       0 NO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THER CLASSROOM TRAINING IN READING, WRITING, OR ARITHMETIC?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5       1 YE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40       0 NO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THER SKILLS NEEDED FOR CERTAIN TYPES OF JOBS?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64       1 YE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30       0 NO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Book Antiqua"/>
              </a:rPr>
              <a:t>Government Training in the NLSY79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pondents not enrolled in school are asked for information on other government training programs in which they are enroll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ormation provided on up to 5 programs before 1978 and on up to 2 programs at each interview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me of progra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tart data, stop data, and gaps in attendan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tent of program (ESL, GED prep, etc.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rvices provided (child care, lodging, transportation, etc.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Questions on the respondents opinion of the program (i.e., was it successful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Book Antiqua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990000"/>
                </a:solidFill>
                <a:latin typeface="Book Antiqua"/>
              </a:rPr>
              <a:t>First Government Training Program 1982</a:t>
            </a:r>
            <a:endParaRPr b="0" lang="en-US" sz="32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AT IS THE NAME OF THE GOVT PROGRAM THAT SPONSORS THIS TRAINING?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5       1 APPRENTICESHIP PROGRAM (RTP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76       2 CETA TRAINING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6       3 JOB CORP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       4 MDTA TRAINING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6       5 OPPORTUNITIES INDUSTRIALIZATION CENTERS (OIC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       6 SER - JOBS FOR PROGRES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4       7 URBAN LEAGU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3       8 VOCATIONAL REHABILITA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7       9 OTHE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-------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59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Training in the NLSY79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e Data Collected Every Yea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firm and update information on two (or more) training programs ongoing at the date of last interview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 information on three (or more) training programs since the date of last interview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 each program, collec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tart date, Stop dat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ther complete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Hours per week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79-1986 data collected only about training programs the individual had been enrolled in more than one month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Book Antiqua"/>
              </a:rPr>
              <a:t>Wages and Compensation : NLSY79</a:t>
            </a:r>
            <a:endParaRPr b="0" lang="en-US" sz="32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ate of Pay Job #1-5 1979-200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ime Unit of Rate of Pay Job #1-5 1979-200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ourly Rate of Pay Job #1-5 1979-200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ourly Rate of Pay Current/Most Recent Job 1979-1993 (CPS job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Book Antiqua"/>
              </a:rPr>
              <a:t>Example: Ongoing program 1, 1982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YPE OF SCHOOL OF 1ST VOCATIONAL/TECHNICAL PGM ENROLLED IN AT LAST I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: CODE BELOW EACH TYPE OF TRAINING AGENCY FROM INFORMATION SHEET,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TEM 11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6       1 BUSINESS COLLEG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0       2 NURSES PROGRAM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9       3 APPRENTICESHIP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10       4 VO-TECH INSTITUT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3       5 BARBER-BEAUTY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6       6 FLIGHT SCHOO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2       7 CORRESPONDENC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43       8 COMPANY TRAINING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0       9 OTH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-------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439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Example: New program 1, 1994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YPE OF SCHOOL OF 1ST VOCATIONAL/TECHNICAL PGM SINCE LAST I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CODE ONE ONLY.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0       1 Business schoo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9       3 Apprenticeship program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20       4 A vocational or technical institut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8       7 A correspondence cours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01       8 Formal company training run by employ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94       9 Seminar or training prgm at work run by someone other than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54      10 Seminars or training programs outside of work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2      11 Vocational rehabilitation cent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18      12 Other (SPECIFY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0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3 Government training program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-------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266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Training in the NLSY79: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Year to Year variation</a:t>
            </a:r>
            <a:endParaRPr b="0" lang="en-US" sz="36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79-1986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raining section focused on training other than programs in the jobs, government training, military, and regular school sections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ata collected only about training programs the individual had been enrolled in for more than one month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formation gathered on the occupation the respondent was training for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79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etrospective information on up to 5 training programs before 1978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formation on summer 1978 activity, including training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79-198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raining section only given to respondents who were at least 16 at the date of interview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81: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upplemental time use gathered information from respondents who had been enrolled in a training program during the past 7 days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Training in the NLSY79: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Year to Year variation</a:t>
            </a:r>
            <a:endParaRPr b="0" lang="en-US" sz="36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82-1984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xpanded training section including information 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hether the responded had enrolled in training to qualify for a specific job at a specific firm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hether an employer encouraged or required training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hether the training took place during work hours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urce of money to pay for the training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he relationship of respondent to persons who encouraged enrollment in training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rimary reason enrolled in training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breviated telephone interview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nly training question – whether any training or assistance had been received from government program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Training in the NLSY79: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Year to Year variation</a:t>
            </a:r>
            <a:endParaRPr b="0" lang="en-US" sz="36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88-1992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ropped 1 month duration limitation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Gov. programs included in training section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id not ask what job or occupation training for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ropped some of the training provider types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ata collected and released for up to 4 training programs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ew questions on each training program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ho paid for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Use training on current job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ype of training (i.e. classroom, business school, on-the-job)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88 reference period was the last 2 year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89-1992 reference period since date of last interview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90 – new ques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as the training necessary for or did it lead to a promotion?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91 – new ques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imary reason enrolled in training (had been dropped after 1984)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Training in the NLSY79: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Year to Year variation</a:t>
            </a:r>
            <a:endParaRPr b="0" lang="en-US" sz="36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993-expanded formal train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ata collected and released for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up to 6 training programs participated in since date of last interview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up to 4 training programs participated as of  date of last interview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spondents enrolled in training program sponsored by an employer asked if they had to be employed for a period of time before training was made availabl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spondents enrolled in any training program asked abou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kill transferabil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3" marL="150408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Useful for different job, same employ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3" marL="150408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Useful at different employ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High school relevanc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3" marL="150408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hether training added to skills learned in high school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3" marL="150408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ow much of what was taught could have been learned in high school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Training in the NLSY79: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Book Antiqua"/>
              </a:rPr>
              <a:t>Year to Year variation</a:t>
            </a:r>
            <a:endParaRPr b="0" lang="en-US" sz="36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993-expanded training se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spondents with a CPS employer who had implemented workplace changes in the past 12 months that necessitated the learning of new job skills asked for information 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ypes of chang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at method of training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r each training mod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eek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our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ow useful they felt the training would be for different job/same employer or same type job/different employ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spondents with a CPS employer who report that they could not do 100% of their job duties when first hired asked the same question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Training in NLSY79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tarting in 1996 – some questions on informal training focusing on activities in the last 4 week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lf study (all years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-workers (dropped after 2002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pervisor (dropped after 2002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formation on number of weeks, number of hours per week for each form of train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formation gathered for each job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Training in the NLSY97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llected each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vers formal training programs other than school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ked of respondents 16 years or older as of the interview dat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llects information on each training program with which a respondent is involv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Training in the NLSY97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 each training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oster allows linking of training program across yea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art date, Stop 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iods of non-attendance of 1 week or more (for programs lasting at least 2 weeks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ether the program was completed and if not, wh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Book Antiqua"/>
              </a:rPr>
              <a:t>Wages and Compensation : NLSY79</a:t>
            </a:r>
            <a:endParaRPr b="0" lang="en-US" sz="32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LSY79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 hou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 da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 wee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i-weekly (every 2 weeks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i-monthly (twice a month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 mont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 yea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ther (specify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2002, training program 1) What type of school or training program [is/was] it?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4       1 Business or secretaria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02       2 Vocational, technical, or trad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2       3 Apprenticeship program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5       4 Nursing school (LPN or RN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7       5 Vocational rehabilitation cent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6       6 Adult Basic Education   (pre-GED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80       7 GED program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0       8 Correspondence cours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62       9 Formal company training run by employ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4      10 Seminar or training program at work run by someone other than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42      11 Seminar or training program outside  of work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4      12 Community or junior colleg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54      13 Government Training   (Go To S08856.00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7      14 Other (SPECIFY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0      15 School based / Includes ROTC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0      16 Job search skill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0     995 SUPERVISOR REVIEW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0     999 UNCODABLE  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Training in the NLSY97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nancing of Train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id for by a government progra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owance or additional money for participat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ether they or their families paid fe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nancial aid or loans and the amoun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ether an employer paid for the training. If so they are ask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as the training required?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at was the main reason for the training? (promotion, certificate, look for new job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Training in the NLSY97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ent of Train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y skill test on enrollment (reading, writing, math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ypes of assessments (exams, skill demonstrations, etc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at classes were taken (reading, ged prep, etc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at job skills were taugh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Book Antiqua"/>
              </a:rPr>
              <a:t>Example: type of certificate training 1, 2000</a:t>
            </a:r>
            <a:endParaRPr b="0" lang="en-US" sz="28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 81 3rd Class Engine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86 Accounting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     227 Administration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180 Air Conditioning-Refrigeration Apprentic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228 Air Traffic Controller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 70 Association of Sales &amp; Marketing Management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      22 Auto Body Repai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6      44 Automo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 55 Bank Teller   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169 Bartend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1     249 Basic Training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131 Blueprint Reading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6      33 Business Skill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 46 Cardio-pulmonary Resuscita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133 Chef - Commercial Foods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138 Child Caree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136 Child Development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4     184 Computer Operation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6      26 Cosmetology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250 Certificate of Training in Communication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103 Computer Programming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167 Construc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4     129 Construction Worker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3     135 Cooking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     259 Crew Chief Certific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NLSY79 Wages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o you usually receive overtime pay, tips or commissions at this job with [employer]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es &amp; time unit is hourl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xcludin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overtime pay, tips and commissions, what is your hourly rate of pay, on this job?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n this job with [employer], how much do you usually receive just in overtime pay, tips or commissions, before taxes or other deductions?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es &amp; time unit is not hourl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cludin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overtime pay, tips and commissions, what are your usual [time unit] earnings on this job with [employer], before taxes or other deductions?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plication for created hourly wag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cludes non-salary compensation for workers who report non-hourly salari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 Antiqua"/>
              </a:rPr>
              <a:t>NLSY79 Wages</a:t>
            </a:r>
            <a:endParaRPr b="0" lang="en-US" sz="44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tarting in 2002, additional questions asked of teach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bstitute &amp; regular teache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y per period/pay by number of courses taugh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umber of pay periods in a yea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ours worked at home and schoo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onus paym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dditional appointm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acher summer school, coach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Book Antiqua"/>
              </a:rPr>
              <a:t>Wages and Compensation : NLSY97</a:t>
            </a:r>
            <a:endParaRPr b="0" lang="en-US" sz="32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JOB, the individual is asked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what is the easiest way for you to report your total earnings before taxes or other deductions: hourly, weekly, annually, or on some other basis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usually receive overtime pay, tips, commissions or bonuses with [this employer]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r usual [hourly/daily/etc] earnings, before taxes or other deductions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how much income do you usually receive from [compensation: overtime, tips, commissions, bonuses, incentives] with [this employer]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Book Antiqua"/>
              </a:rPr>
              <a:t>Wage Structure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..what is the easiest way for you to report your total earnings before taxes or other deductions:?</a:t>
            </a:r>
            <a:endParaRPr b="0" lang="en-US" sz="28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 ho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 da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 week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i-weekly (every 2 weeks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 mont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 ye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mi-monthly (twice a month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 works in family business without getting pa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r item (piece work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r job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ther (specif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Book Antiqua"/>
              </a:rPr>
              <a:t>Example: Job 1, 2001</a:t>
            </a:r>
            <a:endParaRPr b="0" lang="en-US" sz="40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3674       1 PER HOUR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86       2 PER DA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215       3 PER WEEK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20       4 BI-WEEKLY (EVERY TWO WEEKS)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53       5 PER MONTH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6       6 PER YEAR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4       8 SEMI-MONTHLY (TWICE A MONTH)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5       7 OTHER (SPECIFY)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4       9 R WORKS IN FAMILY BUSINESS WITHOUT GETTING PAID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25      12 PER ITEM (PIECE WORK)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5      13 PER JOB OR BY THE GAM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0      14 OTHER - RECODED TO NO PAY/ IN KIND PA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9      15 OTHER - RECODED TO COMMISSIONS TIPS OR BONUSE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      16 OTHER - RECODED TO PAID FOR THE ENTIRE PERIOD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      17 OTHER - RECODED TO SPORADICALL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      21 OTHER - RECODED TO PER HOUR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0      22 OTHER - RECODED TO PER DA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0      23 OTHER - RECODED TO PER WEEK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0      24 OTHER - RECODED TO BI-WEEKL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3      25 OTHER - RECODED TO PER MONTH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      26 OTHER - RECODED TO PER YEAR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0      28 OTHER - RECODED TO SEMI-MONTHL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2     999 UNCODAB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-------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4353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2:33:24Z</dcterms:created>
  <dc:creator>AUGHINBAUGH.ALISON</dc:creator>
  <dc:description/>
  <dc:language>en-US</dc:language>
  <cp:lastModifiedBy>gladden_t</cp:lastModifiedBy>
  <dcterms:modified xsi:type="dcterms:W3CDTF">2007-07-18T15:38:06Z</dcterms:modified>
  <cp:revision>57</cp:revision>
  <dc:subject/>
  <dc:title>Marriage and Cohabitation</dc:title>
</cp:coreProperties>
</file>