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965-EEDA-42E8-9E62-8D4A3E79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72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FE8-1F8E-4E36-9B3F-54F0534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A74-38FE-48A9-B79F-588B80F4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85E-CCAC-4505-BEE4-F2C0B4F4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2CB-3D0C-4170-983A-4FAE960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1D6-366D-4346-8681-3D8BD5F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CA2-E05B-435C-B439-2BD9BF3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308-4715-4263-964A-BE947C6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039-C6C7-4BE6-8847-B8386BD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994-B9B6-4882-A645-1023B03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1F1-3B8F-4914-B121-8934721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81B-569F-4EF3-87E0-0366105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523-F722-4AAC-8475-A7E383FB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endParaRPr b="0" lang="en-US" sz="54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mmary inform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f, when, and why left schoo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PA, class rank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raduation requiremen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cipation in progra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pecial, Gifted, or Bilingual Educ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ores on standardized tes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SAT, ACT, SAT, AP, oth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ademic year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bsent &amp; tardy spell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dit weighted GP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% New Basics credits earned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…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rm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nth/year enrolled, academic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dits earned &amp; Grade level (e.g.,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rse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bject Co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dits earned and standardized grad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ed from last school attend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wav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999-2000 &amp; 2004 [TRANS_STATUS]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vey year for both=199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data for 69.4% responden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ata Source Summary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-survey schooling histor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CHR section in NLSY97 interview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6-R9: Grades skipped/repeat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ent schooling 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LSY97 Interview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gle Item Verific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vent Histor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trospective high school 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Surve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igh school course histor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nal outcom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Intended Results 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re complete picture of educational 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ition from middle to high school [for some]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ition between school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.g., high school to high schoo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ition out of high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ditional data on schools attend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ditional data on types of courses tak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formation on alternative trajecto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ternative schools/home school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ique situ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arcer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esired Outcom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in the survey roun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A&gt;=HG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level changes only if enroll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tween survey rounds &amp; other sourc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C never decrea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highest degree received never decrea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consistenc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round survey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Unintended Result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rces=more chances for confli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in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.g., HGC doesn’t match event history gr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tween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.g., R8 HGC&lt;R7 HGC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porting problems in the event histo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known dat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lematic for grade confirm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 at school not since DL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ata harder for researchers to 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br>
              <a:rPr sz="4800"/>
            </a:b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PUBID=3807</a:t>
            </a:r>
            <a:endParaRPr b="0" lang="en-US" sz="48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80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ata from Parent Questionnai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1st grade=6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ear entered 1st grade=1990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7th grade=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6-1997 school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dn’t repeat/skip any gra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jected graduation dat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01/02 school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80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280" y="1143000"/>
          <a:ext cx="8763120" cy="5562720"/>
        </p:xfrm>
        <a:graphic>
          <a:graphicData uri="http://schemas.openxmlformats.org/drawingml/2006/table">
            <a:tbl>
              <a:tblPr/>
              <a:tblGrid>
                <a:gridCol w="1841760"/>
                <a:gridCol w="2282760"/>
                <a:gridCol w="2286000"/>
                <a:gridCol w="23526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2857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1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nroll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878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1523880"/>
                <a:gridCol w="1917720"/>
                <a:gridCol w="2044800"/>
                <a:gridCol w="1566720"/>
                <a:gridCol w="209088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School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NEWSCHOOL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comple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beg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xpected graduation d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ohort Overview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219320"/>
          <a:ext cx="8763120" cy="555444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048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57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80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round: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round: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rou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xt inter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1-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lle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TERM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2057400"/>
          <a:ext cx="8763120" cy="4054320"/>
        </p:xfrm>
        <a:graphic>
          <a:graphicData uri="http://schemas.openxmlformats.org/drawingml/2006/table">
            <a:tbl>
              <a:tblPr/>
              <a:tblGrid>
                <a:gridCol w="1371600"/>
                <a:gridCol w="2210040"/>
                <a:gridCol w="266688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m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RT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D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/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/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/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80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outh Questionnai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graduation dat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2002 reported in r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SCH-119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est degree receiv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 school degree [3] in rounds 7 &amp; 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SCH-311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REASON=Graduated [1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DATE~M/~Y=-3/200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Which Source Is Correct?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PUBID=380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nrollment in School 201 never en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ismatch between HGA and loop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A=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op report never attended 12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ismatch between reported HG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7 HGA=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8 HGA verification R7 HGA=1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br>
              <a:rPr sz="4800"/>
            </a:b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8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ata from Parent Questionnai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1st grade=7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ear entered 1st grade=1989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7th grade=1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6/97 school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eated 6th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dn’t skip any gra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jected graduation dat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01/02 school yea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371600"/>
          <a:ext cx="8763120" cy="5095800"/>
        </p:xfrm>
        <a:graphic>
          <a:graphicData uri="http://schemas.openxmlformats.org/drawingml/2006/table">
            <a:tbl>
              <a:tblPr/>
              <a:tblGrid>
                <a:gridCol w="1841400"/>
                <a:gridCol w="2282760"/>
                <a:gridCol w="2284560"/>
                <a:gridCol w="235440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2857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1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nroll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878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-36360"/>
          <a:ext cx="9144000" cy="6970680"/>
        </p:xfrm>
        <a:graphic>
          <a:graphicData uri="http://schemas.openxmlformats.org/drawingml/2006/table">
            <a:tbl>
              <a:tblPr/>
              <a:tblGrid>
                <a:gridCol w="1612800"/>
                <a:gridCol w="1828800"/>
                <a:gridCol w="2044800"/>
                <a:gridCol w="1566720"/>
                <a:gridCol w="209088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School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comple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beg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xpected graduation d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/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/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TERM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057400"/>
          <a:ext cx="8763120" cy="4467240"/>
        </p:xfrm>
        <a:graphic>
          <a:graphicData uri="http://schemas.openxmlformats.org/drawingml/2006/table">
            <a:tbl>
              <a:tblPr/>
              <a:tblGrid>
                <a:gridCol w="1371600"/>
                <a:gridCol w="2210040"/>
                <a:gridCol w="266688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m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RT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D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바탕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outh Questionnair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graduation dat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2002 reported in r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SCH-119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est degree receiv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 school degree [3] in rounds 7 &amp; 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SCH-311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REASON=Graduated [1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DATE~M/~Y=5/200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Which Source Is Correct?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PUBID=774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ismatch between transcripts &amp; dat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s give a completion date of -3/1999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letion date of 6/00 in survey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s give a completion date of -3/2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 completion date listed in survey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Schooling Objectiv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rect NLSY79 seam proble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-reporting enrollment status for a particular mon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ent history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rect NLSY79 grade reversa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erify/correct status from last interview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GC, HGA, &amp; enrollment statu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ent history of school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ccount for inconsistencies due to changing schools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ent history of grade attendance (loop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ccount for skipping/repeating grad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/confirm data from other sourc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ct detailed information on schoo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Round 9 High School Data Review</a:t>
            </a:r>
            <a:endParaRPr b="0" lang="en-US" sz="40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st raw data are mostly consistent over 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 years of respondent reported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careers mostly comple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ived high school diploma/G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rolled in a degree college without a diploma/G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t in a GED progra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ed out of high school (age 20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Resolving Raw High School Dat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More sources=more conflicting dat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se sources from all round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rection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erification question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ected graduation dat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Resolving High School Data…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2952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More sources=more conflicting data…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se data from rounds after left high schoo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ploma question (r7 and beyon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ng term out of school status &amp; verification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ad grade progression, graduated on tim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pute if graduate on time given the grade reported at the 1st interview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Resolving High School Data…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 Antiqua"/>
              </a:rPr>
              <a:t>Reporting problems in event 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known dates and grade comple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ute if enrolled in the next grade sequential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grade reversal then progres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ute whe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grade reported was completed before at the same school &amp; verification supports th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 Antiqua"/>
              </a:rPr>
              <a:t>Raw data harder for researchers to 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ated variables summarize raw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ated after conflicts resolv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R9 Collapsed Variables (CVC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tus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HGC_E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HIGHEST_DEGREE_E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gree da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HS_DIPLOMA &amp; CVC_G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AA_DEGREE &amp; CVC_BA_DEGRE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MA_DEGRE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PROF_DEGRE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PHD_DEGRE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ndardized sco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SAT_MATH_SCO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SAT_VERBAL_SCO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C_ACT_SCO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reated Variables (CV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V_ENROLLST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experie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GRADES_REPEAT_E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GRADE_SKIP_E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SCH_ATTE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PIAT_PERCENTILE_SCO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SCHOOL_TY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SCHOOL_SIZ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STUDENT_TEACHER_RATIO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ge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BA_CRED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V_ASSOC_CREDI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Event History Variables (SCH-)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Month-by-Month Arrays</a:t>
            </a:r>
            <a:endParaRPr b="0" lang="en-US" sz="40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H_STATUS_yr.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rollment stat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H_TERM_yr.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typ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o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rade if high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m if colle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D_yr.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ks SCH_ arrays to questionnaire dat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me as the NEWSCHOOL_PUBID from NEWSCHOOL_ ros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More Information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User’s Guid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tion 4.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hievement  test scor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T-ASVAB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IAT Math te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tion 4.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hooling Experie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ge Cho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hool-based learning progra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surve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debook Supple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endix 11, Transcript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NLSY97 Questionnaire Structure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(YSCH-, NEWSCHOOL_)</a:t>
            </a:r>
            <a:endParaRPr b="0" lang="en-US" sz="40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firm status at last interview dat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est grade attended/completed &amp; enrollmen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firm and correct prior round dat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port information for current roun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schools attended since last intervie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rollment periods at each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vey program creates NEWSCHOOL ros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hools listed in the order report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op’ though questions specific to each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mary &amp; secondary school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g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ook Antiqua"/>
              </a:rPr>
              <a:t>Data Collected on Each Primary/Secondary School</a:t>
            </a:r>
            <a:endParaRPr b="0" lang="en-US" sz="40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ach school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typ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s and dates attend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ps in attend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spension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gram of study in high school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eneral Schooling dat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/ACT sco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ected graduation 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ploma/GED recei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ata Collected for Each College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hool informa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/priv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PEDS code in Geocode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dit progress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mber began at school wi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ttempted pe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rned pe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mber required to gradu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Each College…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r term information (loop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ning dat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maj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ull/part time stat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t and financ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gre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 receiv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Other Schooling Information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SCH: School-based learning progra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rolled in grades K-1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ime spent on work sit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ys or weeks &amp; hou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ount if pa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es taken in conjunction with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COC: College choice section (round 7+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83 &amp; 1984 birth cohor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m &amp; year of applic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ed for financial assist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eptances including financial aid offer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PEDS code in Geocode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arent Questionnaire (PC8-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evant a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e a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e at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ge attended head sta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storical schooling inform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kipped and/or repeated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ps in attendance (1 month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ok classes during brea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ecial progra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medial, Special, Gifted, or Bilingual Educ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ent interviews for 88.4% respond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ed in 1997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9:36:00Z</dcterms:created>
  <dc:creator>Gardecki</dc:creator>
  <dc:description/>
  <dc:language>en-US</dc:language>
  <cp:lastModifiedBy>CHRR</cp:lastModifiedBy>
  <dcterms:modified xsi:type="dcterms:W3CDTF">2007-07-15T17:40:21Z</dcterms:modified>
  <cp:revision>1560</cp:revision>
  <dc:subject/>
  <dc:title>PowerPoint Presentation</dc:title>
</cp:coreProperties>
</file>