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62D61-AE55-4495-AA74-E79C850AD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8A021-4593-4F0C-9222-DEF77A9A4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1CA34-D556-47AD-B4E7-E818354CD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DCB92-2574-45A5-9E79-BED820044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DE28C-5F56-4D59-8D4D-07585E362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66FC8-911E-4600-82F0-34CC31668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1A4AF-8A55-4496-95DD-6DD05CCB7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2FCA1-49D4-42EB-878D-98F02FAC6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1C179-39A4-4598-AB9A-28F5E8F9D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EC983-F33F-459E-895C-A8F488233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6BE02-465E-4127-B029-3CB7C206D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5F5E6-7A0B-4BCE-9BBF-6484567D0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CD71-5E68-4CF7-B57D-AA73D0905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S Workshop</a:t>
            </a:r>
            <a:br>
              <a:rPr sz="4400"/>
            </a:br>
            <a:r>
              <a:rPr b="0" lang="en-US" sz="4400" spc="-1" strike="noStrike">
                <a:solidFill>
                  <a:srgbClr val="000000"/>
                </a:solidFill>
                <a:latin typeface="Arial"/>
              </a:rPr>
              <a:t>2007</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all Ol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SY79</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collect longitudinal data in event history format – instead of asking R status at date of each interview, one asks about transitions since last interview – date + change, date+ chang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amples of Hispanics, poor whites, youths in the military and Black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ample of poor whites discontinued after 1990, military sample greatly reduced after 1984</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ping the younger half of poor whites was a serious err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 Stud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SY79 collected extensive data on fertility child health &amp; child care – funded by NICH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86 the Child Study began, assessing the children of the female respondents every other year to age 1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ge 14 the children got an interview much like what their mothers received in 197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hildren” turn 21, their surveys are funded by a grant from NICH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SY97</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e lesson of the NLSY79 and the Children of the NLSY79 was that you can’t start studying individuals too young.  NLSY79 started with youths 14-21, NLSY97 started with 12-16.</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VAB was re-normed with both NLSY79 and NLSY97.  These test scores are powerful tools.  Use the CHRR norms for the ASVAB NLSY79, not the official DoD norms.  CHRR normed the NLSY97 ASVAB sc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SY97</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ed the event history structure of NLSY7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an extensive one-hour survey of the parents, collecting retrospective background on the you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ibs in-scope were part of the survey – as in the NLSY79 and (to a lesser extent) the original cohorts, data on siblings with shared family background provides great analytic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SY97</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ohort has extensive data on anti-social behavior, often collected via a self-administered questionnai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ing data is far more extensive than in the NLSY79, containing more detail on courses and scho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data mirrors the NLSY7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bable there will be a “Children of the NLSY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rst a Word From our Sponsors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Institute for Child Health and Human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eau of Labor Stat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er for Human Resource Research and the Initiative in Population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C at the University of Chica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hop</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Material for 1 ½ days – things you simply have to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al Sessions for the next 2 d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ways 2 concurrent sessions; if you said you wanted to attend session A you can switch to session B – we are taping and will put each session on the We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ical sessions are formal, but raise your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outs in “Home Room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been assigned to a home room group based on your revealed preferences, but you can change your mi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home room will be active most of the time, except perhaps cr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staff will be there at different times – you should feel free to approach faculty informally any time – they’ll be hanging around the food &amp; drin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rooms will involve a mixture of people with a research focus and staff with in-depth knowledge of th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l free to ask about your (hoped for) dissertation topic.  If you can’t do it with the NLS, now is the time to get the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from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wander between home rooms, there are no formal presentations, only Q&amp;A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abel some tables at lunch with the area of interest; if you want to gossip or talk sports,don’t be annoyed if people at the labor table are talking dynamic optimiz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your own Tuesday night, suggestions in pack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t at Olsen’s tonight – buses will transpo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xican Wednesday night (BYOBeer) – buses aga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lunch is last me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S Progra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d in 1960’s at behest of Daniel Patrick Moynihan at DOL – Herb Parnes was first P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shifted to BLS in mid-1980’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done by Census and NORC; design, data processing and dissemination at CHRR although these lines have not always been neatly dra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R and NORC share responsibilities with one sometimes a subcontractor to the other and sometimes the other way a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LS focuses on people, not househol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cohorts drawn from experimental CPS sampling frame based on 1960 Census.  This meant Title 13 confidentiality statutes covered the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ure Men 45-59 in 1966 – to study shrinking LFP of prime-aged 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ng Men 14-24 in 1966 – problem of unemployment among you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30-44 in 1967 – to study the return of women to the labor force as children grew u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ng Women 14-24 in 1968– the Women’s Bureau was flailing DoL for ignoring wo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details available on Web si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twithstanding what the BLS web site says, the two women’s cohorts are no longer being interview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46:25Z</dcterms:created>
  <dc:creator>olsen</dc:creator>
  <dc:description/>
  <dc:language>en-US</dc:language>
  <cp:lastModifiedBy>olsen</cp:lastModifiedBy>
  <dcterms:modified xsi:type="dcterms:W3CDTF">2007-07-04T18:10:38Z</dcterms:modified>
  <cp:revision>4</cp:revision>
  <dc:subject/>
  <dc:title>NLS Workshop 2007</dc:title>
</cp:coreProperties>
</file>