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D2D6-C76D-4478-872B-D00852B19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485F3-378E-41F5-9740-E1E52FF7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4C2F7-3AFB-40F8-8CA3-12D82F22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A908E-B540-4FF6-A008-1BE9A8A4E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42E3-EBA7-45B8-BF46-34A8AFD48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E60C7-214E-404F-8230-3B06B9F7B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E807-6E0C-41B9-AB3E-048E3B9B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A28B-500A-4D35-9CCB-FCE8BDBE6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851FC-656F-4828-B2B2-BC219F1E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AE54-AC45-49DF-BF4D-CF3D8C2FF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73B8-19CB-4BD0-8C83-AD3158E6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4757-D98B-4231-BB14-34862A480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04B0-B1FC-493F-A6C4-B666B928A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26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on’t Grow on Trees</a:t>
            </a:r>
            <a:br>
              <a:rPr sz="4400"/>
            </a:br>
            <a:br>
              <a:rPr sz="4400"/>
            </a:br>
            <a:r>
              <a:rPr b="0" lang="en-US" sz="3200" spc="-1" strike="noStrike">
                <a:solidFill>
                  <a:srgbClr val="000000"/>
                </a:solidFill>
                <a:latin typeface="Arial"/>
              </a:rPr>
              <a:t>Data Collection Past and Present in the NL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all J. Ols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for Human Resource Researc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for Population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use data (co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the NLSY79 there were so many variables that data exceeded block size limits on IBM 360/370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SY79 data broken into record types and each variable put into one record type or another – but only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ate 1980’s NLSY79 was on 7 reels of t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D-RO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semination problem was acute, and this change was undertaken to make data more accessible.  First CD release in 198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ypes from the magnetic tape era were continued as a indexing tool for CD ROM – tapes and CD’s had to co-exist for several years until tape died out.  The tendency for variables to have one “area of interest” is an atavism from record types used on magnetic tape.  We are working toward variables having several areas of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on Web</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sts for extraction executable grew with need to support new operating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web &amp; greater penetration argue for end of CD’s after more than a dec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Web package will also implement some new features to deal with the increasing size and complexity of the data fi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extraction system is completely integrated with the data collection strategy we have developed over the past 2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79 Data Collec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and Pencil 1979 – 1992 and hence shared many of the QC problems Census had.  1988 survey (R10) used a system called “computer assisted data entry” which was a disaster and never used again – R10 has about 100,000 data points in err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from previous interviews was printed on a separate piece of paper called the “Information sheet”.  Now those data are in a file, but still called information she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bout the respondent (names, addresses, contacts, history of cooperation) were printed on another piece of paper called the “face sheet” – similar to the Census “control card” except the face sheet was reprinted each year.  When address changed, this was noted on Face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went over each booklet and marked errors.  When key variables were missed or in error, the case went to retrieval, and a staff person called R to “retrieve” the data.  Ranges on numerical values were chec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 more pap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ditors marked up the booklet, the responses were data entered on key punch machines (later data entry terminals that produced punch card images) and verifi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leaning specification” programs were run and errors either corrected, data retrieved or coded as “invalid sk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repeated until “all clean”, which really meant “we give u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cess was very similar at Cen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 tape was medium of storage for deca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sus Bureau, in a fit of incompetence, has lost or let deteriorate, archival tapes for the NLS so some data suppressed by Title 13 cannot be recovered even from within C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PAPI do to Dat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 skips were far more common – either because FI forgot to answer question or followed wrong skip pa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lar and cents amounts often were bad – could be off by a factor of 10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serve value” codes sometimes taken as monetary amou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value codes for Ref, DK,NA, out of range were coded by NORC as 995, 996, 997, etc. depending on field width – could be 9995, 9996, etc.  Numerical values of this sort may be spurious.  Most of these have been edited out in the recent income &amp; assets edit and impu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Data on Location</a:t>
            </a:r>
            <a:br>
              <a:rPr sz="4000"/>
            </a:br>
            <a:r>
              <a:rPr b="0" lang="en-US" sz="4000" spc="-1" strike="noStrike">
                <a:solidFill>
                  <a:srgbClr val="000000"/>
                </a:solidFill>
                <a:latin typeface="Arial"/>
              </a:rPr>
              <a:t>in NLSY79</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ddress changes were coded on the face sheet, respondents who did not move had no address data entered.  If the FI forgot to enter new data, we assumed R did not move.  This made the address data less reliable in the first dec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 of location data is </a:t>
            </a:r>
            <a:r>
              <a:rPr b="1" lang="en-US" sz="2400" spc="-1" strike="noStrike">
                <a:solidFill>
                  <a:srgbClr val="000000"/>
                </a:solidFill>
                <a:latin typeface="Arial"/>
              </a:rPr>
              <a:t>not</a:t>
            </a:r>
            <a:r>
              <a:rPr b="0" lang="en-US" sz="2400" spc="-1" strike="noStrike">
                <a:solidFill>
                  <a:srgbClr val="000000"/>
                </a:solidFill>
                <a:latin typeface="Arial"/>
              </a:rPr>
              <a:t> the questionnaire, but the face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data for NLSY79 were often bad, address, city, state and zip often were in confli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numbers usually good, so for several years we geocoded by phone numb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0’s we undertook a major effort to geocode addresses to lat and long.  We occasionally “find” data on addresses and can review and update geoc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 Shee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me data in the file are “straight pick-ups” from the information sheets.  These data are in the data file, but one does not see where they are collected in the questionnaire.  However, information sheet items can be very important to an understanding of the questionnaire as questions often involve a mixture of data from previous rounds and data from earlier questions in the current 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usehold Interview” or HHI</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early years, we used different Household Interview forms depending on the age and residence of the respondent.  Sometimes the parent acted as the informant and sometimes the respondent.  Thus information about the household was often collected in a different manner across respondents, so the data file will differ across those respon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alk About Thi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he data are collected affects its quality, structure, organization and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he data are collected affects how the interviewer interacts with both the instrument and respondent as well as her cognitive load and hence her ability to catch mistak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ed Interview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SY79 was designed to collect event histories – a complete series of transitions (marital status, employment, welfare receipt, etc.) and the date of each trans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ection of the survey starts by confirming R status at date of previous interview &amp; asks about all the changes since then.  This minimizes “seam problem” of inconsistent data between two survey waves.  We don’t ask for data month by month, just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ed Interviewing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paper and pencil, it was hard to manage bounded interviewing as one needed the interviewer to use data from the previous interview.  This makes the interview more complex and requires carrying data forward from the previous wa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iew was done every year, and that gave us very little time to prepare bounded interviewing data for use in the next wave.  We only used bounded interviewing for a few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ed Interviewing (con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moved to CAPI in 1993, more sections of the interview were converted to bounded event history intervie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ing and recipiency data for NLSY79 was originally not event history and had lots of “seam”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tility Dat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se data carefully edited at CHRR because of the Child Study.  Always use edited data, never raw.  We did not finish editing the PAPI data from wave k until after NORC was in the field for wave k+1.  The information sheets were not based on edited data and so info sheet data were flawed.  Only with CAPI were we able to edit the data in time for the next wave and this greatly improved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 Transi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sted for the presence of “mode effects” with CAPI in Rounds 11 (1989) and 12(1990).  Only place we saw them was where amounts and units were on the same page on paper and different screens with C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s 11 and 12 had the same content for CAPI as used for PAPI, so there were few changes to the instru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PI only starting Round 15 (199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 only rounds for ‘79</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history on schooling and recip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xt fills” incre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the interview easier for interviewer and respondent, the instrument became more complex – for example rate of pay questions became more elaborate and tailored to the time unit R wanted to use for repo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 Complexit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use of information carried forward from previous rounds to avoid repe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ded complexity helped interviewers and respondents, but made the data file more complex and harder to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ter PAPI questionnaires are easier to follow and reveal what is going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 Complexity (con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 does a large number of calculations in the background, and these operations leave a long trail of “temporary” variables, rosters and indicators.  These are labeled as “machine checks” in th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and complexity of the instrument requires a holistic strategy for managing the instrument and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oolkit</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LS questionnaire and data dissemination system are managed using a large relational database – each question is represented as a data record and the survey operates by a sequence of operations on the question rec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question records are re-used by the documentation system.  This substantially reduces the level of effort to manage the process and supports the use of a variety of utilities and reports that support each major step from design through data re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kit (co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 is not actually programmed – a substantial difference in how other projects are mana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age means that virtually every questionnaire resource available to the interviewer during the interview could be available to the documentation system – if it would help, we could link in help screens provided to the interviewer or even alternate language versions of the questionnai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reates a divide between the documentation resources available for 1993 and later rounds and those before.  Puzzling discontinuities in documentation and questionnaire structure reflect about 5 generations of survey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Beginning there was Censu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al plan was for the NLS to last 5 years and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R did not receive the data from Census – it simply requested tabulations of the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no “public use data” at all for several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s were done personal-none-phone-none-phone, so R interviewed 3 times in 5 years with a phone preceding a pers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kit &amp; Nomencla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LSY79 questions were numbered consecutively, but those numbers changed year by year.  Deck and column referred to the positions on a particular punch card occupied by a variable during the processing stage.  The “R number” was assigned at the end of the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ove to RDB methods, each data element needed a unique identifier and that identifier stayed the same over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stion name (Q7-13b) identified the same variable year after year, again R numbers assigned las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mencla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ry to keep variables in the same part of the instrument with nearly contiguous R 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e run out of R numbers, we use S or T numbers.  Some variables that are highly related but come from different waves (health conditions at age 40) get similar H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Mod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 cohorts used P-x-T-x-T pattern, NLSY79 was almost all face to face until the ’9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 – ’79 done by phone unsatisfactori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NLSY79 has quality problems due to a flawed CADE process being used (it was never re-u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to face continued with steady increase in phone cases – in late 1990’s costs forced a switch to ph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re-vamped to be phone friend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 was always primarily ph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79 pioneered virtual CATI shop technology – Web survey and VoIP enabled regular FIs to work from home – kept costs in check and kept FIs busy on NLS most of th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 (cont.)</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79 continues primarily phone – ’97 is mostly in-per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have relied on SAQ for confidential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Q in ’97 utilizes text fills whereas SAQ’s for ’79 did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language versions of quex have been phased out, primarily for cost reas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s to interview overseas R have been reduced to a phone effort – we no longer send FIs to Mexico or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 – No Paper!</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SY97 was never collected on paper and hence there is no “simpler version” of the questionnaire to consult.  NLSY79 has the R14 quex that is compact and readable. No analog for NLSY9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ave time, designers made an aggressive effort to streamline the instrument, but this made the data file more compl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questions asked by birth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vent histories and bounded interview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ome questions, if R refuses, we attempt to collect the data the following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 complexit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sire to include a great many questions in the survey clashed with the limit on interview length.  Questions were asked based on birth year, so users need to watch out for those check items.  Your warning this is going on is a large number of valid sk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on key concepts were asked in multiple locations – this makes data harder to use.  As resources allow, we will try to “combine” these variables into one lo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 complex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 size for this cohort is very large so there is a project underway to “hide” some of the variables users ought not ex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is a problem for users, but it is the price of being able to collect so much data.  Simpler questionnaires take longer to administer and long surveys create attrition risks.  Greater scope and complexity are a tied de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SY97 complexity (co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SY97 relies on rosters to a greater degree than other cohorts – especially important to use the right roster and not questions that populate roster.  In the past several years, we have quietly removed variables users should not ex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osters were edited at CHRR and contain reliable data, other rosters were temporary or work files and we made no effort to edit th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Cohorts (co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had a “control card” (heavy card stock) that listed each address R occupied, HH members, contacts, and history of cooperation.  This card was used in up to three r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rom prior rounds were transcribed, by hand, onto a “flap” the interviewer could refer to when a check item utilized such data for a sk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P. 8 (CPS), 16 (workhistory), 30 (HH roster), 32-33 (assets &amp; income), 36 (sib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this Mean for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interview was very simple as checks were hard to execu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terviewer made a skip error, it was very hard to recover from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the wrong questions were asked and the right questions were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had to go through a labor-intensive “editing” process to correct or fla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acked Variabl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de-all-that-apply questions were “bit-packed” – if there were 6 categories of things you are doing to find work, the data were represented like 1-0-1-1-0-1 based on a yes or no, and the answer was recorded as 45.  The user had to “unpack” the 45 to recover the six 0-1 codes for methods used to find work.  All these have long since been reco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tems sometimes were coded incorrectly or items skipp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diting process itself was done manually and was prone to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asionally the answer to a question that should not have been asked is in the data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cohorts survey structure had a structure known as “time series of cross-sections” because the same questions were repeated in the various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80’s we shifted the original cohorts to a more event history approach for the employment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Public Use Dat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n magnetic tape, often several reels of t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book was printed and could be a foot th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 “Key word in context” (KWIC) file to help the user find variables.  This file could be several inches th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netic tapes documented with a “tape map” that showed where to find a vari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19:34:14Z</dcterms:created>
  <dc:creator>CHRR</dc:creator>
  <dc:description/>
  <dc:language>en-US</dc:language>
  <cp:lastModifiedBy>olsen</cp:lastModifiedBy>
  <dcterms:modified xsi:type="dcterms:W3CDTF">2007-07-13T20:38:41Z</dcterms:modified>
  <cp:revision>14</cp:revision>
  <dc:subject/>
  <dc:title>Data Don’t Grow on Trees  Data Collection Past and Present in the NLS</dc:title>
</cp:coreProperties>
</file>