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49C-D5EC-46B2-98C5-53F3355F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9CD-4E52-4115-A060-45A1849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FCC-250D-4AAC-88BF-2663E941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1D1-BCA5-4F92-945B-E2E98195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81E8-4AB5-4993-B0F0-ED29839A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DADC-0894-4633-93A8-4A8662E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9CB9-04B9-4DC8-A43B-7E9BCD1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CFA-4E01-40F2-B2D6-AFE73DA6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DA8-D4F0-468D-8691-B3F94D55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621-858F-4CCD-A863-54172A3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30F-1DC7-4ABA-A0E2-5F2098A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82C-DA63-4DD1-99AC-82ECC49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6FD-0CC3-447B-95F0-843CB26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FC98-71A4-4C43-A6F9-C9FFCDC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7CB-786A-46BD-BCAA-CB98749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D602-93CA-449B-A34E-489B2D1F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AE3-5AB2-4FD5-B1B7-001C108B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78D4-14A7-4CDB-85BE-F2CCC37A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67F8-5DCA-4B76-ACAC-1B0DB2E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7587-D376-4808-8211-7C6092D9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806F-42EF-41EE-B01D-B813D75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0A4B-ABAE-45D6-B676-E21171E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ACD-54AA-4DD8-8273-4362E6A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25E7-1305-4054-9823-EE264321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CA8C-5E32-4302-AE8F-B8656D92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D7ED-3404-4F9C-AA6E-D656F74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7A95-06E7-466C-9306-66AEABD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37AC-5BAC-4110-9128-0960FB72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99D7-92AD-4459-B0CE-0D127CB1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C608-1279-4A9F-AA06-357C4C5C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DDF7-9771-4895-A00E-892A3C82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0EC3-3C75-4502-A833-D9A78F3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4528-62BD-464D-8179-FE3E21E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E96-8FCE-49A4-BCE6-CFEFF09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B4A4-990F-49E0-83AD-FE6CB10D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63CA-4903-4AE5-809A-C473660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0289-284E-47EB-9257-0CF8206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3135-156D-4100-AB37-415BA9BC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30AD-48F6-49ED-A3C2-3A21F62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CADC-2086-438D-A1A5-938A2C6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8FA2-E1BB-4439-A39D-73CD398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9E6D-5D8A-4A29-9AA0-D73BB749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ECC1-718F-4D9F-BA69-3758394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D2F-9846-46A5-8EE2-A0BB1A0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9A1-9A8E-4926-B6AE-7009A8B5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E61-08E6-420E-AB1D-38EE82F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121-B4FF-4F9C-8B2E-81B3A69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F91-0D7D-4EA4-9D05-F08F1C5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05F-C28C-4394-882E-FFDC1967A1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825-AE64-4EE0-BFED-C2808A28B6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D9C-2CB2-47FC-BC7B-A4AFE84CB0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1F2-CF05-41B6-AF40-99A3EB7409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hyperlink" Target="http://www.nlsinfo.org/web-investigator/webgator.php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682560" y="1487520"/>
            <a:ext cx="8186760" cy="174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teve McClaskie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LS User Servic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nlsinfo.org/web-investigator/webgator.php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claski@chrr.osu.edu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rsvc@chrr.osu.edu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ing Search on Fiel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Tit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Question Na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Question Tex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iew data for case#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Multiple Fil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sing “Keep” Fil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sing “Not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 number, vars in sequence, can be used to see vars in context of questionnai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gging Vari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g a v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g a page of v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g all mat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ame &amp; save tags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o this oft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ing an Extr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ame &amp; S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ke a Codebook On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ke a Data Extra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extracted data set into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how contents of zipfi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ild &amp; Young Adult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a of Inter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hild Background, chd id, mother id, age v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nal household compos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sess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ld &amp; Young Ad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ence Nu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-num, child v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Y-num, young adult v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ld &amp; Young Ad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sing 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=number of all children born to NLSY79 m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7 applied when not valid code, refusal, or DK is avail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Coho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ol b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ld &amp; Young Ad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w Child/YA User’s Gu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487440" y="1255680"/>
            <a:ext cx="85168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questionnaire is the conversation of the surv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wo basic types of variables have been compressed out of the questionnaire to provide a more compact and readable vers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Question records that not necessary to the understanding of the flow (conversation) of the survey.  Ex. Internal function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ooped (repetitive) questions are eliminated, only the first loop appea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LSY97 Round 6  Side by Side with Codeb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arch qname field for YFRD in 2002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asic sequence &amp; bran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y convention, all respondents go to the first question of every section. And to the last question, but it may have been compressed out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ough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Best Friends (section 14), straight forward skips with some branch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 YFRD-50 is a skip based 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es not apply goes to next section YHEA-5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anching at YFRD-1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des without branching info go to Default Nex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ly “someone else” is asked for age, presumably the age as already been asked for the other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899 + 64 = 1963 at YFRD-210, “someone else” + sexual part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 YFRD-230, the people come in from Default Next at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YFRD-50, total of 27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ps &amp; Nested Lo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oops are repetitive questions that are asked multiple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, a set of questions asked for each member of the household, or each school attended, each spouse or partn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how variables for YMAR in 200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rst loop begins at YMAR-3000, for each spouse partner at YMAR-29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ond (nested) loop begins at YMAR-5000-LOOP-BEGIN to pick up R’s marital changes for each spouse partner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ond loop ends at YMAR-6200-LOOP-E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ack to first loo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ond loop begins at YMAR-6500-LOOP-BEGIN to pick up ever lived with spouse/partner ag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rd loop begins at YMAR-7500-LOOP-BEGIN, to pick up marital status changes during peri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rd loop ends at YMAR-8900-LOOP-E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b Investigator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ack to second lo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rd loop begins at YMAR-9400-LOOP-BEG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rd loop ends at YMAR-10600-LOOP-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ack to second lo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cond loop ends at YMAR-111000-LOOP-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ack to first lo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rst loop ends at YMAR-13000-LOOP-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 of marital s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heck area of interest Roster Item for vars in loops, will make your life easi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ip Patterns &amp; Understanding Univers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age (section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ster items inclu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hild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usehold memb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chool enrolment peri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n-resident childr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me partner inform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mploy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Word in Title- all words used in the variable tit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Area of interest- variables grouped on a common the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mon: id, race/eth, sex, samp type, reason for noni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reated Variables: mar stat, TNFI, pov, HGC, age, ES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ty: spouse/part, constructed fertility va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files: AFQ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Area of interest- variables grouped on a common the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hool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 Surv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alth Modu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ork Histo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ord in Title- all words used in the variable tit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a of interest- variables grouped on a common the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Year- all survey yea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ord in Title- all words used in the variable tit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a of interest- variables grouped on a common the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Year- all survey yea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R number  unique identifier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equential numb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b Investig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ters, using the NLSY7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ord in Title- all words used in the variable tit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ea of Interest- variables grouped on a common them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Year- all survey yea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 number -unique identifier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Q-name  an unique name to identify same variables across yea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PI y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PI y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9:00:44Z</dcterms:created>
  <dc:creator>Kelly Johnson</dc:creator>
  <dc:description/>
  <dc:language>en-US</dc:language>
  <cp:lastModifiedBy>kjohnson</cp:lastModifiedBy>
  <dcterms:modified xsi:type="dcterms:W3CDTF">2007-10-04T18:15:13Z</dcterms:modified>
  <cp:revision>28</cp:revision>
  <dc:subject/>
  <dc:title> NLS Workshop 2007 </dc:title>
</cp:coreProperties>
</file>