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C30D-30F5-4F78-BE04-AE7E42C2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B7B-186A-4830-A55F-F9F3853E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7E6D-5F68-4342-98B3-BF8AA295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9B8-F543-4240-ADAC-02A082F5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3E2-0DED-4398-A5E3-7F863B4A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A8D-7B90-46E8-94F8-FF643BD5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599-A3BB-4B05-8E97-A9F5C558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E5E-CE0D-442A-9D74-36555870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8EDC-ABFB-4EAD-91BA-AC08B735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7DB-B11D-4747-AE4D-EF48ECE3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F88-8810-4CA9-95DB-6BA15492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660-4B8B-480B-B7D6-D257CE45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AA84-EC16-47EB-959C-37758A6B9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5280"/>
            <a:ext cx="91440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Fert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(within and across cohort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What is available over tim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Longitudinal perspectiv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Complimentary analytical inputs and outpu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How to approach using the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Causes and Cavea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Men and wom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Methodological comparative strength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-223920"/>
            <a:ext cx="9144000" cy="61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Male half of 1997 coh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Currently useful for adolescent fertility research: in 2004 cohort was 19 to 23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2) cohort bound without replacement (this is true for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Garamond"/>
              </a:rPr>
              <a:t>all cohorts</a:t>
            </a: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3) comprehensive fertility/relationship history for survey years; more comprehensive than other cohort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4) Methodologically strong, with more detailed event histor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Quality of Male Fertil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tense male intergenerational evaluation (report availab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nfident” about 92% of reported bir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isresponse can be intentional (relating to relationship history) or unintentional (e.g. male not pres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ost reports at younger ages, less educated, for those with larger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 event history research, misdating is bigger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1384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-11916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  <a:ea typeface="Times New Roman"/>
              </a:rPr>
              <a:t>Table 1.  Distribution of Confidence Level for Selected Relationship Patterns, 1979 to 1998 (Unweighted, NLSY79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04920" y="1447920"/>
          <a:ext cx="8610480" cy="4929120"/>
        </p:xfrm>
        <a:graphic>
          <a:graphicData uri="http://schemas.openxmlformats.org/drawingml/2006/table">
            <a:tbl>
              <a:tblPr/>
              <a:tblGrid>
                <a:gridCol w="3530160"/>
                <a:gridCol w="216000"/>
                <a:gridCol w="1267920"/>
                <a:gridCol w="1314360"/>
                <a:gridCol w="1521720"/>
                <a:gridCol w="7603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ern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k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 1 or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ern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cl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ode 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ern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Lik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ode 4 or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d present at birth (1979-19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 always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 has one entry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ne ex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 has multiple entri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x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 never present in 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 has one entry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ne ex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d not present at bi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 appears belatedly on fertility ro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9144000" cy="65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5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-3819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aramond"/>
                <a:ea typeface="Times New Roman"/>
              </a:rPr>
              <a:t>Following Youth Through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aramond"/>
                <a:ea typeface="Times New Roman"/>
              </a:rPr>
              <a:t>Later Adolescence/Early Adulthood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2590920"/>
          <a:ext cx="9524880" cy="1631880"/>
        </p:xfrm>
        <a:graphic>
          <a:graphicData uri="http://schemas.openxmlformats.org/drawingml/2006/table">
            <a:tbl>
              <a:tblPr/>
              <a:tblGrid>
                <a:gridCol w="2057400"/>
                <a:gridCol w="3056040"/>
                <a:gridCol w="2030400"/>
                <a:gridCol w="2381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Young Wo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-17 (1968)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4-27 (197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LSY79 (M&amp;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-17 (1979)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4-27 (198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LSY-YA (M&amp;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-17 (1994 onward)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4-27 (20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LSY97 (M&amp;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-17 (1997)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1-24 (20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 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000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14600" y="60948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wo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able 4. Comparing Cumulative Survey Point and Event History Statistics (NLSY97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1981080"/>
          <a:ext cx="9144000" cy="3573720"/>
        </p:xfrm>
        <a:graphic>
          <a:graphicData uri="http://schemas.openxmlformats.org/drawingml/2006/table">
            <a:tbl>
              <a:tblPr/>
              <a:tblGrid>
                <a:gridCol w="1469880"/>
                <a:gridCol w="1017720"/>
                <a:gridCol w="1541520"/>
                <a:gridCol w="1015920"/>
                <a:gridCol w="1541520"/>
                <a:gridCol w="1017720"/>
                <a:gridCol w="1539720"/>
              </a:tblGrid>
              <a:tr h="109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% ever married by 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% ever cohabited by 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% ever mar or cohab by 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His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urvey Po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Cum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His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urvey Poi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Cum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His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urvey Po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Cum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8 and over (tot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-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6" name=""/>
          <p:cNvGrpSpPr/>
          <p:nvPr/>
        </p:nvGrpSpPr>
        <p:grpSpPr>
          <a:xfrm>
            <a:off x="4191120" y="4267080"/>
            <a:ext cx="1980360" cy="533520"/>
            <a:chOff x="4191120" y="4267080"/>
            <a:chExt cx="1980360" cy="533520"/>
          </a:xfrm>
        </p:grpSpPr>
        <p:sp>
          <p:nvSpPr>
            <p:cNvPr id="67" name=""/>
            <p:cNvSpPr/>
            <p:nvPr/>
          </p:nvSpPr>
          <p:spPr>
            <a:xfrm>
              <a:off x="4191120" y="4267080"/>
              <a:ext cx="198036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91120" y="4267080"/>
              <a:ext cx="0" cy="53352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91120" y="4800600"/>
              <a:ext cx="198036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71480" y="4267080"/>
              <a:ext cx="0" cy="53352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002880" cy="309240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7010280" y="3352680"/>
            <a:ext cx="838440" cy="914400"/>
            <a:chOff x="7010280" y="3352680"/>
            <a:chExt cx="838440" cy="914400"/>
          </a:xfrm>
        </p:grpSpPr>
        <p:sp>
          <p:nvSpPr>
            <p:cNvPr id="73" name=""/>
            <p:cNvSpPr/>
            <p:nvPr/>
          </p:nvSpPr>
          <p:spPr>
            <a:xfrm>
              <a:off x="7010280" y="3352680"/>
              <a:ext cx="83844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10280" y="3352680"/>
              <a:ext cx="0" cy="91440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10280" y="4267080"/>
              <a:ext cx="83844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48720" y="3352680"/>
              <a:ext cx="0" cy="91440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8001000" y="3352680"/>
            <a:ext cx="838080" cy="914400"/>
            <a:chOff x="8001000" y="3352680"/>
            <a:chExt cx="838080" cy="914400"/>
          </a:xfrm>
        </p:grpSpPr>
        <p:sp>
          <p:nvSpPr>
            <p:cNvPr id="78" name=""/>
            <p:cNvSpPr/>
            <p:nvPr/>
          </p:nvSpPr>
          <p:spPr>
            <a:xfrm>
              <a:off x="8001000" y="3352680"/>
              <a:ext cx="83808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01000" y="3352680"/>
              <a:ext cx="0" cy="91440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01000" y="4267080"/>
              <a:ext cx="83808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39080" y="3352680"/>
              <a:ext cx="0" cy="91440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52280" y="762120"/>
            <a:ext cx="9296280" cy="472104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3733920" y="3962520"/>
            <a:ext cx="838080" cy="380880"/>
            <a:chOff x="3733920" y="3962520"/>
            <a:chExt cx="838080" cy="380880"/>
          </a:xfrm>
        </p:grpSpPr>
        <p:sp>
          <p:nvSpPr>
            <p:cNvPr id="84" name=""/>
            <p:cNvSpPr/>
            <p:nvPr/>
          </p:nvSpPr>
          <p:spPr>
            <a:xfrm>
              <a:off x="3733920" y="3962520"/>
              <a:ext cx="83808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3920" y="3962520"/>
              <a:ext cx="0" cy="38088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33920" y="4343400"/>
              <a:ext cx="83808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3962520"/>
              <a:ext cx="0" cy="38088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438280" y="5105520"/>
            <a:ext cx="838440" cy="380880"/>
            <a:chOff x="2438280" y="5105520"/>
            <a:chExt cx="838440" cy="380880"/>
          </a:xfrm>
        </p:grpSpPr>
        <p:sp>
          <p:nvSpPr>
            <p:cNvPr id="89" name=""/>
            <p:cNvSpPr/>
            <p:nvPr/>
          </p:nvSpPr>
          <p:spPr>
            <a:xfrm>
              <a:off x="2438280" y="5105520"/>
              <a:ext cx="83844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5105520"/>
              <a:ext cx="0" cy="38088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5486400"/>
              <a:ext cx="83844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76720" y="5105520"/>
              <a:ext cx="0" cy="38088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438280" y="3962520"/>
            <a:ext cx="838440" cy="380880"/>
            <a:chOff x="2438280" y="3962520"/>
            <a:chExt cx="838440" cy="380880"/>
          </a:xfrm>
        </p:grpSpPr>
        <p:sp>
          <p:nvSpPr>
            <p:cNvPr id="94" name=""/>
            <p:cNvSpPr/>
            <p:nvPr/>
          </p:nvSpPr>
          <p:spPr>
            <a:xfrm>
              <a:off x="2438280" y="3962520"/>
              <a:ext cx="83844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280" y="3962520"/>
              <a:ext cx="0" cy="38088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4343400"/>
              <a:ext cx="83844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6720" y="3962520"/>
              <a:ext cx="0" cy="38088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733920" y="5105520"/>
            <a:ext cx="838080" cy="380880"/>
            <a:chOff x="3733920" y="5105520"/>
            <a:chExt cx="838080" cy="380880"/>
          </a:xfrm>
        </p:grpSpPr>
        <p:sp>
          <p:nvSpPr>
            <p:cNvPr id="99" name=""/>
            <p:cNvSpPr/>
            <p:nvPr/>
          </p:nvSpPr>
          <p:spPr>
            <a:xfrm>
              <a:off x="3733920" y="5105520"/>
              <a:ext cx="83808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33920" y="5105520"/>
              <a:ext cx="0" cy="38088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33920" y="5486400"/>
              <a:ext cx="83808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5105520"/>
              <a:ext cx="0" cy="38088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629400" y="3657600"/>
            <a:ext cx="838080" cy="380880"/>
            <a:chOff x="6629400" y="3657600"/>
            <a:chExt cx="838080" cy="380880"/>
          </a:xfrm>
        </p:grpSpPr>
        <p:sp>
          <p:nvSpPr>
            <p:cNvPr id="104" name=""/>
            <p:cNvSpPr/>
            <p:nvPr/>
          </p:nvSpPr>
          <p:spPr>
            <a:xfrm>
              <a:off x="6629400" y="3657600"/>
              <a:ext cx="83808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29400" y="3657600"/>
              <a:ext cx="0" cy="38088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29400" y="4038480"/>
              <a:ext cx="83808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67480" y="3657600"/>
              <a:ext cx="0" cy="38088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629400" y="4800600"/>
            <a:ext cx="838080" cy="380880"/>
            <a:chOff x="6629400" y="4800600"/>
            <a:chExt cx="838080" cy="380880"/>
          </a:xfrm>
        </p:grpSpPr>
        <p:sp>
          <p:nvSpPr>
            <p:cNvPr id="109" name=""/>
            <p:cNvSpPr/>
            <p:nvPr/>
          </p:nvSpPr>
          <p:spPr>
            <a:xfrm>
              <a:off x="6629400" y="4800600"/>
              <a:ext cx="83808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9400" y="4800600"/>
              <a:ext cx="0" cy="38088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5181480"/>
              <a:ext cx="83808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67480" y="4800600"/>
              <a:ext cx="0" cy="38088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924680" y="3657600"/>
            <a:ext cx="838440" cy="380880"/>
            <a:chOff x="7924680" y="3657600"/>
            <a:chExt cx="838440" cy="380880"/>
          </a:xfrm>
        </p:grpSpPr>
        <p:sp>
          <p:nvSpPr>
            <p:cNvPr id="114" name=""/>
            <p:cNvSpPr/>
            <p:nvPr/>
          </p:nvSpPr>
          <p:spPr>
            <a:xfrm>
              <a:off x="7924680" y="3657600"/>
              <a:ext cx="83844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924680" y="3657600"/>
              <a:ext cx="0" cy="38088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24680" y="4038480"/>
              <a:ext cx="83844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763120" y="3657600"/>
              <a:ext cx="0" cy="38088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8001000" y="4800600"/>
            <a:ext cx="838080" cy="380880"/>
            <a:chOff x="8001000" y="4800600"/>
            <a:chExt cx="838080" cy="380880"/>
          </a:xfrm>
        </p:grpSpPr>
        <p:sp>
          <p:nvSpPr>
            <p:cNvPr id="119" name=""/>
            <p:cNvSpPr/>
            <p:nvPr/>
          </p:nvSpPr>
          <p:spPr>
            <a:xfrm>
              <a:off x="8001000" y="4800600"/>
              <a:ext cx="83808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01000" y="4800600"/>
              <a:ext cx="0" cy="38088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01000" y="5181480"/>
              <a:ext cx="83808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839080" y="4800600"/>
              <a:ext cx="0" cy="38088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520" y="4952880"/>
            <a:ext cx="7619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Includes selected variables drawn from multivariat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groups= college attend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0" y="2895480"/>
            <a:ext cx="2133000" cy="457200"/>
            <a:chOff x="2286000" y="2895480"/>
            <a:chExt cx="2133000" cy="457200"/>
          </a:xfrm>
        </p:grpSpPr>
        <p:sp>
          <p:nvSpPr>
            <p:cNvPr id="126" name=""/>
            <p:cNvSpPr/>
            <p:nvPr/>
          </p:nvSpPr>
          <p:spPr>
            <a:xfrm>
              <a:off x="2286000" y="2895480"/>
              <a:ext cx="213300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2895480"/>
              <a:ext cx="0" cy="45720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0" y="3352680"/>
              <a:ext cx="213300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19000" y="2895480"/>
              <a:ext cx="0" cy="45720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648320" y="2895480"/>
            <a:ext cx="2132640" cy="457200"/>
            <a:chOff x="4648320" y="2895480"/>
            <a:chExt cx="2132640" cy="457200"/>
          </a:xfrm>
        </p:grpSpPr>
        <p:sp>
          <p:nvSpPr>
            <p:cNvPr id="131" name=""/>
            <p:cNvSpPr/>
            <p:nvPr/>
          </p:nvSpPr>
          <p:spPr>
            <a:xfrm>
              <a:off x="4648320" y="2895480"/>
              <a:ext cx="213264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48320" y="2895480"/>
              <a:ext cx="0" cy="45720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48320" y="3352680"/>
              <a:ext cx="213264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0960" y="2895480"/>
              <a:ext cx="0" cy="45720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934320" y="2895480"/>
            <a:ext cx="2056680" cy="457200"/>
            <a:chOff x="6934320" y="2895480"/>
            <a:chExt cx="2056680" cy="457200"/>
          </a:xfrm>
        </p:grpSpPr>
        <p:sp>
          <p:nvSpPr>
            <p:cNvPr id="136" name=""/>
            <p:cNvSpPr/>
            <p:nvPr/>
          </p:nvSpPr>
          <p:spPr>
            <a:xfrm>
              <a:off x="6934320" y="2895480"/>
              <a:ext cx="205668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4320" y="2895480"/>
              <a:ext cx="0" cy="45720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34320" y="3352680"/>
              <a:ext cx="205668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991000" y="2895480"/>
              <a:ext cx="0" cy="45720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200400" y="3124080"/>
            <a:ext cx="3808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124080"/>
            <a:ext cx="3808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72400" y="3124080"/>
            <a:ext cx="3808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-151920"/>
            <a:ext cx="9144000" cy="48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Focus: Male Fert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What is available over ti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Longitudinal persp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Caveats/Constra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Methodological comparative strength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-75960"/>
            <a:ext cx="914400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  <a:ea typeface="Times New Roman"/>
              </a:rPr>
              <a:t>Table 5. Fertility Summary for NLSY Men Age 14-17 in 1979 (and 33-36 in 1998) (NLSY79 weighted estimat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880" y="1295280"/>
          <a:ext cx="8534160" cy="4647600"/>
        </p:xfrm>
        <a:graphic>
          <a:graphicData uri="http://schemas.openxmlformats.org/drawingml/2006/table">
            <a:tbl>
              <a:tblPr/>
              <a:tblGrid>
                <a:gridCol w="1716480"/>
                <a:gridCol w="759600"/>
                <a:gridCol w="759240"/>
                <a:gridCol w="757080"/>
                <a:gridCol w="756720"/>
                <a:gridCol w="757440"/>
                <a:gridCol w="756360"/>
                <a:gridCol w="757440"/>
                <a:gridCol w="757080"/>
                <a:gridCol w="756720"/>
              </a:tblGrid>
              <a:tr h="14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% Ever Fath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% with 2+ Childre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an No. of Childre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9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9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9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9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9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9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o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5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2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8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8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0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0.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Wh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7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7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7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0.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0.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.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frican Americ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8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57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0.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.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Hisp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6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56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9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57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0.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.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.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2895480" y="3962520"/>
            <a:ext cx="609840" cy="1371240"/>
            <a:chOff x="2895480" y="3962520"/>
            <a:chExt cx="609840" cy="1371240"/>
          </a:xfrm>
        </p:grpSpPr>
        <p:sp>
          <p:nvSpPr>
            <p:cNvPr id="146" name=""/>
            <p:cNvSpPr/>
            <p:nvPr/>
          </p:nvSpPr>
          <p:spPr>
            <a:xfrm>
              <a:off x="2895480" y="3962520"/>
              <a:ext cx="60984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5480" y="3962520"/>
              <a:ext cx="0" cy="137124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5333760"/>
              <a:ext cx="60984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962520"/>
              <a:ext cx="0" cy="137124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657600" y="3962520"/>
            <a:ext cx="609480" cy="1371240"/>
            <a:chOff x="3657600" y="3962520"/>
            <a:chExt cx="609480" cy="1371240"/>
          </a:xfrm>
        </p:grpSpPr>
        <p:sp>
          <p:nvSpPr>
            <p:cNvPr id="151" name=""/>
            <p:cNvSpPr/>
            <p:nvPr/>
          </p:nvSpPr>
          <p:spPr>
            <a:xfrm>
              <a:off x="3657600" y="3962520"/>
              <a:ext cx="60948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57600" y="3962520"/>
              <a:ext cx="0" cy="137124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333760"/>
              <a:ext cx="60948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67080" y="3962520"/>
              <a:ext cx="0" cy="137124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62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5486400"/>
            <a:ext cx="8381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1979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nger te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loyment, relationships/family/income can be followed through 2004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The Fertility Question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Variations in wording and depth across cohor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More recent data is more comprehensiv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When possible use “created variables”– save yourself lots of work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For the </a:t>
            </a: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1979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cohort – created longitudinal fertility and relationship rosters linking individuals over time for men and wo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For the </a:t>
            </a: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1997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cohort—more depth: for the </a:t>
            </a: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Young Adults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, more histor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cohorts compliment each other.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684720"/>
            <a:ext cx="9144000" cy="75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Selected Unique Feat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(e.g. 1979 cohort and childre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Interviewed – again and again and again and again…and ag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iblings (and cousins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nhancement through pooling (but with care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Cross-Generational possib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Large minority samples (Black &amp; Hispanic 79 &amp; 97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Linking actual and expecta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For YA – increasing representation over tim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-966600"/>
            <a:ext cx="9144000" cy="84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1979 Male Coh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1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a) Some early gaps because cohort is 14-21 at beginning (born 1958-196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b)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Garamond"/>
              </a:rPr>
              <a:t>Live birth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history from 1979 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) Data cleanup suggests that quality is “reasonable” – more for numbers born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an dates of birt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d) Can be linked closely with full range of family employment, other rela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nsitions, and activ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) As of 2004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Garamond"/>
              </a:rPr>
              <a:t>youngest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respondent is now almost 40, and virtually all of thei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ifetime fertility up to that point is within survey years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) Large sample, including Hispanic and African-American oversampl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g) Created variab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2) Cohort bound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3) Siblin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634320"/>
            <a:ext cx="9144000" cy="87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aramond"/>
              </a:rPr>
              <a:t>1979 Young-Adult Male Cohor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Encompasses all of the male children of the 1979 female respondents who had have attained age 15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2) Since 1994, we have interviewed biennially. Complete birth records related information such as family planning, wantedness, age at first intercourse, relationship information, et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3)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Garamond"/>
              </a:rPr>
              <a:t>Created variables</a:t>
            </a: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 for cumulative fertility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4) Full range of complementary even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5) Sample grows, and becomes more representative,  with every survey round!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aramond"/>
              </a:rPr>
              <a:t>1979 Young-Adult Male Cohor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aramond"/>
              </a:rPr>
              <a:t>(continued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) Originally more “selected out” as children of younger mothers; now increasing representativ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7) Also cohort bound—their mothers born between 1958 and 1964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8) Currently collected information fo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young adult lifetim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others since 1979 when they were 14-21 (born 1958-1964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366920" y="681120"/>
          <a:ext cx="6410160" cy="5497560"/>
        </p:xfrm>
        <a:graphic>
          <a:graphicData uri="http://schemas.openxmlformats.org/drawingml/2006/table">
            <a:tbl>
              <a:tblPr/>
              <a:tblGrid>
                <a:gridCol w="1442880"/>
                <a:gridCol w="2116440"/>
                <a:gridCol w="2850840"/>
              </a:tblGrid>
              <a:tr h="11610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Mom age at birth by YA age in survey year 1994 to 2002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urvey ye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mom age range        at bir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ya age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99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&lt;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&lt;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99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&lt;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&lt;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99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&lt;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&lt;21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&lt;2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&lt;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&lt;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&lt;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&lt;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&lt;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0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&lt;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&lt;3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* data collection truncat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458200" cy="5110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924680" y="380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NLSY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wo Selected YA/Child Birth Coh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7:11:15Z</dcterms:created>
  <dc:creator>jlynch</dc:creator>
  <dc:description/>
  <dc:language>en-US</dc:language>
  <cp:lastModifiedBy>jlynch</cp:lastModifiedBy>
  <dcterms:modified xsi:type="dcterms:W3CDTF">2007-07-12T19:12:18Z</dcterms:modified>
  <cp:revision>27</cp:revision>
  <dc:subject/>
  <dc:title>Slide 1</dc:title>
</cp:coreProperties>
</file>