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atta-Rupa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<Relationship Id="rId22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7-06-22T13:27:16.244000000" idx="1">
    <p:pos x="5342" y="1959"/>
    <p:text>See thursday session on union formation (Alison)
Wednesday session on fertility (Walker and Mott)
Thursday session on household composition (Chuck)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23F1-08F8-45C6-AD53-21C008738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1999 and 2003 highly variab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text and response categories.  Sometimes the text requires paging through the questionnaire a bit, for example, here the introduction is at a previous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o answers the question.  Can page through the codebook, but recommend going to the questionnaire for this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1999 asked if R lives with mother or mother figure, but R not asked to identify relationship/individual. Restricted to Rs born 1983 and 1984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3 variables asked of all Rs about biological mother and R-selected mother figure.  R is asked if co-resident with her, and relationship to mother figure (limited categor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out question and eligi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determine type of mother?  Must go to the household roster to determine what type of mother R lives wi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n cross-tab mother type with ‘highly’ variable.  To do this, I constructed a single mother type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type variable: need ge 1 since some Rs have two of some types of mom. need type 0 for 2 cases with unknown mom. must go in reverse order since sometimes have more than one type of mom and I want to give preference to bio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reason NLSY97 has a Parent Quex while earlier NLSs do not is that NSLY97 began with 12-year olds included:  They cannot report on their family’s income, mobility, etc, so this feature is Major Strength of NLSY97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ensive info re family income by source (incl welfare status, child support status and legal arrangem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mily assets and debt (exceptional – NLSY79 did not have a parent intervie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so allows us know about parent’s optimism, religious beliefs, relationship with spouse, and Expectations about You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PA: I CANNOT TEACH THIS SLIDE: I DON”T KNOW MUCH ABOUT THESE CREATED VAR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PA&lt; AGAIN&lt; I DON”T THINK I CAN DO THIS WITHOUT SOME HELP&gt;&gt;&gt;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is a data set focused on R, the 12-16 year old Respondent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y of the analytic and policy issues that might be studied about R’s attributes, behaviors and well-being will include information about R’s family.  This is true for descriptive and predictive studies, for practically every social science discipline, and for a wide variety of domains including public health, education policy, migration, demographic behavior, etc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mily matters!  The NLSY97 is one of the best, most thorough data sets in terms of family background information, collected from R and for R’s parent in Wave #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RNING: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LSY97 is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 random sample of all families – it required there to be a youth age 12-16 in the unit at the time of screening, so families with older folks w/o young adolescents aren’t included, newly formed families without children or with only quite young children aren’t included, families of any age who have no children (of the five-year age span) aren't included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e can use the NLSY97 to "describe families," but the description is not representative of all families: it is representative of all youths 12 -16 on Dec 31, 1996: powerful data resource for them; probably tolerable for many others but not warranted to use as description of other persons or other un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fference between a FAMILY and a HOUSEHOL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mily members are related by "blood or contract": biological or legal 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useholds are individuals or groups who live "under the same roof."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H members sometimes pool resources, they sometimes cooperate and coordinate, they sometimes do not – that's (sadly) also true of family members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’s demographics, attitudes, health, expectations, capacities, behaviors are influenced by famil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mily Biological influence:  genetic, cultural, ha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mily structural influence: R’s experiences, role models, expectations, constraints,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mily behaviors generally (not re: R): parents education, occupation, religion, mobilit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bs behaviors, closeness of extended family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mily behaviors specifically toward R:  time spent with R, materials for R, family schedules/monitoring, Par’s supervision/knowledge re R and R’s friends/whereabouts,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mily expectations about R: attitudes and expect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day’s NYTimes (July 16, 2007) Op Ed has story about two legal cases in which the child was considered to have THREE legal parents, all responsible equally for the child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ail I’ve gotten within the past wee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, Bob,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tell me if the following people count as relatives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ter parents, step parents, in-laws, social grandparents, spouse, partner, lover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,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n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   Could you also tell me whether aunt-in-laws and niece-in-laws are relativ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0C1-A3D0-44FC-9BCD-EB70736A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86DA-5D81-4A85-8F21-2B4A6E3B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52D-8817-4633-A16B-3E8002A4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F85-FB22-4437-9AC6-8F8B0BC1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21DD7-4373-4C71-921A-6D21C1AAF6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27A53-341B-4341-9043-A375FBA9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C5947-CABB-46CB-B309-B2A61DB2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13C4A-16C0-4C12-BE52-A3611FCE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4FBF1-3F1F-4C89-B569-285595F3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49F6C-6F12-4773-8D1B-246D7ED5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3A7A2-E52E-4B16-B5A6-81FC2EF1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F6C-77E6-4778-98A3-7D6FA151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09A99-A43D-482C-8040-494090E9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CD4B6-25D3-4109-B9E1-BBABD241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5616F-6013-4FE2-8DBF-101A6A55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A86F4-CD77-4F9D-88BB-1091B50C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BDB5B-8A29-4445-86F8-5553CFE3F7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93C-913A-4CDC-BF00-5F1141F4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5C5-C5BD-4256-90E5-FD2F0688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34DC-DDA5-4C04-BC1B-D3B6AA69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BF80-2CDA-4318-A329-066B0FD9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1C24-32CA-4346-AD2A-7055C0B2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8014-E5F0-4B5F-BE88-7A777A19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C9DB-A7F9-43F6-BC71-A0B199F7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12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59A0-899E-4B42-B11A-31CF4E0F24F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33EE-0C33-4060-AA8E-E5AFAECE86D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Family and Parent Relationships in the NLSY97</a:t>
            </a:r>
            <a:br>
              <a:rPr sz="5000"/>
            </a:b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RT Michael and AR Datta, NORC at the University of Chicago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User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mbus, O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y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xercise #2: Using the Self-Administered data on parent-youth relationship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e data for different types of mothers (biological, adoptive, step, foster, other?) on the 1999 item  ‘I think highly of [my mother figure].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LS User Workshop 2007 -- Michael and Datta, NORC at the University of Chicag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457200"/>
            <a:ext cx="82296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SAQ-002 R34825.00   ([age as of 12/31/96] &lt;= 14); /*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's age on Dec 31, 1996 was less than or equal to 1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CONDITION APPLIES (Go to YSAQ-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: YSAQ-0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SAQ-013 R34832.00  ([R lives with mother] &gt;= 1); /*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lives with mother or mother fig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CONDITION APPLIES (Go to YSAQ-0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: YSAQ-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SAQ-017   Please tell us whether you strongly disagree, disagree, are neutral, agree, or strongly agree with the following statements about the person referred to below.  ([mother or mother figure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SAQ-018 R34833.00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think highly of 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STRONGLY DIS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 A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DIS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 STRONGLY A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NEUTRAL OR M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LS User Workshop 2007 -- Michael and Datta, NORC at the University of Chicag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ent Intervie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d by a co-resident parent of the youth (preferred mothers); one parent could respond for multiple you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d for 87% of youths in sa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vers child’s early schooling and residence experience, and heal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vers responding parent’s background/employment history/marital history, background of child’s biological parents, expectations for chi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LS User Workshop 2007 -- Michael and Datta, NORC at the University of Chicag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reated Variable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y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ances between parents and youth and prior addr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racteristics of youth’s biological mother and father (e.g., education, age at first marriag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LS User Workshop 2007 -- Michael and Datta, NORC at the University of Chicag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blings in the surv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ty-five percent of NLSY97 youths (n=4035) have a sibling in the survey sample.  Together, there are 2511 pairs of siblings in th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variable ‘R1193000   SIDCODE 1997’ to identify siblin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LS User Workshop 2007 -- Michael and Datta, NORC at the University of Chicag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xercise #2: Examining a single cas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cing through the Parent Interview, the Childhood Retrospective, and any other relevant parts of the Youth Interviews, describe the youth's co-residence with parents and parent figures from age 0 to 14, and determine what 'mother figure' the R spent the most time with between the ages of 0 and 14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LS User Workshop 2007 -- Michael and Datta, NORC at the University of Chicag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parison with C/YA of NLSY79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LSY9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differentiating between co- and non-resident parents; also non-parent adults (e.g., mom’s partn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metrical (to mothers) information about youths’ fathers, especially non-coresident or estrang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al dimensions of youth-parent relationship (migration, co-residence,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/Young Adult of the NLS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ve data on qualitative dimensions of youth-parent relation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paralleled data on mothers (NLSY79 yout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spective information on early childhood and pre-adolesc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LS User Workshop 2007 -- Michael and Datta, NORC at the University of Chicag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ope of this topic/sess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y and parent relationshi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not include key family relationships addressed elsewhere: marriage/cohabitation and fertility/child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uches briefly on household com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ed on the NLSY97, brief discussion of contrasts with other NLS data sets, even briefer comparisons with non-NLS data 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LS User Workshop 2007 -- Michael and Datta, NORC at the University of Chicag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LSY97 Family and Parent Relationship Data can support analyses of: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y as the topic of inter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y as a determinant or mediator of other outc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y as an independent control variable when studying other top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LS User Workshop 2007 -- Michael and Datta, NORC at the University of Chicag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o is a parent? What is a family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LSY97 has taken an inclusive and detailed approach to collecting family and paren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are available abou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s: biological, adopted, step, foster, grandparents who are primary custodian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mily: people you live with, biological parents and siblings, half-siblings, step-siblings, step-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LS User Workshop 2007 -- Michael and Datta, NORC at the University of Chicag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rcise #1: Defining famil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See handout.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NLSY97 project on family and parent relationships needs to grapple with what codes to use to define families and par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ing at the 1999 household roster, determine which youth you would classify as living in two-parent households, one-parent households, or independently. Do all youths fit into one of these categorie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LS User Workshop 2007 -- Michael and Datta, NORC at the University of Chicag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ypes of Data about Families/Par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y com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ynamics of family com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y behaviors (co-residence, communication, migr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y relationships (quality, activities, subjective assessm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itudes and expectations about fami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LS User Workshop 2007 -- Michael and Datta, NORC at the University of Chicag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ources of Family/Parent data in the NLSY97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usehold Scree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th Int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sehold Information, Childhood Retrospective, Self-Administered Questionna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ing, Income, Assets, Health, Child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 Int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Background, Calendar, SAQ, &amp; “About Youth Inf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d variables from Youth Int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blings in the s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LS User Workshop 2007 -- Michael and Datta, NORC at the University of Chicag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usehold Screen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ster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members of HH from which youth was sel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people if non-resid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logical parents of you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and half-siblings of youth (living and decea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one co-resident with the youth’s biological par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th’s biological children, spo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of these people, captured their relationship to youth, and basic demographic characteristics such as race, ethnicity, age, education, g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LS User Workshop 2007 -- Michael and Datta, NORC at the University of Chicag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outh Intervie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HI, CHR, SAQ sec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 (college finance), INC (allowances and gifts), AST (inheritances and loans), CCA (childcare provided by Rs parents), HEA (major events: parent’s death or divorce), migr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LS User Workshop 2007 -- Michael and Datta, NORC at the University of Chicag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20:04:11Z</dcterms:created>
  <dc:creator>Datta-Rupa</dc:creator>
  <dc:description/>
  <dc:language>en-US</dc:language>
  <cp:lastModifiedBy>datta-rupa</cp:lastModifiedBy>
  <dcterms:modified xsi:type="dcterms:W3CDTF">2007-07-18T20:57:43Z</dcterms:modified>
  <cp:revision>11</cp:revision>
  <dc:subject/>
  <dc:title>Family and Parent Relationships in the NLSY97</dc:title>
</cp:coreProperties>
</file>