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C1E2-8AEA-43E3-8791-C09043EC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2402-4430-4BD3-A058-C0E9F695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B005-FC59-4CFE-8814-84271ADE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83B7-5768-44A0-B341-EBD04E43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7065-1797-49EA-9373-BFDACFA0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0833-66FB-4798-948E-E9018AF9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3938-F07F-4499-AB7C-198A8B25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206E-5393-41EA-9B68-7509F614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6551-60E8-4387-8265-DF2C05B6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19F1-7F1F-48EB-B0D7-CC9453A1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D594-F352-42B9-A8A3-2CDDF634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931B-6B3D-4667-9383-D07E8AD3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18C3-5D1F-45D5-B6EB-024C79EC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B1FA-7CB9-4C86-890E-2878B80B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578F-0A7B-447B-91F4-160F2D33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4D5B-3305-42F6-9D9E-573B02F9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6F75-B4D7-4C38-BA6E-D5B6F614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FFA1-5265-4F89-8DC2-01D811ED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B9D8-6C41-460C-A4D7-9EB7911D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50D4-2CB4-4192-ABF3-A95C41BC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4CD29-B901-4269-897C-E5EFF955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B41C-187E-4429-A913-6ED7482E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519A-375C-46D9-82F1-8E81F5D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3A48-16E7-4C23-B1D5-DAED7A28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309F-61ED-4A75-8FBF-1E907A6FB3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61CA-E6C4-4625-8031-91E622370C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ying Health Within the NLSY(97, 79 &amp; Child,Youth survey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3809880"/>
            <a:ext cx="5791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mela J. Salsb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ge of Nu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cia B. Rea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Econo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 Insurance--Adul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to 89, 90, 92-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s coverage status and who pays for the plan (e.g., private, Medica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set of questions about the children and sp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 Services Utilization- Adults Health at 40 Modul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ervices use (last saw a health provid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for ambulatory use sensitive conditions, like asth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 – Children of the NLS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health limit ability to attend school or play (for preschool children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f health disabling conditions (most frequent are asthma and learning disab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juries and acc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Menarche (fem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 – Children of the NLSY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ngth of ge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nal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epregnancy weigh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moking during pregnanc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rst trimester health care visi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isky Behavio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only of those 10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, alcohol, sexu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 Insurance for the Chil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hild covered by health insurance provided by an employer or an individual pl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hild covered by Medicai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 services u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time had routine health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dental vi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tion—question about required health care—wording leaves open the possibility of needing, but not rece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by psychiatrist, counselor, psych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 Module for Young Adul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limitations—work and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f health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tatus question (Poor to Excell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idents or inju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lity modu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isky behaviors and Health—Young Adul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 report booklet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x &amp; birth contro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rugs &amp; alcoho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bor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 Insurance for the Young Adul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of coverage—parent, employer,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ed by Medicai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utlin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comments about using the NLSY79 and related child files for health relat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data elements available for analysis—adult, child, youth surv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/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 services use—Young Adul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time had routine health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time seen for treatment of an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tion—question about required health care—wording leaves open the possibility of needing, but not rece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LSY 97 Healt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s about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conditions Rounds 1 &amp;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menarche (fem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LSY97 Risky Behavio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&gt;=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garettes, alcohol,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LSY97- Health Insurance and Utilization of Servi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rance coverage- Rounds 1 &amp;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 doctor in past 12 months- Round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earch Applica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childhood overw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irth Outcomes- Mothers are NLSY79 Responden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to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born to teens occurred in the earliest years of the survey—by mid-1980s all respondents were aged 20 --so that if you wish to ask questions about teen births then one must consider whether the time differences are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tudying Birth Outcom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trends in health care – for example “scheduled” preterm deliveries have increased over the last 2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w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stational age—preterm deliv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GA and LGA de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riables of interes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ge of mother, par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terval between pregnanci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evious preterm infa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aternal prepregnancy weigh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isk behaviors of the mother (smoking, drinking, drug use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dividual SES—family income, marital status, educ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termining Prepregnancy BM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ing of data slightly differ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 asked at three time points(1981, 1982, 1983(for women only) and 198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81=400=4 feet, 0 inch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83=feet and inch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85=inch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some out of range val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self-report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reterm Study: Reagan/Salsberry </a:t>
            </a: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Social Science and Medicine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2005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Aim: To examine effect of social context on differences among blacks, whites, and Hispanics in rates of moderately preterm (gestation 33-36 weeks) and very preterm infants (&lt;33 weeks) relative to term birth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y use the NLSY to study health—the positive argumen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2133720"/>
            <a:ext cx="7010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ed in a life course 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ed in sibling models to control for unobserved heterogene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ed in the influence of family context on child heal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extual Measu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time  exposure to income inequality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ion of mother’s life since age 14 that she had spent in a state with a Gini coefficient above the yearly med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indings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s &gt; very pre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births &lt; preterm/very pre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val pregnancies &gt; preterm/very pre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use during pregnancy&gt; preterm/very pre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mulative exposure to income inequality Hispanics &gt; very pre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tudying Child Overweigh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slight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convert to percentile rankings for age and 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CDC program to standardize B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ight in inch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eight in ounc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ge in month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tudying Child Overweigh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d vs. reported 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 asked if child can be measured—if not, then measures are reported by the mother. There is a  follow  up question on how the data were obtained (except for 86—question not asked). Generally 70% or more are measured. We have found that measured heights and weights result in less overweight than the self-report dat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velopment of overweight in Children: Salsberry/Reagan </a:t>
            </a: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Pediatrics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304776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aim:  To examine the timing and extent of early life influences on the development of overweight in children from birth through age 7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ampl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of the NL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LSY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ged mom information, prenatal information, with chil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is study we needed data at four time points—needed birth information,  and interviews at 2/3, 4/5, 6/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regnancy obesity &amp; Smoking during pregnancy &gt; overweight 2/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regnancy obesity &amp; Smoking during pregnancy &gt; overweight 4/6 and 6/8 conditional on prior over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e/ethnic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mments/Discuss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y use the NLSY to study health, continue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ed in maternal influences on the health of her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health of the child’s impact on career trajectories of m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the intersection of multiple influences on health outcomes acros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negative argument or why the NLSY is not good to examine health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ata sets are available that may be more appropriate to your research questions (NHIS, NHANES, MEPS, Medicare’s Current Beneficiary Surve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data on health status early on in NLSY79—related to ability t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negative argument, continue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data is self-re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hysiological measures to confirm diagnosis, no laboratory data (e.g., BPs, Cardiovascular indicators, EK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based sample which can only be used to study relatively common health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dult Health Before Age 4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health limit amount or kind of work respondent can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9, 1980 specific conditions causing lim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 Module for those 40 years of a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SD—7 items (92, 20-items; 94-7 ite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s health status (living/dead, age of death, cause of dea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F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conditions- CVD, diabetes, asth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isky Behaviors and Health—Adults (selected years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 (could be important to track for any asthma stud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t belt use, attitudes towards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iet or exercise hi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20:36:33Z</dcterms:created>
  <dc:creator>Pam</dc:creator>
  <dc:description/>
  <dc:language>en-US</dc:language>
  <cp:lastModifiedBy>reagan</cp:lastModifiedBy>
  <dcterms:modified xsi:type="dcterms:W3CDTF">2007-07-13T20:40:55Z</dcterms:modified>
  <cp:revision>33</cp:revision>
  <dc:subject/>
  <dc:title>Studying Health Within the NLSY</dc:title>
</cp:coreProperties>
</file>