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FCFC-2E55-4794-8DA9-7A8AED439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CCEC-F69C-4905-B9A3-99C6062F2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9212-F9A4-40F0-A72A-95DF2F34A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83D0-48BF-42A8-924D-1126FF8AA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8986-A899-4AE0-B3E0-9B016FCCA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4B7F-4CFF-4172-94FF-B81D4EC34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5A35-559F-466B-B2B8-F29953431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2570-1865-4AFD-878D-5DD0615E4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A117-23A1-4A77-848B-12B27283C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B394-2BEA-443C-A094-5FACC571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68A0-4ECA-49C6-98E0-BB0B6D73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6DB3-79D3-434B-87C6-E7316EF6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8C33A-DEFE-4C7A-961B-E4F7A4352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x, Contraception and Abor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…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executive boardroom?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9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er had sex*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 at first sex*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of contraception at first sex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# of sex partners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past 12 months - # sex partners, # times had sex, # times used bc, bc method used most often (9 choices)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tion about partner etc. at first sex (R4 onwards) (age, race/ethnicity, education of partner, location, relationship status etc.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quency of sex since last intervie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ortions and miscarriages (14+ girls R1, updates M and F R2 onwards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rth control use at time of last pregna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Asked 14+ R1 and R2 and then everyone R3 onw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97 – R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you ever had sexual intercourse, that is made love, had sex, or gone all the way with a person of the opposite sex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lain" startAt="167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lain" startAt="36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id skip = 3577  (who are these valid skips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ng Ad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 at first sex  (asked of children 13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long ago last had s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birth control last s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of birth control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, age and cohabitation status of most recent sexual partner (since 199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 become pregnant and type of birth control used when became pregnant (fema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ants of early se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cohorts might you want to u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research ques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 and cons of each data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careful what you wish for!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Young Adults)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 at first sex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dent 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9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9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98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7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4                     -7               14                -7*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never had s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33520" y="396000"/>
            <a:ext cx="822960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en birth rates declined significantly since peak in 19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rtion rates among teens have also dropp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imately 25% of decline in teen birth rate due to increased abstinence, 75% due to changes in behavior of sexually experienc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ens today more likely to use contraceptives when they first have sex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33520" y="552600"/>
            <a:ext cx="81532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pite declines American teens still have higher pregnancy rates than teens in other Western industrialized count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erican teens also have higher rates of sexually transmitted infections than teenagers in other developed countries : 1 in 4 teens acquire an STI each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rls &gt; bo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831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How might dating relationships be associated with adolescent sexual initi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oes this association differ for males and females and/or by rac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centage of adolescents who had sex between ages 11-12 and 15-16 who reported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ma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ing &lt; first se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9.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9.2*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42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27.5*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58.0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ing = first se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8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3.0*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42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49.1*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34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x &lt; da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7.8*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15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23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7.8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=5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05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09480" y="914040"/>
            <a:ext cx="7848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there a relationship between family processes and the likelihood of an adolescent being sexually active prior to age 17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there a relationship between family processes and contraceptive use at first sex for those adolescents who are sexually active prior to age 17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3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hort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vailable - some similarities and dif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care when …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05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09480" y="9140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mple in 199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s 12 and 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r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ved with m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=2,6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05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09120" y="380520"/>
            <a:ext cx="8001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iveness of moth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ry suppor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what suppor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 very suppor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 mother permissive or stri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nvolved = somewhat supportive/not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ry supportive + permissive (10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horitarian = somewhat supportive/no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ry supportive + strict (13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missive = very supportive + permis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32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horitative = very supportive + stric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45%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05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533160" y="91404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her-Child Relationshi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)  I think highly of my mother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)  She is a person I want to be lik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)  I really enjoy spending time with her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Answer choices:  strongly disagree, disagree, neutral, agree, strongly agre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)  How often does she praise you for doing well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)  How often does she criticize you or your ideas? (revers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ded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)  How often does she help you do things that are important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)  How often does she blame you for her problems? (revers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ded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)  How often does she make plans with you and cancel for n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od reason? (reverse coded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Answer choices:  never, rarely, sometimes, usually, always)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05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219320" y="914040"/>
            <a:ext cx="6400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a typical week, how many days from 0-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you eat dinner with your family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es housework get done when it is supposed to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you do something fun as a family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you do something religious as a family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05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0520" y="914040"/>
            <a:ext cx="81536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much does she know abou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)  your close friends, that is who they are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 your close friends’ parents, that is who they are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)  who you are with when you are not at home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)  who your teachers are and what you are doing in school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Answer choices: (0)  knows nothing, (1) knows just a little,(2) knows some things, (3) knows most things, (4) knows everything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nge = 0-16 with higher scores indicating higher levels of maternal monito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5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sets limits 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late the adolescent can stay ou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they can hang out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kinds of TV and movies they a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owed to view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e scale ranges from 0 (youth sets all limits) to 6 (mother sets all limits)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05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19320" y="533160"/>
            <a:ext cx="640080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mily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ce/ethn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ental edu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ban versus Rural resid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idence in Metropolitan ar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damentalist relig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xual Intercourse Prior to Age 1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7621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gnifica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dds rat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nvolv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+++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miss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horitaria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+++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1.3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tionship with 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- - -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turns to parent(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- - -   (- - -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0.7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mily routin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- - -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 moni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- - -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0.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ting Limi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- - 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- - -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0.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d with steppar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NS   (+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mot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++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+++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2.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d with other adul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++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+++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2.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e: race/ethnicity, parental education, metropolitan, fundamentalist and sex of child also included in analyses.  +/- p&lt;.05  ++/-- p&lt;.01 +++/--- p&lt;.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of Contraception at First Sexual Intercourse Prior to Age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80880" y="7621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gnifica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dds rat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nvolv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N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miss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horitaria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N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tionship with 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+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turns to parent(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NS   (N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mily routin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 moni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+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ting Limi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N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d with steppar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NS   (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mot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N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d with other adul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N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e: race/ethnicity, parental education, metropolitan, fundamentalist and sex of child also included in analyses.  +/- p&lt;.05  ++/-- p&lt;.01 +++/--- p&lt;.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of Contraception at First Sexual Intercourse Prior to Age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Used Contracep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Used Condo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ac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++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span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damentalist Relig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- - 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/- p&lt;.05  ++/-- p&lt;.01 +++/--- p&lt;.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LSY7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-22 in 197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ual surveys 1979-94; biennial through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2 survey points covering ~100% of female childbe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 in 2006: 41-4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LSY9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-17 in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ual surveys 1997-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recent available data: 2004/05 (R8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 in R8: 19-2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LSY79 Young Ad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 and o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ennial surveys 1994-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 in 2006: 14 (will be 15 by end of calendar year) – 35 (1 respond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in 2006: 5844 and #s grow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 of mothers of these young ad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322920"/>
            <a:ext cx="861048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llowing Youth through Later Adolescence/Early Adult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LSY79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4-16 (1979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→  24-26 (1989)  10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LSY-Y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4-16 (1994+) →     24-26 (2004+)  10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LSY9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4-16 (1996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→  22-24 (2004)  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vailab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or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79 – asks about outcome of each pregnancy not ending in live birth (SB  MC AB).  Beginning in 1992, only collected end data of first non-live birth sli but not outcome.  Dates of all abortions are collected year by ye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7 – asks about outcome of each pregnancy not ending in live birth  (SB  MC  AB) -- ties to pregancy + self repor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ng Adults – all direct questions re: abortion and pregnancies not ending in LB dropped in 20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 of asking questions makes real difference to quality of data – 2000 moved to telephone (Young Adults)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7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 had sex (1983, 1984, 1985) – NB youngest person =18 in 1983.  Once answered yes, not asked again.  Those responding “yes” asked age at first intercour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d sex in past month?  + # of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you use birth control?  If yes, what methods?  Frequency of method use (always, sometimes, almost never).  Methods used in past month (from list).  Asked annually 1982-1986 then biennially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6T13:27:22Z</dcterms:created>
  <dc:creator>cooksey</dc:creator>
  <dc:description/>
  <dc:language>en-US</dc:language>
  <cp:lastModifiedBy>cooksey</cp:lastModifiedBy>
  <dcterms:modified xsi:type="dcterms:W3CDTF">2007-07-18T14:59:17Z</dcterms:modified>
  <cp:revision>12</cp:revision>
  <dc:subject/>
  <dc:title>Sex, Contraception and Abortion </dc:title>
</cp:coreProperties>
</file>