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BB3D-C1D5-4535-BF6B-81108573C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8CEA-1752-489D-9957-3D2E1BB2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8090-D58F-45DC-BDF4-9E28B801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4246-B937-43FF-A7AC-EBE1CB07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004E-75FE-4ABF-8592-AD720584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B323-7418-43BE-995A-55B7C726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6D98-70B1-43AC-B1F3-61F71DC7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57B3-6416-425A-9B9A-61D5ACB1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7AA3-6145-4675-8848-52679CB3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6E6D-3611-4268-B12A-9F81DC8E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76A4-CE37-4850-B616-E6C29C6B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150E-D2E9-4C9D-AD5D-EFC84FEB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080B-4919-416B-95C8-FCD5BAC8C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4:24:22Z</dcterms:created>
  <dc:creator>Kelly Johnson</dc:creator>
  <dc:description/>
  <dc:language>en-US</dc:language>
  <cp:lastModifiedBy>Kelly Johnson</cp:lastModifiedBy>
  <dcterms:modified xsi:type="dcterms:W3CDTF">2007-09-21T14:46:13Z</dcterms:modified>
  <cp:revision>5</cp:revision>
  <dc:subject/>
  <dc:title>Slide 1</dc:title>
</cp:coreProperties>
</file>