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106-D96D-4A37-8292-D9BBECA1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42A-245E-4822-8F67-B04B027D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43D-F2FE-4AF5-9777-4697BB80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F66-D94C-4F63-8FB1-2F6D2ACF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AF2-3AFF-4D8C-9787-5FF371EC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F35-0A0B-4D58-AF19-2060C0D4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2E5-5CEF-4377-9A55-BD585B5E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CD2-8216-4237-B684-200A55D8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DE0-E99A-4028-B8A9-9B527A4F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93A-4D55-4547-9DD9-271CB283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E95-0AD6-456B-B2C3-53D80E07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BE1-9D8A-48CF-90D5-8EC9148D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39D0-3C94-4500-8E2B-307C21A2A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3:12:37Z</dcterms:created>
  <dc:creator>Kelly Johnson</dc:creator>
  <dc:description/>
  <dc:language>en-US</dc:language>
  <cp:lastModifiedBy>kjohnson</cp:lastModifiedBy>
  <dcterms:modified xsi:type="dcterms:W3CDTF">2007-09-21T14:16:33Z</dcterms:modified>
  <cp:revision>7</cp:revision>
  <dc:subject/>
  <dc:title>Slide 1</dc:title>
</cp:coreProperties>
</file>