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D4D-8E97-4620-976E-BAD52219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E16-4539-4665-9438-D31BCEFE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1EDE-3E86-4984-8FF1-9A5E4C24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42C-6376-4B15-BC6F-DFDB8BFE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562-8ECD-410A-B3AB-CE579A80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AEC-E6C2-4AE6-9841-2BFD496C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6AF-2BD0-46B8-B48D-648B40EF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369-B792-41BD-8E77-99259798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A00-454C-4709-BD00-2ECE4F3E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213-0A72-49E1-8174-D6FD716A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BE8-4949-4FCB-8459-66065502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639-BDD3-4356-9F3A-88C445E0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바탕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바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바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바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바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바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D147-251F-4691-BEE6-D1AEAB538456}" type="slidenum">
              <a:rPr b="0" lang="en-US" sz="1400" spc="-1" strike="noStrike">
                <a:solidFill>
                  <a:srgbClr val="000000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바탕"/>
              </a:rPr>
              <a:t>NLS Schooling Data:</a:t>
            </a:r>
            <a:br>
              <a:rPr sz="5400"/>
            </a:br>
            <a:r>
              <a:rPr b="1" lang="en-US" sz="4400" spc="-1" strike="noStrike">
                <a:solidFill>
                  <a:srgbClr val="a50021"/>
                </a:solidFill>
                <a:latin typeface="바탕"/>
              </a:rPr>
              <a:t>NLSY79 &amp; NLSY97</a:t>
            </a: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바탕"/>
              </a:rPr>
              <a:t>Family members’ schooling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HGC by R’s mother, father, oldest sib (1979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HGC by R’s current/most recent spouse (1979-82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HGC by each household member (all years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HGC by each sibling (1993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5,918 Rs have sibs in the NLSY79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In 1979, we can form 4,690 sib pairs in 2,467 household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3,152 of these sib pairs “cross-report” HGC in 1993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II.  High School Survey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A one-time survey of respondents’ high schools, conducted in 1980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Each school identified by an NLSY79 respondent was mailed: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One school questionnaire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One student questionnaire for each R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Questionnaires were returned for 8,805 Rs although not all were answered completely. 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Summary of School-Specific Variables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14400" y="990720"/>
          <a:ext cx="7315200" cy="5730840"/>
        </p:xfrm>
        <a:graphic>
          <a:graphicData uri="http://schemas.openxmlformats.org/drawingml/2006/table">
            <a:tbl>
              <a:tblPr/>
              <a:tblGrid>
                <a:gridCol w="5178600"/>
                <a:gridCol w="1068120"/>
                <a:gridCol w="1068480"/>
              </a:tblGrid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e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Total enroll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,9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,35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o. books in libr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,1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,93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 if a program is offered 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gricultural occup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2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usiness/office occup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26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9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distributive educ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2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7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health occup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2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home economics occup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2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trade/industry occup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2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technical occup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2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% of students disadvantag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,94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23.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% average daily attend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,9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8.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% of 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바탕"/>
                        </a:rPr>
                        <a:t>t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graders who do not gradu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,75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.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ontinu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바탕"/>
              </a:rPr>
              <a:t>Summary of School-Specific Variables, cont’d</a:t>
            </a:r>
            <a:endParaRPr b="0" lang="en-US" sz="32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38080" y="762120"/>
          <a:ext cx="7315200" cy="5910120"/>
        </p:xfrm>
        <a:graphic>
          <a:graphicData uri="http://schemas.openxmlformats.org/drawingml/2006/table">
            <a:tbl>
              <a:tblPr/>
              <a:tblGrid>
                <a:gridCol w="5178600"/>
                <a:gridCol w="1068480"/>
                <a:gridCol w="1068120"/>
              </a:tblGrid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e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Percentage of students who a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merican Indian/Alaskan N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.7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sian/Pacific Islan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Hispan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9.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lack (not Hispanic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0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8.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White (not Hispanic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0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9.9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Fema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50.6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Percentage of faculty who a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merican Indian/Alaskan N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04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.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sian/Pacific Islan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03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.3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Hispan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0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2.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lack (not Hispanic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0.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White (not Hispanic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,9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8.3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Fema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,9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7.8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ontinu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바탕"/>
              </a:rPr>
              <a:t>Summary of School-Specific Variables, cont’d</a:t>
            </a:r>
            <a:endParaRPr b="0" lang="en-US" sz="32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143000"/>
          <a:ext cx="7696080" cy="2860560"/>
        </p:xfrm>
        <a:graphic>
          <a:graphicData uri="http://schemas.openxmlformats.org/drawingml/2006/table">
            <a:tbl>
              <a:tblPr/>
              <a:tblGrid>
                <a:gridCol w="5559480"/>
                <a:gridCol w="1068480"/>
                <a:gridCol w="106812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e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umber of FTE counselors in scho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15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.9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umber of FTE teachers in scho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04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8.3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% of FTE teachers with grad deg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,84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7.8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% of FTE teachers left since 197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,9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.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nnual salary for 1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바탕"/>
                        </a:rPr>
                        <a:t>s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year teachers w/ B.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,7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0,7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Summary of Student-Specific Variables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14400" y="762120"/>
          <a:ext cx="7315200" cy="6095880"/>
        </p:xfrm>
        <a:graphic>
          <a:graphicData uri="http://schemas.openxmlformats.org/drawingml/2006/table">
            <a:tbl>
              <a:tblPr/>
              <a:tblGrid>
                <a:gridCol w="5178600"/>
                <a:gridCol w="1068120"/>
                <a:gridCol w="1068480"/>
              </a:tblGrid>
              <a:tr h="35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e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 if currently enroll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7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onth/year last enroll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,04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 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 if reason left school 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raduat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,0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7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Transfer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,0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Expell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,0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Dropped o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,0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,0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Highest grade attended at this scho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6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1.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 if participated i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Remedial Englis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,2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Remedial mathemati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,1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English as a second langu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,13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ilingual educ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,1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ontinu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바탕"/>
              </a:rPr>
              <a:t>Summary of Student-Specific Variables, cont’d</a:t>
            </a:r>
            <a:endParaRPr b="0" lang="en-US" sz="32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880" y="762120"/>
          <a:ext cx="8077320" cy="5486400"/>
        </p:xfrm>
        <a:graphic>
          <a:graphicData uri="http://schemas.openxmlformats.org/drawingml/2006/table">
            <a:tbl>
              <a:tblPr/>
              <a:tblGrid>
                <a:gridCol w="5943600"/>
                <a:gridCol w="990720"/>
                <a:gridCol w="1143000"/>
              </a:tblGrid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e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Percentile score 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alifornia Test of Mental Matur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7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3.4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Otis-Lennon Mental Ability T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55.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Lorge-Thorndike Intelligence T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57.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Henmon-Nelson Test of Mental Matur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7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50.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Kuhlmann-Anderson Intelligence T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6.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Differential Aptitude T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6.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ooperative School and College Ability T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5.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Stanford-Binet Intelligence Sca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27.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Wechsler Intelligence Scale for Childr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3.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First other t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93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6.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Second other t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6.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lso:  Total scores, grade levels when tests were tak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Bottom Line on HS Survey Sample Sizes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Respondents eligible for school survey: </a:t>
            </a: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11,231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Excludes military subsample (n=1,280)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Excludes Rs high schools outside the U.S. (n=175)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Rs with a “completed” school survey:  </a:t>
            </a: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8,805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78% of target sample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Variables with 8,805 valid responses:  </a:t>
            </a: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Rs with valid responses for all 30 school-specific variables:  </a:t>
            </a: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4,594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Rs with valid responses for first 5 student-specific variables:  </a:t>
            </a: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5,438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Rs with percentile score and month/year/grade for at least one standardized test:  </a:t>
            </a: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1,875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III. Transcript Survey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Collection of transcripts of respondents who had graduated from HS.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Collected in 1980, 1981 and 1983.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chools were asked to send copies of each respondent’s transcript (for grades 9-12) along with course catalogs.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Transcripts were provided for 9,010 Rs, although not all are useable. 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Summary of Transcript Variables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14400" y="990720"/>
          <a:ext cx="7315200" cy="5730840"/>
        </p:xfrm>
        <a:graphic>
          <a:graphicData uri="http://schemas.openxmlformats.org/drawingml/2006/table">
            <a:tbl>
              <a:tblPr/>
              <a:tblGrid>
                <a:gridCol w="5178600"/>
                <a:gridCol w="1068120"/>
                <a:gridCol w="106848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e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Days absent, grade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,66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             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rade 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,6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             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rade 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,3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3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             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rade 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,8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3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lass ran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5,6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3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lass siz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5,7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33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ath score, PS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,38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4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Verbal score, PS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,38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0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ath score, S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9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46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Verbal score, S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94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08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ath score, A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,1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7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Verbal score, A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,1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7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onth/year left this scho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34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 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ontinu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바탕"/>
              </a:rPr>
              <a:t>Cohort Overview</a:t>
            </a: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1219320"/>
          <a:ext cx="8763120" cy="5554440"/>
        </p:xfrm>
        <a:graphic>
          <a:graphicData uri="http://schemas.openxmlformats.org/drawingml/2006/table">
            <a:tbl>
              <a:tblPr/>
              <a:tblGrid>
                <a:gridCol w="2895480"/>
                <a:gridCol w="2819520"/>
                <a:gridCol w="3048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irth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LSY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57-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LSY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80-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irst round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irst round 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-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atest rou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atest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ext inter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1-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1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iddle 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igh 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lle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Summary of Transcript Variables, cont’d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14400" y="990720"/>
          <a:ext cx="7315200" cy="5383080"/>
        </p:xfrm>
        <a:graphic>
          <a:graphicData uri="http://schemas.openxmlformats.org/drawingml/2006/table">
            <a:tbl>
              <a:tblPr/>
              <a:tblGrid>
                <a:gridCol w="5178600"/>
                <a:gridCol w="1068120"/>
                <a:gridCol w="1068480"/>
              </a:tblGrid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e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 if reason left school i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raduat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49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7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Transfer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49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Expell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49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Dropped o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49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49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Received G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49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rade level, course 1 (9-1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9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9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Title, course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9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rade received, course 1 (0=F… 4=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8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2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Source of computed grade, course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,8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arnegie credits, course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,89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0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ote:  Course information available for up to 65 course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바탕"/>
              </a:rPr>
              <a:t>Coding Transcripts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Grades were computed in various ways: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Single, final grade for entire year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Average grade over multiple terms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Final grade for one term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Credits were coded using the Carnegie credit system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Full-year course receives 1.0 credits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Other courses pro-rated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Grade level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Summer courses assigned to preceding year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Course title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4-digit codes from </a:t>
            </a:r>
            <a:r>
              <a:rPr b="0" i="1" lang="en-US" sz="2400" spc="-1" strike="noStrike">
                <a:solidFill>
                  <a:srgbClr val="000000"/>
                </a:solidFill>
                <a:latin typeface="바탕"/>
              </a:rPr>
              <a:t>Standard Terminology for Curriculum and Instruction in Local and State School Systems</a:t>
            </a: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 (NCES) 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Sample Transcript 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914400"/>
          <a:ext cx="8305560" cy="4881600"/>
        </p:xfrm>
        <a:graphic>
          <a:graphicData uri="http://schemas.openxmlformats.org/drawingml/2006/table">
            <a:tbl>
              <a:tblPr/>
              <a:tblGrid>
                <a:gridCol w="2361960"/>
                <a:gridCol w="838440"/>
                <a:gridCol w="1218960"/>
                <a:gridCol w="1981440"/>
                <a:gridCol w="838080"/>
                <a:gridCol w="1066680"/>
              </a:tblGrid>
              <a:tr h="3139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ASEID=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re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re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English 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EngIish 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French 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Reading tech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lgebra 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Spanish 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merican Govt. 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eometry 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Typewriting 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iology 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hoi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rt 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Phys. Ed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Driver Ed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Phys. 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Total credi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Total credi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5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ontinued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Sample Transcript, continued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1143000"/>
          <a:ext cx="8305560" cy="4572000"/>
        </p:xfrm>
        <a:graphic>
          <a:graphicData uri="http://schemas.openxmlformats.org/drawingml/2006/table">
            <a:tbl>
              <a:tblPr/>
              <a:tblGrid>
                <a:gridCol w="2361960"/>
                <a:gridCol w="838440"/>
                <a:gridCol w="1218960"/>
                <a:gridCol w="1981440"/>
                <a:gridCol w="838080"/>
                <a:gridCol w="1066680"/>
              </a:tblGrid>
              <a:tr h="299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ASEID=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re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re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Composition 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Humani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merican Li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Speech 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Spanish 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Spanish I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lgebra 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La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Psychology 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rts &amp; Craf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mer. Histo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Phys. Ed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rts &amp; Craf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Phys. Ed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Total credi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5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Total credi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5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raduated June, 1980                     Class rank:  203/432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IV.  Highest Grade Completed (HGC)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HGC is a key measure for research, policy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We want to know its (causal) effect on post-school earnings and other outcomes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In many surveys, HGC (or highest degree) is the sole measure of schooling attainment.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In the NLSY79 (and other NLS cohorts), we can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Compare HGC to other measures of schooling attainment (degrees), achievement (grades, test scores)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Observe enrollment patterns as well as final HGC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Use other schooling information to “correct” HGC when it appears to be in error.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바탕"/>
              </a:rPr>
              <a:t>Example 1:  respondents who leave school once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1981080"/>
          <a:ext cx="8686800" cy="4972320"/>
        </p:xfrm>
        <a:graphic>
          <a:graphicData uri="http://schemas.openxmlformats.org/drawingml/2006/table">
            <a:tbl>
              <a:tblPr/>
              <a:tblGrid>
                <a:gridCol w="1143000"/>
                <a:gridCol w="941400"/>
                <a:gridCol w="942840"/>
                <a:gridCol w="942840"/>
                <a:gridCol w="939960"/>
                <a:gridCol w="942840"/>
                <a:gridCol w="946440"/>
                <a:gridCol w="942840"/>
                <a:gridCol w="944640"/>
              </a:tblGrid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바탕"/>
                        </a:rPr>
                        <a:t>Highest Grade Completed (HG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99"/>
                          </a:solidFill>
                          <a:uFillTx/>
                          <a:latin typeface="바탕"/>
                        </a:rPr>
                        <a:t>CAS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884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25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attending grade 14 in ‘79; not attending in ‘80; date last enrolled 6/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29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 no attendance throughout survey; date last enrolled 1/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ote:  HGC is not re-reported unless R returns to school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Example 2:  respondents who leave school and reenroll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1981080"/>
          <a:ext cx="8610480" cy="4097520"/>
        </p:xfrm>
        <a:graphic>
          <a:graphicData uri="http://schemas.openxmlformats.org/drawingml/2006/table">
            <a:tbl>
              <a:tblPr/>
              <a:tblGrid>
                <a:gridCol w="1143000"/>
                <a:gridCol w="941400"/>
                <a:gridCol w="942840"/>
                <a:gridCol w="942840"/>
                <a:gridCol w="939960"/>
                <a:gridCol w="942840"/>
                <a:gridCol w="946440"/>
                <a:gridCol w="942840"/>
                <a:gridCol w="86832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바탕"/>
                        </a:rPr>
                        <a:t>Highest Grade Completed (HG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99"/>
                          </a:solidFill>
                          <a:uFillTx/>
                          <a:latin typeface="바탕"/>
                        </a:rPr>
                        <a:t>CAS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4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5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ote:  Array of monthly enrollment status should also be used to identify enrollment breaks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Example 3:  respondents whose HGC increases by “too much”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66680" y="1981080"/>
          <a:ext cx="6477120" cy="4114800"/>
        </p:xfrm>
        <a:graphic>
          <a:graphicData uri="http://schemas.openxmlformats.org/drawingml/2006/table">
            <a:tbl>
              <a:tblPr/>
              <a:tblGrid>
                <a:gridCol w="1265400"/>
                <a:gridCol w="1041480"/>
                <a:gridCol w="1042920"/>
                <a:gridCol w="1044360"/>
                <a:gridCol w="1040040"/>
                <a:gridCol w="10429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바탕"/>
                        </a:rPr>
                        <a:t>Highest grade completed (HG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99"/>
                          </a:solidFill>
                          <a:uFillTx/>
                          <a:latin typeface="바탕"/>
                        </a:rPr>
                        <a:t>CAS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2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7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r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these cases necessarily misreport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Example 3, continued:  </a:t>
            </a:r>
            <a:r>
              <a:rPr b="0" lang="en-US" sz="3600" spc="-1" strike="noStrike">
                <a:solidFill>
                  <a:srgbClr val="000000"/>
                </a:solidFill>
                <a:latin typeface="바탕"/>
              </a:rPr>
              <a:t>CASEID=50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33520" y="1219320"/>
          <a:ext cx="8076960" cy="5410080"/>
        </p:xfrm>
        <a:graphic>
          <a:graphicData uri="http://schemas.openxmlformats.org/drawingml/2006/table">
            <a:tbl>
              <a:tblPr/>
              <a:tblGrid>
                <a:gridCol w="3581280"/>
                <a:gridCol w="1425600"/>
                <a:gridCol w="727200"/>
                <a:gridCol w="666720"/>
                <a:gridCol w="625320"/>
                <a:gridCol w="105084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Currently attend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Mo./yr. last enrol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2/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/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ighest grade comple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ighest grade atten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GC on May 1 (crea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as G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Date received G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/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03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ote:  R is 4 months past her 16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바탕"/>
                        </a:rPr>
                        <a:t>t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birthday on 2/76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Example 3, continued:  </a:t>
            </a:r>
            <a:r>
              <a:rPr b="0" lang="en-US" sz="3600" spc="-1" strike="noStrike">
                <a:solidFill>
                  <a:srgbClr val="000000"/>
                </a:solidFill>
                <a:latin typeface="바탕"/>
              </a:rPr>
              <a:t>CASEID=251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14400" y="1143000"/>
          <a:ext cx="7086600" cy="5421240"/>
        </p:xfrm>
        <a:graphic>
          <a:graphicData uri="http://schemas.openxmlformats.org/drawingml/2006/table">
            <a:tbl>
              <a:tblPr/>
              <a:tblGrid>
                <a:gridCol w="3733560"/>
                <a:gridCol w="1295640"/>
                <a:gridCol w="990360"/>
                <a:gridCol w="106704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Currently attend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Mo./yr. last enrol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/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ighest grade comple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ighest grade atten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GC on May 1 (crea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as HS diploma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Date received dipl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/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6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ote:  R is interviewed on 2/79 and 6/81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바탕"/>
              </a:rPr>
              <a:t>NLSY79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Batang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바탕"/>
              </a:rPr>
              <a:t>Overview schooling data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Batang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바탕"/>
              </a:rPr>
              <a:t>Details on high school survey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Batang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바탕"/>
              </a:rPr>
              <a:t>Details on high school transcript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Batang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바탕"/>
              </a:rPr>
              <a:t>Close-up look at “highest grade completed”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Batang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바탕"/>
              </a:rPr>
              <a:t>Comparing “highest grade completed” with                                   “highest degree”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Batang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바탕"/>
              </a:rPr>
              <a:t>Close-up look at monthly enrollment statu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Example 3, continued:  </a:t>
            </a:r>
            <a:r>
              <a:rPr b="0" lang="en-US" sz="3600" spc="-1" strike="noStrike">
                <a:solidFill>
                  <a:srgbClr val="000000"/>
                </a:solidFill>
                <a:latin typeface="바탕"/>
              </a:rPr>
              <a:t>CASEID=88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1066680"/>
          <a:ext cx="8077320" cy="5391360"/>
        </p:xfrm>
        <a:graphic>
          <a:graphicData uri="http://schemas.openxmlformats.org/drawingml/2006/table">
            <a:tbl>
              <a:tblPr/>
              <a:tblGrid>
                <a:gridCol w="4256280"/>
                <a:gridCol w="1476360"/>
                <a:gridCol w="1128600"/>
                <a:gridCol w="1216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Currently attend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Mo./yr. last enrol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/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5/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ighest grade comple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ighest grade atten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GC on May 1 (crea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as HS diploma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Date received dipl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/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ote:  College and enrollment vars reveal that R was enrolled in a liberal arts college from 8/76 to 5/80. He was 1 month past his 23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바탕"/>
                        </a:rPr>
                        <a:t>r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birthday on 5/8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Example 4:  respondents with decreasing HGC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371600"/>
          <a:ext cx="8763120" cy="3429000"/>
        </p:xfrm>
        <a:graphic>
          <a:graphicData uri="http://schemas.openxmlformats.org/drawingml/2006/table">
            <a:tbl>
              <a:tblPr/>
              <a:tblGrid>
                <a:gridCol w="1066680"/>
                <a:gridCol w="660600"/>
                <a:gridCol w="780840"/>
                <a:gridCol w="781200"/>
                <a:gridCol w="779400"/>
                <a:gridCol w="779400"/>
                <a:gridCol w="785880"/>
                <a:gridCol w="781200"/>
                <a:gridCol w="780840"/>
                <a:gridCol w="784440"/>
                <a:gridCol w="782640"/>
              </a:tblGrid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바탕"/>
                        </a:rPr>
                        <a:t>Highest grade completed (HG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바탕"/>
                        </a:rPr>
                        <a:t>CAS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1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ote that seemingly inconsistent HGCs most often occur during colleg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Example 4, continued:  </a:t>
            </a:r>
            <a:r>
              <a:rPr b="0" lang="en-US" sz="3600" spc="-1" strike="noStrike">
                <a:solidFill>
                  <a:srgbClr val="000000"/>
                </a:solidFill>
                <a:latin typeface="바탕"/>
              </a:rPr>
              <a:t>CASEID=20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371600"/>
          <a:ext cx="9067680" cy="4876920"/>
        </p:xfrm>
        <a:graphic>
          <a:graphicData uri="http://schemas.openxmlformats.org/drawingml/2006/table">
            <a:tbl>
              <a:tblPr/>
              <a:tblGrid>
                <a:gridCol w="1306440"/>
                <a:gridCol w="674640"/>
                <a:gridCol w="868320"/>
                <a:gridCol w="889200"/>
                <a:gridCol w="884160"/>
                <a:gridCol w="885960"/>
                <a:gridCol w="893520"/>
                <a:gridCol w="887400"/>
                <a:gridCol w="885960"/>
                <a:gridCol w="892080"/>
              </a:tblGrid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Currently attending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Mo/yr last enrol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/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G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GC on May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876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ote:  Degree data reveal that this R received a HS diploma on 6/77 (at age 17), and a B.S. on 12/86 (at age 27)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Example 4, continued:  </a:t>
            </a:r>
            <a:r>
              <a:rPr b="0" lang="en-US" sz="3600" spc="-1" strike="noStrike">
                <a:solidFill>
                  <a:srgbClr val="000000"/>
                </a:solidFill>
                <a:latin typeface="바탕"/>
              </a:rPr>
              <a:t>CASEID=189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343400"/>
        </p:xfrm>
        <a:graphic>
          <a:graphicData uri="http://schemas.openxmlformats.org/drawingml/2006/table">
            <a:tbl>
              <a:tblPr/>
              <a:tblGrid>
                <a:gridCol w="2971800"/>
                <a:gridCol w="609480"/>
                <a:gridCol w="762120"/>
                <a:gridCol w="685800"/>
                <a:gridCol w="838080"/>
                <a:gridCol w="914400"/>
                <a:gridCol w="914400"/>
                <a:gridCol w="9144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Currently attend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Mo/yr last enrol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9/7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/8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G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GC on Ma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ote:  Degree data reveal that this R received a HS diploma on 6/76 (at age 18) and an associate’s degree on 6/85 (at age 27)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V.  Comparing HGC with Highest Degree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HDEG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: 1988 response to </a:t>
            </a:r>
            <a:r>
              <a:rPr b="0" i="1" lang="en-US" sz="2800" spc="-1" strike="noStrike">
                <a:solidFill>
                  <a:srgbClr val="000000"/>
                </a:solidFill>
                <a:latin typeface="바탕"/>
              </a:rPr>
              <a:t>“What is the name of the highest degree you have ever received?”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바탕"/>
              </a:rPr>
              <a:t>(R2509800)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Not asked if R (a) currently attends school or (b) does not have a high school diploma or GED 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Keep 10,421 respondents who (a) are not currently attending school and (b) have HDEG=1-8 or HDEG=-4 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HGC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:  1988 (or earlier) response to </a:t>
            </a:r>
            <a:r>
              <a:rPr b="0" i="1" lang="en-US" sz="2800" spc="-1" strike="noStrike">
                <a:solidFill>
                  <a:srgbClr val="000000"/>
                </a:solidFill>
                <a:latin typeface="바탕"/>
              </a:rPr>
              <a:t>“What is the highest grade or year of regular school that you have completed and gotten credit for?”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바탕"/>
              </a:rPr>
              <a:t>(R2509000)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Move back in time (1987, 1986…) until a valid response is found.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Keep 10,388 respondents for whom HGC=1-20 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HGC by DEG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976320"/>
          <a:ext cx="8382240" cy="5881680"/>
        </p:xfrm>
        <a:graphic>
          <a:graphicData uri="http://schemas.openxmlformats.org/drawingml/2006/table">
            <a:tbl>
              <a:tblPr/>
              <a:tblGrid>
                <a:gridCol w="932040"/>
                <a:gridCol w="930240"/>
                <a:gridCol w="931680"/>
                <a:gridCol w="932040"/>
                <a:gridCol w="930240"/>
                <a:gridCol w="932040"/>
                <a:gridCol w="931680"/>
                <a:gridCol w="930240"/>
                <a:gridCol w="9320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D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HG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H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ss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Bac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as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G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-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7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25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9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8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-18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04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%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17.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57.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6.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14.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1.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0.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1.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1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% “ok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9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9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9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Example 5:  HGC=16, HDEG=HS diploma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1447920"/>
          <a:ext cx="8763120" cy="4572000"/>
        </p:xfrm>
        <a:graphic>
          <a:graphicData uri="http://schemas.openxmlformats.org/drawingml/2006/table">
            <a:tbl>
              <a:tblPr/>
              <a:tblGrid>
                <a:gridCol w="1066680"/>
                <a:gridCol w="1441440"/>
                <a:gridCol w="692280"/>
                <a:gridCol w="609480"/>
                <a:gridCol w="685800"/>
                <a:gridCol w="762120"/>
                <a:gridCol w="533520"/>
                <a:gridCol w="609480"/>
                <a:gridCol w="609480"/>
                <a:gridCol w="609840"/>
                <a:gridCol w="609480"/>
                <a:gridCol w="533520"/>
              </a:tblGrid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바탕"/>
                        </a:rPr>
                        <a:t>CASEID=1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Currently attending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Mo/yr last enrol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1/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G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GC on May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264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ote:  In 1979 and 1988, R reported a high school diploma received 6/76.  He attended an art college from 9/78 to 11/81 but apparently received no degre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Example 6:  HGC=12, HDEG=B.S.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8600" y="1447920"/>
          <a:ext cx="8763120" cy="4572000"/>
        </p:xfrm>
        <a:graphic>
          <a:graphicData uri="http://schemas.openxmlformats.org/drawingml/2006/table">
            <a:tbl>
              <a:tblPr/>
              <a:tblGrid>
                <a:gridCol w="1066680"/>
                <a:gridCol w="1441440"/>
                <a:gridCol w="692280"/>
                <a:gridCol w="762120"/>
                <a:gridCol w="533160"/>
                <a:gridCol w="762120"/>
                <a:gridCol w="533520"/>
                <a:gridCol w="685800"/>
                <a:gridCol w="533160"/>
                <a:gridCol w="609840"/>
                <a:gridCol w="609480"/>
                <a:gridCol w="53352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바탕"/>
                        </a:rPr>
                        <a:t>CASEID=46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Currently attending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Mo/yr last enrol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6/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5/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G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바탕"/>
                        </a:rPr>
                        <a:t>HGC on May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ote:  In 1989, R reported a high school diploma received 6/79.  He attended community college in April and May of 1983.  In 1988, he reported his highest degree as a B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바탕"/>
              </a:rPr>
              <a:t>Hand Card Used to Identify “Highest Degree” (from 1988 questionnaire)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9.A. (HAND CARD B) What is the name of the highest degree you have ever received?  (CODE ONE ONLY.)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High school diploma (or equivalent)...…….01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Associate/Junior College (AA)…....……….02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Bachelor of Arts Degree (BA)……………..</a:t>
            </a:r>
            <a:r>
              <a:rPr b="0" lang="en-US" sz="18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Bachelor of Science (BS)………………..…04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Master’s Degree (MA, MBA, MS, MSW)....05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Doctoral Degree (PhD)……………………..06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Professional Degree (MD, LLD, DDS)……07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Other (Specify)……………………………...08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바탕"/>
              </a:rPr>
              <a:t>VI.  Monthly Enrollment Status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바탕"/>
              </a:rPr>
              <a:t>Since (month of last interview), in which months were you attending regular school?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Asked only of Rs who have been enrolled since last interview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Asked in every round from 1981 onward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바탕"/>
              </a:rPr>
              <a:t>I.  Overview of schooling data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Respondents’ schooling 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Enrollment (dates enrolled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Attainment (highest grade, degrees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Curriculum (courses taken, college major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School characteristics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Other (attitudes toward school, etc.)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pouses’ schooling attainment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Household members’ schooling attainment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Parents’, siblings’ schooling attainment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Example 7: Monthly Enrollment Status</a:t>
            </a:r>
            <a:br>
              <a:rPr sz="36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바탕"/>
              </a:rPr>
              <a:t>CASEID=119</a:t>
            </a:r>
            <a:r>
              <a:rPr b="1" lang="en-US" sz="2400" spc="-1" strike="noStrike">
                <a:solidFill>
                  <a:srgbClr val="333399"/>
                </a:solidFill>
                <a:latin typeface="바탕"/>
              </a:rPr>
              <a:t> (see example 5)</a:t>
            </a:r>
            <a:endParaRPr b="0" lang="en-US" sz="24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1447920"/>
          <a:ext cx="7772400" cy="3413160"/>
        </p:xfrm>
        <a:graphic>
          <a:graphicData uri="http://schemas.openxmlformats.org/drawingml/2006/table">
            <a:tbl>
              <a:tblPr/>
              <a:tblGrid>
                <a:gridCol w="598320"/>
                <a:gridCol w="597240"/>
                <a:gridCol w="598320"/>
                <a:gridCol w="596880"/>
                <a:gridCol w="598680"/>
                <a:gridCol w="598320"/>
                <a:gridCol w="596880"/>
                <a:gridCol w="598320"/>
                <a:gridCol w="598680"/>
                <a:gridCol w="596880"/>
                <a:gridCol w="598320"/>
                <a:gridCol w="597240"/>
                <a:gridCol w="598320"/>
              </a:tblGrid>
              <a:tr h="52056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onths entered in 1981 interview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J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Fe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p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a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Ju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Ju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u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Se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O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o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De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ote:  interview months are shaded in r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Example 7, continued</a:t>
            </a:r>
            <a:br>
              <a:rPr sz="36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바탕"/>
              </a:rPr>
              <a:t>CASEID=119</a:t>
            </a:r>
            <a:r>
              <a:rPr b="1" lang="en-US" sz="2400" spc="-1" strike="noStrike">
                <a:solidFill>
                  <a:srgbClr val="333399"/>
                </a:solidFill>
                <a:latin typeface="바탕"/>
              </a:rPr>
              <a:t> </a:t>
            </a:r>
            <a:endParaRPr b="0" lang="en-US" sz="24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1295280"/>
          <a:ext cx="8153280" cy="562140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685800"/>
                <a:gridCol w="714240"/>
                <a:gridCol w="598680"/>
                <a:gridCol w="598320"/>
                <a:gridCol w="596880"/>
                <a:gridCol w="539640"/>
                <a:gridCol w="609840"/>
                <a:gridCol w="609480"/>
                <a:gridCol w="685800"/>
                <a:gridCol w="685800"/>
                <a:gridCol w="685800"/>
              </a:tblGrid>
              <a:tr h="52056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onths added in 1982 interview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J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Fe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p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Ma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Ju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Ju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u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Se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O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o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De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1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1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1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1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1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1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Note:  interview months are shaded in r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Additional college-specific data for this R reveal that he entered this college in 9/78.  We can assume that he was enrolled for the entire 1978-79, 1979-80 and 1980-81 academic years, and for the first term of 1981-82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Respondents’ enrollment status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Is 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바탕"/>
              </a:rPr>
              <a:t>currently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 attending or enrolled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[If no] month/year last enrolled, reason left school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Was R enro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바탕"/>
              </a:rPr>
              <a:t>since last interview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[If yes] months enrolled (Jan. ‘80 onward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Has R atten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바탕"/>
              </a:rPr>
              <a:t>college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[If yes] month/year enrolled in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바탕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,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바탕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바탕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 most recent college; whether enrolled full-time or part-time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Enrollment status as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바탕"/>
              </a:rPr>
              <a:t>May 1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 of survey year (created variable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Respondents’ schooling attainment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[If currently enrolled] grade attending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25800" indent="-325800">
              <a:spcBef>
                <a:spcPts val="10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Highest grade attended; highest grade completed (HGC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25800" indent="-325800">
              <a:spcBef>
                <a:spcPts val="10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HGC as of May 1 of survey year (created variable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25800" indent="-325800">
              <a:spcBef>
                <a:spcPts val="10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Does R have high school diploma or GED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05600" indent="-271440">
              <a:spcBef>
                <a:spcPts val="901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[If yes] month/year diploma or GED received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25800" indent="-325800">
              <a:spcBef>
                <a:spcPts val="10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Types of college degrees received (1979-84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25800" indent="-325800">
              <a:spcBef>
                <a:spcPts val="10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Highest degree ever received (1988 onward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05600" indent="-271440">
              <a:spcBef>
                <a:spcPts val="9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Month/year degree received</a:t>
            </a: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Respondents’ curriculum and school characteristics (high school)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1980 High School Survey  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School characteristics (total enrollment, racial/ethnic composition of faculty and student body, etc.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Student characteristics (R’s standardized test scores, whether R took remedial courses, etc.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1980-83 Transcript Survey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Attendance record, class rank, SAT/ACT scores, courses taken, grade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Respondents’ curriculum and school characteristics (colleges)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Major field of study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Location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바탕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바탕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,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바탕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 most recent college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ICE code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바탕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바탕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,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바탕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 most recent college (created variable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Codes used are unique identifiers assigned to each 2-year and 4-year institution in U.S. by the Federal Interagency Committee on Education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Can be used to merge college characteristics from external databases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FICE codes are restricted geocode variable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바탕"/>
              </a:rPr>
              <a:t>Respondents’ additional schooling data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atisfaction with high school (1979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Goals and expectations (1979, 1981, 1982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Highest grade R would like to complete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Highest grade R expects to complete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Time spent at school, studying in last week (1981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Whether R took loans, had financial aid for college (various years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9:36:00Z</dcterms:created>
  <dc:creator>Gardecki</dc:creator>
  <dc:description/>
  <dc:language>en-US</dc:language>
  <cp:lastModifiedBy>Audrey Light</cp:lastModifiedBy>
  <dcterms:modified xsi:type="dcterms:W3CDTF">2007-07-13T18:04:02Z</dcterms:modified>
  <cp:revision>1315</cp:revision>
  <dc:subject/>
  <dc:title>PowerPoint Presentation</dc:title>
</cp:coreProperties>
</file>