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4B79-F0AB-48CC-8A7E-3A42E7D275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7EF3-96EA-4508-B120-58A4A0DE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2966-B6EA-4809-A097-E0F82CD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2660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2532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2660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2532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6F5C-BC4B-481B-B70B-E5C9B74DDB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720"/>
            <a:ext cx="8763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3FD5-9A70-4D91-B3DC-1E2F4A7B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2660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2532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2660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22532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E137-A85E-4FA9-B79E-157AF07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02DC-E350-4CCF-8B03-FA45D276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3915-694E-4E2F-B99B-457A8E7B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720"/>
            <a:ext cx="8763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7465-FB1D-4215-BADC-B984BF0F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5908-7DDA-47BE-8533-275FA0B9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7F7C-7E2A-48AD-B121-E7D2A0BA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24F1-3264-48C4-893C-855B50AF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ffe9ab">
              <a:alpha val="9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9116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09EC-86AA-4BD3-BEDD-3762A62EB7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7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914400" algn="ctr">
              <a:lnSpc>
                <a:spcPct val="125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*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  <a:p>
            <a:pPr lvl="3" marL="1371600" algn="ctr">
              <a:lnSpc>
                <a:spcPct val="125000"/>
              </a:lnSpc>
              <a:spcBef>
                <a:spcPts val="45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lnSpc>
                <a:spcPct val="125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533520"/>
            <a:ext cx="86104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Work History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the key employment-related work history variables in the NLSY79 and NLSY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e selected work history variables for one NLSY79 respondent to see how his employment activities are summariz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lternative ways to measure work experience and job mobility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4C48-1BD6-445C-964B-DE2EFABCBA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5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1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1 interview is held the week of 6/30/91 (week 705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1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674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1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a job that began in week 674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ob does not “stop” in week 705.  The interview week is used as a pseudo-stop week to indicate that the job is ongoin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variable in the Job Information file confirms that the respondent is currently working for this employ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we will refer to this job as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93366"/>
                </a:solidFill>
                <a:uFillTx/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1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n=2,3,4,5)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1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  (n=2,3,4,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other jobs held since the last interview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879B-CC90-48BF-BB08-1EB5443648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762120"/>
            <a:ext cx="8381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is reported information we know that, as of week 705, the respondent’s work history 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7800" y="2209680"/>
            <a:ext cx="8835840" cy="2136240"/>
            <a:chOff x="307800" y="2209680"/>
            <a:chExt cx="8835840" cy="2136240"/>
          </a:xfrm>
        </p:grpSpPr>
        <p:sp>
          <p:nvSpPr>
            <p:cNvPr id="101" name=""/>
            <p:cNvSpPr/>
            <p:nvPr/>
          </p:nvSpPr>
          <p:spPr>
            <a:xfrm>
              <a:off x="2819520" y="3733920"/>
              <a:ext cx="152280" cy="152280"/>
            </a:xfrm>
            <a:prstGeom prst="ellipse">
              <a:avLst/>
            </a:prstGeom>
            <a:solidFill>
              <a:srgbClr val="99336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800" y="3886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0800" y="3886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6280" y="3886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724280" y="3124080"/>
              <a:ext cx="463320" cy="565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95480" y="2742840"/>
              <a:ext cx="83808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38280" y="2209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ob 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g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8640" y="259056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080" y="2514240"/>
              <a:ext cx="487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1 interview 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ob A in prog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3809880"/>
              <a:ext cx="23623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56840" y="3124080"/>
              <a:ext cx="463320" cy="565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33640" y="3809880"/>
              <a:ext cx="1828800" cy="0"/>
            </a:xfrm>
            <a:prstGeom prst="line">
              <a:avLst/>
            </a:prstGeom>
            <a:ln w="41400">
              <a:solidFill>
                <a:srgbClr val="993366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6BB1-9AF7-4A0F-9CF6-9E0538E5D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533520"/>
            <a:ext cx="87631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ASTINT_WK#_199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2 interview is held the week of 6/14/92 (week 75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T_WK is last year’s interview week 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V_EMP#_1992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2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2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previous employer” variable indicates that this year’s job #1 is identical to last year’s job #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inue to refer to this job as </a:t>
            </a:r>
            <a:r>
              <a:rPr b="1" lang="en-US" sz="2400" spc="-1" strike="noStrike" u="sng">
                <a:solidFill>
                  <a:srgbClr val="993366"/>
                </a:solidFill>
                <a:uFillTx/>
                <a:latin typeface="Arial"/>
              </a:rPr>
              <a:t>Job A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E271-08E3-4939-A28F-A2D8AD3425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28600"/>
            <a:ext cx="85345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,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V_EMP#_1992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2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2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art” in week 706.  The last interview week is used as a pseudo-start week to indicate that this job is a continuation of a job reported las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op” in week 755.  The interview week is used as a pseudo-stop week to indicate that the job is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2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n=2,3,4,5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2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  (n=2,3,4,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other jobs held since the last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E3D6-29D3-47D0-A883-DE02827FCA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523880"/>
            <a:ext cx="8382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of week 755, the respondent’s work history 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54440" y="2971800"/>
            <a:ext cx="8816040" cy="1770120"/>
            <a:chOff x="154440" y="2971800"/>
            <a:chExt cx="8816040" cy="1770120"/>
          </a:xfrm>
        </p:grpSpPr>
        <p:sp>
          <p:nvSpPr>
            <p:cNvPr id="117" name=""/>
            <p:cNvSpPr/>
            <p:nvPr/>
          </p:nvSpPr>
          <p:spPr>
            <a:xfrm flipH="1">
              <a:off x="4738680" y="3666600"/>
              <a:ext cx="546120" cy="453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718720" y="3336840"/>
              <a:ext cx="873360" cy="81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6640" y="2971800"/>
              <a:ext cx="24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ob A beg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4480" y="335268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19560" y="3352680"/>
              <a:ext cx="24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1 int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440" y="43192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16440" y="3155040"/>
              <a:ext cx="235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2 int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ob A in progress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496280" y="3803040"/>
              <a:ext cx="491400" cy="371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1480" y="42724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8640" y="4226040"/>
              <a:ext cx="2057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1360" y="4237200"/>
              <a:ext cx="199296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70680" y="3664080"/>
              <a:ext cx="546120" cy="453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1680" y="4237200"/>
              <a:ext cx="272988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11200" y="437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67960" y="437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465B-4A51-4EE6-B688-32E94821F2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152280"/>
            <a:ext cx="876312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8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ASTINT_WK#_19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 interview is held the week of 7/4/93 (week 8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T_WK is last year’s interview week 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V_EMP#_1993_JOB#0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3_JOB#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3_JOB#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6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previous employer” variable indicates that this year’s job #2 is identical to last year’s job #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art” in week 756.  The last interview week is used as a pseudo-start week to indicate that this job is a continuation of a job reported las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ed the week of 9/6/92 (week 767); this is the job’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p 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CD46-B196-4A42-AF5C-0FAE43963B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, contin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3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71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3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8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a new job that began the week of 10/4/9 (week 771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we refer to this new job as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op” in week 810.  The interview week is used as a pseudo-stop date to indicate that the job is ongoing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2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3_JOB#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    (n=3,4,5)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3_JOB#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     (n=3,4,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other jobs held since the last interview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FB5C-4765-43A9-BBC1-DA40ACF06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09480"/>
            <a:ext cx="876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of week 810, his work history looks like th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440" y="1523880"/>
            <a:ext cx="9142200" cy="2669400"/>
            <a:chOff x="1440" y="1523880"/>
            <a:chExt cx="9142200" cy="2669400"/>
          </a:xfrm>
        </p:grpSpPr>
        <p:sp>
          <p:nvSpPr>
            <p:cNvPr id="136" name=""/>
            <p:cNvSpPr/>
            <p:nvPr/>
          </p:nvSpPr>
          <p:spPr>
            <a:xfrm>
              <a:off x="4150440" y="3719160"/>
              <a:ext cx="87336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71080" y="3032640"/>
              <a:ext cx="39348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447200" y="2154240"/>
              <a:ext cx="1066680" cy="1414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3640" y="16711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 A beg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80" y="2443320"/>
              <a:ext cx="136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233100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1 inte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0" y="3855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02760" y="38282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2600" y="38556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2160" y="23680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2 inte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90760" y="3032640"/>
              <a:ext cx="38736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1320" y="3855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9400" y="3855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51760" y="152388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 A e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050800" y="2206440"/>
              <a:ext cx="1066680" cy="1414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24880" y="2233800"/>
              <a:ext cx="1066680" cy="13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44000" y="155124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g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40120" y="38451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772400" y="3108600"/>
              <a:ext cx="38736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92960" y="38451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560" y="218880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3 inte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Job B in progress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0520" y="3052800"/>
              <a:ext cx="39348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00" y="3719160"/>
              <a:ext cx="1119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6840" y="3719160"/>
              <a:ext cx="144720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48760" y="3719160"/>
              <a:ext cx="120132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25240" y="3719160"/>
              <a:ext cx="182916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8520" y="3719160"/>
              <a:ext cx="819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4153-D595-4B8D-ACE0-E0AC375DC7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348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Job Start Dates and Stop Da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3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may wish to create their own variables identifying the “true” start week and stop week of each job h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e might create the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x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start week of job x, where x indexes the 1st through last job encountered in chronological order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4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x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stop week of job x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4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ENx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 if job x is right-censored (in progress when the respondent is last interviewed) and 0 otherwis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2D5B-8EDB-4BEF-A50B-D82C0A61D2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0773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our respondent (CASEID=15) were only seen from 1990 to 1993, these variables would take on the following val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7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1828800"/>
          <a:ext cx="5181840" cy="1219320"/>
        </p:xfrm>
        <a:graphic>
          <a:graphicData uri="http://schemas.openxmlformats.org/drawingml/2006/table">
            <a:tbl>
              <a:tblPr/>
              <a:tblGrid>
                <a:gridCol w="3141720"/>
                <a:gridCol w="204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TART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TART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TOP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TOP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EN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EN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33520" y="3200400"/>
            <a:ext cx="807696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If we begin following this respondent in 1979,  Job A is not his first job. Similarly, if we follow him beyond 1993, Job B is followed by several additional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ditional information, se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LSY79 APPENDIX 9: “LINKING EMPLOYERS THROUGH SURVEY YEA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16CE-A01B-4C66-BA87-00E707D9CE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32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 of Employment-Related Work History Variables in the NLSY79 and NLSY9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7FC6-FBB0-47F5-A0D4-28875713FA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66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’s weekly labor force status is described by the array of variables name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TUS_WK_NUM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xx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variables can take on the following val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no information reported for week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not working (unemployed vs. OLF not determined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ssociated with employer (gaps missing; time                 unaccounted for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unemployed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ut of labor force (OLF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ctive military service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xxn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employed (xx is round; nn is job number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80880" y="1515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eekly Labor Force Stat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EEF8-4F06-4F83-A23D-FFCD7BB16C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4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0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65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658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OLF at the interview date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4-week OLF spell is preceded by an 8-week unemployment spell that began in week 647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 will learn “next year,” this period of unemployment/OLF will continue for several more week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DB43-E80E-47E6-BC2D-3C8C247B15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1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7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7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0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year’s” period of unemployment/OLF continued through week 673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he is now holding a job (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at began in week 674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week 674 to the current interview week, he is employ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job #1 reported in 1991 (r13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3985-180F-4C90-8C33-AAF0DC3F20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534520" cy="47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5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4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5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he has worked continuously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the last interview date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the last interview week to the current interview week he is employ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job #1 reported in 1992 (r14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1E82-BBA0-4752-A9E9-20651B7016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5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STATUS_WK_NUM 76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5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76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7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8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5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ed in week 767 &amp;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gan in week 77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the last interview week to week 767 he is employ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 job #2 reported in 1993 (r15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week 771 to the current interview week he is employed o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job #1 reported in 1993 (r15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he was unemployed for the 3 weeks betwee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C61E-946E-4AC5-8E7E-4D37264913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5335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addition of the information in the status array, we know that this portion of the work history looks like th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88080" y="1908000"/>
            <a:ext cx="8755560" cy="3453480"/>
            <a:chOff x="388080" y="1908000"/>
            <a:chExt cx="8755560" cy="3453480"/>
          </a:xfrm>
        </p:grpSpPr>
        <p:sp>
          <p:nvSpPr>
            <p:cNvPr id="177" name=""/>
            <p:cNvSpPr/>
            <p:nvPr/>
          </p:nvSpPr>
          <p:spPr>
            <a:xfrm>
              <a:off x="91692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728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432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696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540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576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07960" y="3491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08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276360" y="2671920"/>
              <a:ext cx="393480" cy="53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24440" y="487656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ob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19080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2160" y="194976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1 int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7440" y="20073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2 int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453560" y="2672280"/>
              <a:ext cx="387000" cy="53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7120" y="4876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ob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030520" y="2699640"/>
              <a:ext cx="387000" cy="53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2085480"/>
              <a:ext cx="159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3 int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295280" y="2673720"/>
              <a:ext cx="393480" cy="53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3121560" y="2835360"/>
              <a:ext cx="1148400" cy="3124080"/>
            </a:xfrm>
            <a:custGeom>
              <a:avLst/>
              <a:gdLst>
                <a:gd name="textAreaLeft" fmla="*/ 733680 w 1148400"/>
                <a:gd name="textAreaRight" fmla="*/ 1148760 w 114840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326"/>
                  </a:lnTo>
                  <a:cubicBezTo>
                    <a:pt x="10800" y="10326"/>
                    <a:pt x="5400" y="10326"/>
                    <a:pt x="0" y="10326"/>
                  </a:cubicBezTo>
                  <a:cubicBezTo>
                    <a:pt x="5400" y="10326"/>
                    <a:pt x="10800" y="10326"/>
                    <a:pt x="10800" y="10326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6436080" y="3483000"/>
              <a:ext cx="1148400" cy="1828440"/>
            </a:xfrm>
            <a:custGeom>
              <a:avLst/>
              <a:gdLst>
                <a:gd name="textAreaLeft" fmla="*/ 733680 w 1148400"/>
                <a:gd name="textAreaRight" fmla="*/ 1148760 w 1148400"/>
                <a:gd name="textAreaTop" fmla="*/ 0 h 1828440"/>
                <a:gd name="textAreaBottom" fmla="*/ 182880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326"/>
                  </a:lnTo>
                  <a:cubicBezTo>
                    <a:pt x="10800" y="10326"/>
                    <a:pt x="5400" y="10326"/>
                    <a:pt x="0" y="10326"/>
                  </a:cubicBezTo>
                  <a:cubicBezTo>
                    <a:pt x="5400" y="10326"/>
                    <a:pt x="10800" y="10326"/>
                    <a:pt x="10800" y="10326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5246280" y="3834720"/>
              <a:ext cx="861480" cy="837720"/>
            </a:xfrm>
            <a:custGeom>
              <a:avLst/>
              <a:gdLst>
                <a:gd name="textAreaLeft" fmla="*/ 550440 w 861480"/>
                <a:gd name="textAreaRight" fmla="*/ 861840 w 861480"/>
                <a:gd name="textAreaTop" fmla="*/ 17280 h 837720"/>
                <a:gd name="textAreaBottom" fmla="*/ 82044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20"/>
                    <a:pt x="10800" y="1440"/>
                  </a:cubicBezTo>
                  <a:lnTo>
                    <a:pt x="10800" y="9360"/>
                  </a:lnTo>
                  <a:cubicBezTo>
                    <a:pt x="10800" y="10080"/>
                    <a:pt x="5400" y="10800"/>
                    <a:pt x="0" y="10800"/>
                  </a:cubicBezTo>
                  <a:cubicBezTo>
                    <a:pt x="5400" y="10800"/>
                    <a:pt x="10800" y="11520"/>
                    <a:pt x="10800" y="12240"/>
                  </a:cubicBezTo>
                  <a:lnTo>
                    <a:pt x="10800" y="20160"/>
                  </a:lnTo>
                  <a:cubicBezTo>
                    <a:pt x="10800" y="2088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48320" y="47808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Unem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943200" y="3493800"/>
              <a:ext cx="861480" cy="1519560"/>
            </a:xfrm>
            <a:custGeom>
              <a:avLst/>
              <a:gdLst>
                <a:gd name="textAreaLeft" fmla="*/ 550440 w 861480"/>
                <a:gd name="textAreaRight" fmla="*/ 861840 w 861480"/>
                <a:gd name="textAreaTop" fmla="*/ 39600 h 1519560"/>
                <a:gd name="textAreaBottom" fmla="*/ 1479960 h 15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8440" y="478080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Unemployment or OL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4080" y="3327840"/>
              <a:ext cx="600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2280" y="3327840"/>
              <a:ext cx="955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87720" y="3327840"/>
              <a:ext cx="109188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79960" y="3327840"/>
              <a:ext cx="111924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26560" y="3327840"/>
              <a:ext cx="79164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45920" y="3327840"/>
              <a:ext cx="92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4360" y="3327840"/>
              <a:ext cx="180180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05B6-4339-4A9B-A083-A64B878381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788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Weekly Hours Work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0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’s weekly work effort is described by the array of variables: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RS_WORKED_WK_NUMxxx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variables giv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ual weekly hou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d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uring the particular week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F509-494F-44E2-B963-BF78BBAE2B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3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0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65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5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658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the respondent is unemployed or OLF from week 647 to week 658 (and beyond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that he work zero hours during each week of the unemployment/OLF spell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C16B-126D-4743-A1FD-9FA4D2BE12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4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1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5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7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7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0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that he worked zero hours for the duration of “last year’s” unemp/OLF spell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the respondent bega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week 674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705, the respondent reports his “usual weekly hours”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be 50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50 hours for every week since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gan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5088-A1F6-45C4-912B-2D7C4F2679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4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5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5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the respondent has work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the last interview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755, the respondent reports his “usual weekly hours”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be 55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55 hours in every week since the last interview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DE02-C611-4F75-A152-678E9918D8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41560"/>
            <a:ext cx="8991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NLSY79 &amp; NLSY97 Weekly Array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280" y="1523880"/>
          <a:ext cx="8763120" cy="2819160"/>
        </p:xfrm>
        <a:graphic>
          <a:graphicData uri="http://schemas.openxmlformats.org/drawingml/2006/table">
            <a:tbl>
              <a:tblPr/>
              <a:tblGrid>
                <a:gridCol w="2362320"/>
                <a:gridCol w="3373560"/>
                <a:gridCol w="302724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NLSY79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NLSY97 QNa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abor force statu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STATUS_WK_NUMx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STATUS.year.w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ours worked per we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HOURS_WORKED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WK_NUMx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HOURS.year.w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ual job statu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JOB_WK_NUMxxxx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DUALJOB_NUM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DUAL_x_year.w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85800" y="4798800"/>
            <a:ext cx="75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rray contains one variable per wee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ek 1 begins on January 1, 1978 in the NLSY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75B7-296F-483B-B97D-231B0FC32D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8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5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6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6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8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810, the respondent reports his “usual weekly hours”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hich ended in week 767) to be 50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810, the respondent reports his “usual weekly hours” o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hich began in week 771) to be 40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that he worked zero hours during each week of the intervening unemployment spell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7900-B537-498E-9576-64B793C2A1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3120"/>
            <a:ext cx="77724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3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ing Work Experi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Job Mobility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xamples from the NLSY79 (and YA)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15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. Cumulative Work Experi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6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oss-sectional surve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ata on actual work experience are scar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a result, we often use “Age-Schooling-6” as a proxy for work experie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interview date, the respondent reports hi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years of schooling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pproximate his school exit date as a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+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is experience as the time elapsed since that date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3000" y="4800600"/>
            <a:ext cx="6324120" cy="1460880"/>
            <a:chOff x="1143000" y="4800600"/>
            <a:chExt cx="6324120" cy="1460880"/>
          </a:xfrm>
        </p:grpSpPr>
        <p:sp>
          <p:nvSpPr>
            <p:cNvPr id="218" name=""/>
            <p:cNvSpPr/>
            <p:nvPr/>
          </p:nvSpPr>
          <p:spPr>
            <a:xfrm>
              <a:off x="1143000" y="5701680"/>
              <a:ext cx="5799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61960" y="5326920"/>
              <a:ext cx="49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231920" y="5346720"/>
              <a:ext cx="24840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65800" y="5756400"/>
              <a:ext cx="1366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sumed to beg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18280" y="5756400"/>
              <a:ext cx="1365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sumed to end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05360" y="5729760"/>
              <a:ext cx="166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viewed (report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g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637080" y="5346720"/>
              <a:ext cx="285840" cy="38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161040" y="5346720"/>
              <a:ext cx="24840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6200000">
              <a:off x="1683360" y="4885920"/>
              <a:ext cx="163800" cy="59364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15480 h 593640"/>
                <a:gd name="textAreaBottom" fmla="*/ 57816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rot="16200000">
              <a:off x="2766960" y="4395960"/>
              <a:ext cx="163800" cy="157356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41040 h 1573560"/>
                <a:gd name="textAreaBottom" fmla="*/ 1532520 h 157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16200000">
              <a:off x="4935600" y="3801960"/>
              <a:ext cx="163800" cy="276120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72000 h 2761200"/>
                <a:gd name="textAreaBottom" fmla="*/ 2689200 h 276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063160" y="534672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8920" y="4800600"/>
              <a:ext cx="5799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56440" y="4800600"/>
              <a:ext cx="5799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68320" y="4800600"/>
              <a:ext cx="1365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-S-6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87E2-CC07-4AAF-AF2C-F0ADBE3633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LS da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e have many options for measuring work experience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not “start the clock” on work experience at age S+6.  We can pick any date as the starting date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also pick any date as the stopping date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not measure experience as “elapsed time.”  Instead, we can count the number of week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d, the (usual) number of hours worked, etc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D060-D2FA-4E5E-8B41-8F593AD68F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960" y="304560"/>
            <a:ext cx="8915400" cy="65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ing on one’s substantive focus, possibilities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actual date of school exit (e.g., first exit, last exit, or first exit lasting at least N months)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e the date of college entry an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date of college exit; this allows us to measure work experience gained while in college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a particular age (e.g., the 18th birthday).  This allows us to measure all respondents’ work experience from a uniform date regardless of their school enrollment behavior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job start date an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job stop date.  This allows us to measure experience with a particular employer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00200" y="2057400"/>
            <a:ext cx="5291280" cy="1452960"/>
            <a:chOff x="1600200" y="2057400"/>
            <a:chExt cx="5291280" cy="1452960"/>
          </a:xfrm>
        </p:grpSpPr>
        <p:sp>
          <p:nvSpPr>
            <p:cNvPr id="236" name=""/>
            <p:cNvSpPr/>
            <p:nvPr/>
          </p:nvSpPr>
          <p:spPr>
            <a:xfrm>
              <a:off x="1600200" y="2958480"/>
              <a:ext cx="5796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18800" y="2583720"/>
              <a:ext cx="497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88760" y="2603520"/>
              <a:ext cx="24876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22280" y="3012840"/>
              <a:ext cx="12067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g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8160" y="2971800"/>
              <a:ext cx="12571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ual school exit date (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915080" y="2628720"/>
              <a:ext cx="285840" cy="38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16200000">
              <a:off x="3121200" y="1756800"/>
              <a:ext cx="163800" cy="136512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35280 h 1365120"/>
                <a:gd name="textAreaBottom" fmla="*/ 1329840 h 13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20720" y="260352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71800" y="2057400"/>
              <a:ext cx="579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rot="16200000">
              <a:off x="4546440" y="2146680"/>
              <a:ext cx="163800" cy="57132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14760 h 571320"/>
                <a:gd name="textAreaBottom" fmla="*/ 55656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760" y="2057400"/>
              <a:ext cx="579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2971800"/>
              <a:ext cx="1028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eak from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000680" y="2628720"/>
              <a:ext cx="114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DD97-6C4E-4CFD-B67D-61306B2E8B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61048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ng the unit of measurem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ilities inclu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umulativ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number of month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(or 4-week intervals) in which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any experienc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was gained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umulativ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number of week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in which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any experienc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was gained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umulativ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number of week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in which the individual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worked full-tim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(e.g., usual hours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35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umulativ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number of (usual) hours worked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4FB0-7CD8-4EF7-8C69-D7E825C943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30348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PER1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cumulative weeks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 experi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gained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FS1-LFS140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variables containing elements of the array STATUS_WK_NUMxxx for weeks 1 (1/1/78) through 1409 (12/26/04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start and stop weeks between which we wish to measure work experience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atus (1409) LFS1-LFS1409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1=0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o k=T1 to T2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3" marL="158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status(k)&gt;7 then EXPER1=EXPER1+1;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1=EXPER1/52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this strategy counts military service and “unknown” weeks as 0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FFAF-1F89-4F81-ACD2-CB9F64412E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2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PER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mulative hou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d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RS1-HRS140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variables containing elements of the arra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OURS_WORKED_WK_NUMxx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weeks 1 (1/1/78) to 1409 (12/26/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start and stop wee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hrs (1409) HRS1-HRS1409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2=0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o k=T1 to T2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3" marL="15840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hrs(k)&gt;0 then EXPER2=EXPER2+HRS(k);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2=EXPER2/2000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35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this strategy counts “unknown” weeks as HRS=0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8309-F739-4A9F-9C4C-9ACCA39CD8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6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 if a job is held at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0 otherwi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contrast to the preceding examples, this is not a measure of cumulative experienc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RT1-START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STOP1-STOP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r-created variables representing the start and stop dates of every job he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ke the example concrete, assume X=40 (i.e., 40 is the maximum number of jobs reported by any 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ate of interest (e.g., a given ag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ARTS (40) START1-START4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OPS (40) STOP1-STOP4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JOB=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T1&gt;0 then do k=1 to 40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3" marL="158400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STARTS&lt;=T1&lt;=STOPS then JOB=1;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BFD8-34D6-44CC-B451-0BF337E2A2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, continu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9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week of the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rth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NLSY79 mothers &amp; their YA daugh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7920" y="2362320"/>
          <a:ext cx="5790960" cy="3686040"/>
        </p:xfrm>
        <a:graphic>
          <a:graphicData uri="http://schemas.openxmlformats.org/drawingml/2006/table">
            <a:tbl>
              <a:tblPr/>
              <a:tblGrid>
                <a:gridCol w="2106360"/>
                <a:gridCol w="1263960"/>
                <a:gridCol w="1263600"/>
                <a:gridCol w="1157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 holds job at age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447920" y="1523880"/>
          <a:ext cx="5790960" cy="878040"/>
        </p:xfrm>
        <a:graphic>
          <a:graphicData uri="http://schemas.openxmlformats.org/drawingml/2006/table">
            <a:tbl>
              <a:tblPr/>
              <a:tblGrid>
                <a:gridCol w="579096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ughter holds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age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84CC-B5C3-4FF3-B13E-7CC9B22BB5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27880"/>
            <a:ext cx="8991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Other Employment Variables (NLSY79 &amp; NLSY97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143000"/>
          <a:ext cx="8534520" cy="5405400"/>
        </p:xfrm>
        <a:graphic>
          <a:graphicData uri="http://schemas.openxmlformats.org/drawingml/2006/table">
            <a:tbl>
              <a:tblPr/>
              <a:tblGrid>
                <a:gridCol w="2202120"/>
                <a:gridCol w="2522520"/>
                <a:gridCol w="38098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NLSY79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NLSY97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art date (jo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START_WK#_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START_WEEK_syr.job# EMP_START_YEAR_syr.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op date (jo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STOP_WK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END_WEEK_syr.job# EMP_END_YEAR_syr.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art date (within-job ga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ER#_START_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START_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START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op date (within-job ga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ER#_STOP_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END_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END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77F7-4F8A-4B9B-8350-C52D1A7ADE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2788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B. Cumulative Number of Jobs H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2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may wish to meas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number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g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ny two points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from school exit to the interview date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number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ny two points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number of job-to-job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ny two points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DB38-0B4C-459E-9568-79E8F8C1E0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1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BEG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#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g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END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#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RT1-START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OP1-STOP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r-created variables representing the start and stop dates of every job held;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EN1-CEN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r-created variables equal to 1 if the job is right-censored, and 0 otherwi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ke the example concrete, assum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x=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i.e., 40 is the maximum number of jobs reported by any respond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start and stop weeks between which we will obtain our job cou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7313-3C41-4039-87F4-6B581BC161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4, contin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ARTS (40) START1-START4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OPS (40) STOP1-STOP4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CENS (40)  CEN1-CEN4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JOBBEG=0;     JOBEND=0; 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o k=1 to 4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 T1&lt;=STARTS(k)&lt;=T2 then  JOBBEG=JOBBEG+1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(T1&lt;=STOPS(k)&lt;=T2 and CENS=0) then JOBEND=JOBEND+1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870C-9527-41D9-BD27-FBBF7E4B92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0548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Other Employment Variables (NLSY7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990720"/>
          <a:ext cx="8686800" cy="4838760"/>
        </p:xfrm>
        <a:graphic>
          <a:graphicData uri="http://schemas.openxmlformats.org/drawingml/2006/table">
            <a:tbl>
              <a:tblPr/>
              <a:tblGrid>
                <a:gridCol w="4027680"/>
                <a:gridCol w="1104840"/>
                <a:gridCol w="35542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vey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NLSY79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date   (period not working between job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BSTART_year_PERIOD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 date   (period not working between job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BSTOP_year_PERIOD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date   (military serv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IL_START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 date   (military serv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IL_STOP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ek of the current intervie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CURRINT__WK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ek of the last intervie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ASTINT__WK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b number assigned to employer from last intervie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PREV_EMP#_year_JOB#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113B-EC6D-4959-AB8E-ADA07925B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Other Employment Variables (NLSY9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066680"/>
          <a:ext cx="8686800" cy="5051520"/>
        </p:xfrm>
        <a:graphic>
          <a:graphicData uri="http://schemas.openxmlformats.org/drawingml/2006/table">
            <a:tbl>
              <a:tblPr/>
              <a:tblGrid>
                <a:gridCol w="4489560"/>
                <a:gridCol w="1073160"/>
                <a:gridCol w="3124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vey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LSY97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eeks prior to DLI in which the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STATUS.year.w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ariable would have changed had this job been included in the last intervie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BK_STATUS_sy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eeks prior to DLI that job beg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BK_WKS_sy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hours prior to DLI that would have been included in the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HOURS.year.w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array had this job been included in the last intervie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BK_HOURS_sy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C11D-2B3B-4F7F-9C46-1EFDCFBEF5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18600"/>
            <a:ext cx="822960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ine Selected Work History Variables for one NLSY79 Respond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4EF4-93A6-472A-95A7-3F2CE159A0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48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Respond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follow a single NLSY79 respondent  (CASEID=15) from 1990 to 1993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amples show how selected work history variables convey this respondent’s employment activit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66B9-EEA8-4054-B97D-F07EEA52FD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48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Job Start Dates and Stop Da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0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65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 interview is held the week of 8/5/90 (week 658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0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for n=1,2,3,4,5)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0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for n=1,2,3,4,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current job, and no jobs held since the last interview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AE7A-1040-4138-877C-5857FC0D7A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22:57:23Z</dcterms:created>
  <dc:creator>Rini Das</dc:creator>
  <dc:description/>
  <dc:language>en-US</dc:language>
  <cp:lastModifiedBy>Audrey Light</cp:lastModifiedBy>
  <dcterms:modified xsi:type="dcterms:W3CDTF">2007-07-13T19:20:19Z</dcterms:modified>
  <cp:revision>43</cp:revision>
  <dc:subject/>
  <dc:title>Overview of Employment-Related Event History Variables in the NLSY79 and NLSY97 </dc:title>
</cp:coreProperties>
</file>