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37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바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바탕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ftr" idx="38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 type="sldNum" idx="39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F1D2-9AE3-43D6-B75B-407954C7370D}" type="slidenum">
              <a:rPr b="0" lang="en-US" sz="1200" spc="-1" strike="noStrike">
                <a:solidFill>
                  <a:srgbClr val="000000"/>
                </a:solidFill>
                <a:latin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A39-FC6C-466C-B480-A336FAD80D29}" type="slidenum">
              <a:rPr b="0" lang="en-US" sz="1200" spc="-1" strike="noStrike">
                <a:solidFill>
                  <a:srgbClr val="000000"/>
                </a:solidFill>
                <a:latin typeface="바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바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D22-EDA4-40C5-9E64-529DA5AE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4DB-9115-4628-8B38-F51CE64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967A1-3713-4C0A-B3D9-3E2AD51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BC19-E46C-4768-8F32-C6031A1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EA5F6-3527-4E7C-AEC9-41ED9552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F3722-8456-44A4-ABB9-FCE1C50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81CA7-01DE-4A2F-BD15-6CEC9A6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6154-CCEE-42D3-81E8-22A3A716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9E791-54A6-41A0-9D07-CC2547E8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48C0B-2197-43DD-8E0F-2F77043A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7875-28D2-4764-9151-ECA18E99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FC680D-956F-4B2A-AF1D-40402F7C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1A7-B38A-4CAA-A3B9-B719C1D4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82EB79-677A-49ED-A450-03F2A68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7F7F7-1984-43A9-A403-9299809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7828A0-351C-4B59-A908-66D46AA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AB9054-5CAB-4633-8B72-9E51782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AD6E26-ABC0-40C3-801D-50E62718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CC49C1-BDA0-4AB4-BBD5-D6BE7F9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417BB4-772B-43D2-84B5-13695CF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406CF-D24E-43D9-9A93-62AB66D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DA7434-E622-43AD-8174-9DB449A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5A1E3-B876-4A0D-A41E-E3457360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A26-9D90-4534-B611-1B9FD083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2F008A-7410-480B-80D5-FDB2A69F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0A4C9-36F5-4E1C-8BC0-A8B6E499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C7EE1-B1E5-4A59-B5D6-2B17FF7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AF302-8274-4EDC-8946-537865A1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0DE5F-0A08-401E-88F7-12E67A65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07AE1-C7CD-4FF9-8DFB-C428A6A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3793-60D2-49BF-8D11-0CEFA830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E9C15-E1C0-4154-8141-854EF04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500AC-E5A6-4884-8055-B5E5A73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E7AFA-2504-4FFF-9655-853ADF1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03D9-8BEF-48CB-A196-747FA455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18B4-3F08-4622-AC8C-EACD8DFE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6882E-A53B-4855-B8F0-82536841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2272C-D908-4773-A334-5E2258F4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D7B5B-9AC6-4F2F-8364-CB4CA037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871B6-BACB-4C78-B853-C3B9251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40A95-0AE4-4CEF-8218-1EF62956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D5264-AE9F-462B-8DBF-D8DCCCDC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869BB-68CD-4364-BDE3-3AF0EC67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2B2EC-0EC6-475E-8073-CF940534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A3BA6-4A78-4FF8-B861-13E90DC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22DE-6728-41BB-AA04-1CE852F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9BD4A-0905-4A5C-81F7-D44F0AC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BB817-B400-410B-90F1-5163E8D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7BBAB-E4BD-4C7D-AD55-2D92E0C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2106A-E110-4AD3-B226-F543D10C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F89F1-3F3D-4F1E-A004-CE399CBE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A8C-0F75-420A-A9EE-EF1E5C5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C5C-AFBA-4C6A-AB29-C20033F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E072-703A-45FC-8C74-04D68F35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709-02FA-4D7C-80D2-4B848EA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3781-B46E-425D-905A-75BDE970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B73-ED11-4131-9B0E-28B181E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C99-C734-4D1F-8E4C-FA0B460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658-6723-4988-8161-1A292EE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0EA-4BD1-427B-AC5E-E7D11CE1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0381-FE54-495F-B6FF-C122EDE0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79ED-5BB5-4136-A119-674853D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3EB6-AEC3-4660-804F-9DFD3B1B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45CF-BC4F-45BE-BB76-A560AD8E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BA57-78F9-4F58-9FB6-A74C124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F560-DA6B-42D7-8953-09839B7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EDA7-D46A-4CB7-B962-7D60882E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799-836E-4AEC-914B-F476816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E8F4-5EC5-411B-96B8-76E40C1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61A9-F777-435C-AAE9-4AEF6C4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3C44-5793-463E-8FD6-DEC0089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5C49-1675-4DEA-8AE8-1CE12AF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B1D1-289B-4550-AF4D-AA5F2037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1B0C-66E6-446F-BB94-1A057F25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3C2C-19D6-4EA5-8CAB-44501EF9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B5B98-2429-4504-B3F6-A8A663B4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2654E-EF40-4F21-80B5-2D9B34FE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EC37B-47B6-486E-9434-DC3249A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318-00BF-46F7-B2B1-EF1B4E2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BB6BA-8FE1-4FCD-92FF-276AD83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53C23-6BC4-47F4-B558-D23E385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59BD3-0EB5-41A5-87B1-F8F4873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708D2-CB92-4752-8C0D-021AB9A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0E934-4BE5-4029-AF48-B0FEA1D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F77FE-D6F8-49FF-8CB9-62D4D52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B135A-422D-4205-A48D-F90167F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053C2-7213-4522-A328-FC5A8BF0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D6E5D-424E-4F88-95C5-F9BF4A80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68530-240D-4BC4-8EB5-7769102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BE0-C9B6-4753-8328-B477899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DF2A1-85DB-4973-8E62-C9A5F30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2A677-47DC-44BE-8625-D0A6CDC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8DDA8-B532-4093-A6AC-7B8A09D3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3B01D-5F5B-4DFC-9E8A-D69BF643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7AF3D-5244-4BBC-B8CB-B2AAD1C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6BB2F-D11C-4438-82E1-E86A1092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72336-B31E-4763-B8F7-C1DFB98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17DCE-E3B9-4420-9DD6-FD149E0F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98E90-877B-4DB9-9CBC-7403573E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87383-D213-4BCB-9FE9-8A4727C1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7AA-D716-413F-9147-4345CDEA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99A83-3296-4D5D-88A5-42744B06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9D753-77B3-4FAD-99D4-F9C47A0A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5E293-B747-4531-B460-8FBA136E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16485-C8A2-4872-B84A-5F20610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5F64F-73F2-48C7-AB1A-CB482EB2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CC9C5-4126-46C7-A812-BEBE057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45CF0-5686-48CB-8573-9CC96E9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49E6B-D0ED-47EB-A05E-411D830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4C3F0-5F1E-4016-963A-2D4D3AE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51847-F0B3-4708-95EC-B56A9B7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4BD-FAD4-44F9-9725-AC6902CF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83D8B-2445-4A36-B9AC-8B3F359F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E890A-2CB4-4558-8AE9-29139919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EA0DC-6398-4A3E-9D97-F2BAB1A9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FC03A-1DFA-4A07-B320-E4E54DF8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0C6C-2BAC-40C6-8D0E-7E688345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25BF-4DB9-45D0-9669-5C1CEDC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91F1-531A-41B2-8452-E9F6308B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4ABB-95B8-4B32-88E4-63774C6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A191-CEFE-468F-BE2E-BBC99AF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3CC5-8C54-4DBD-9CA2-F372C34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CB6-FED6-43FF-95FF-C39BA93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D5A86-8E6D-4558-81C1-D972E0F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3AA0-F209-44AD-BF2A-6598ECD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4D170-7518-4524-844F-D9A2FC52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2297-8612-4869-9B51-EE736FB9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BCF7-D94E-4813-803C-A887CC0A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27DD-319B-4F46-891A-897DBBA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6302-85EF-479F-A288-49AEC29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36820-A312-49C3-BF19-C4DF569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D509-6257-42E6-884F-3A46B1A3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3456-CD49-45C2-A153-474A3D95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0CD-0C3D-4051-ADA5-80EE32B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3921-6E51-4AF1-B4F6-B8D0E10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78BBB-9AB4-4DD3-87C6-988CAA5A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5A8EE-666A-40C6-9A67-7747805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02BB-86E8-4B04-8DD9-1299CAA1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DAA7-9856-4E3A-8E96-9928911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D6E1-5BEC-4967-B06C-5479359E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F8B94-7EF7-49BF-A51B-DB402978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95192-E168-427E-AF96-1C2D45B1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C30D-10A5-4C91-8A3F-8691D88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F34FA-8C9E-4653-9983-281B1DA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C78-B1DA-453E-83B5-0C4F77C209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A67-48D0-4873-BF48-4580F8428AE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7CD-F5BE-4FA9-8963-6576E30B62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9B82-99F1-47A7-81AD-A167C0B61E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A7C-713A-4913-B26B-4CE63C2B2E0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38CD-B336-4902-9C95-03680AAB0A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D5CC-173A-425E-8815-C2F433200A7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CE5-E222-47A4-BAF6-363B5387B3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303-C36B-4EE3-A691-530A51995A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6E1-804E-47D1-9795-5BADBC27F8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587-0F1B-43A4-9323-E568EEC5F5F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A2A2-54AC-48D6-8775-CD64A4B293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Rectangle 2" descr=""/>
          <p:cNvPicPr/>
          <p:nvPr/>
        </p:nvPicPr>
        <p:blipFill>
          <a:blip r:embed="rId1"/>
          <a:stretch/>
        </p:blipFill>
        <p:spPr>
          <a:xfrm>
            <a:off x="-12600" y="2457360"/>
            <a:ext cx="91692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oster Formation: Post-Interview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ployer name translated to a position/job 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not automatically assign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ful information added to ro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.g., NLSY97 flag for 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ta marked as primary/secondary/tertia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ster data marked prim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d to create variab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peated data marked as second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mplications for Research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s prior to sort [EMP-Q1 to EMP-Q6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sted in questionnaire but not available to publ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ster questions [EMP-ROS-UID.01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 listed in questionnaire but available to publ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st-sort ques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sted in questionnaire and available to publ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ta ordered according to roster orde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p number .01 then .02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General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1-R1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PS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loyment activity in previous we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termines current/most recent employ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 Jobs’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formation on remaining jobs (e.g., hours, industry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w job ID each round depending on posi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18 and beyo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ster created in survey: QNAME=EMPLOYER_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obs retain ID across rou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: R1-R9 Key Po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1-R8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ta restriction: at least 20 hrs/wk for 9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Less information for part-time or short job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aper &amp; Pencil Interviews (PAPI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FIs told to list jobs in reverse chronological order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PS job usually listed firs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9 chan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ta restriction: at least 10 hrs/wk for 9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1-R9: Data on up to 10 jobs collect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ta on up to 5 jobs released to publ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jobs used in created &amp; event history variab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: Changes in R15/R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15+ transition to CAP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uter assisted personal intervie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ployer jo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atically sorted in reverse ord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urrent/most recent job always fir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PS section asked on a rotating basis [R19+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16 and beyo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ll jobs collected in ‘On Jobs’ se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lication for researc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PS jobs have different QNAMEs &lt;R16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16+ all jobs have same QNAMES (by loop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: Changes in R20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termine job-type in ‘On Jobs’ s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or to entering employer supple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upplements administered according to job-typ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 job typ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raditional employ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lf employ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fined by the type of work, not c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n-traditional employ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emporary agency wor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ntract wor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Self-Employed R20+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wn a busines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le owner (with spouse)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rtner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wn 50 percent or more of the busine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rector, CEO, or principal managing partn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dependent contractor or consulta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le federal tax return form SE for self-employed inc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Non-Traditional R20+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ltiple assignments considered a single jo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Questions based on job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 specific client(s)/assignment(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yp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mporary Agenc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aid by a temporary help agency that assigns work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ly work on-call hou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ract work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mpanies contract w/employer to provide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Traditional R20+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di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pervisor employed by the same compa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er provides tools/equip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ork primarily at home but is otherwise a regular employee of the compa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nknown jobs considered traditional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spondent asked to describe jo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who answer this question have traditional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: Roster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manent Employer ID: YEMP_UID.x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reports less constrai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minimum hours or weeks bou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0320" indent="-212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re data on shorter-term or part-time jobs that transition into longer-term or full-time job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&amp; civilian jobs: (YEMP_MILFLAG.0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PS-job disti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onstraint on the number of jobs repor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l jobs in created variables &amp; event history arr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hort 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90440" y="1600200"/>
          <a:ext cx="8763120" cy="4800600"/>
        </p:xfrm>
        <a:graphic>
          <a:graphicData uri="http://schemas.openxmlformats.org/drawingml/2006/table">
            <a:tbl>
              <a:tblPr/>
              <a:tblGrid>
                <a:gridCol w="2895840"/>
                <a:gridCol w="2819160"/>
                <a:gridCol w="3048120"/>
              </a:tblGrid>
              <a:tr h="97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57-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80-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round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w Cen MT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round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test rou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test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xt inter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1-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1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en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eer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ster &amp; Question Item Mat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smatch between questionnaire/QNA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rvey questions replaced by roster items in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LSY79: EMPLOYER_* [r18+]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LSY97: YEMP_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ster loop numbers match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ta from each job-specific suppl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YEMP_*.01=YEMP-*.01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found in created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YEMP_*.01=CV_*.01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mployment Section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55" name="Object 3"/>
          <p:cNvGraphicFramePr/>
          <p:nvPr/>
        </p:nvGraphicFramePr>
        <p:xfrm>
          <a:off x="639720" y="1644480"/>
          <a:ext cx="8099640" cy="44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644480"/>
                    <a:ext cx="80996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mployer Supplement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-specific deta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ed for each employ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ass of work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urs work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dustry/Occup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aps within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te of p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/NLSY97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Reference point for data collec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type da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lf-employed/freelance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n-traditional jobs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emporary agency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tract worke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ge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ata Collection Reference Poi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LSY79 collected as of survey d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cept hours at start of each job (began in R20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LSY97 depends on job lengt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ta for new job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lect as of the job’s start d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ta for jobs lasting more than 13 wee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lect currently/as of the job’s stop d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mplication for created &amp; event history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tart data for short term job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urrent/latest data for jobs lasting 13+ week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/NLSY97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ence point for data col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Job type da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5b22"/>
                </a:solidFill>
                <a:latin typeface="Tw Cen MT"/>
              </a:rPr>
              <a:t>Self-employed/freelance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n-traditional jobs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emporary agency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tract worke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ge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mparing Self-Employmen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LSY79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or to R20: reported with other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20 and beyond: self-employment suppl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LSY9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1-R5: freelance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t included in event history/created variab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6-R8: employment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sked same questions as other job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cluded in event history/created variab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9+ change: uses the NLSY79 r20+ suppl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Structure R1-R5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68" name="Object 1024"/>
          <p:cNvGraphicFramePr/>
          <p:nvPr/>
        </p:nvGraphicFramePr>
        <p:xfrm>
          <a:off x="304920" y="1600200"/>
          <a:ext cx="84582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Freelance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freelance job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ob typ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eks worked at jo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ual hours per we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umber of weekdays, weekends, days/we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ual weekly earn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elance jobs earning more than $200/we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dustry/occup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umber of people who worked for 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ason job end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Self-Employed R1-R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e restri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ge 12 &amp; 1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reelance section on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lder than 1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oth the employer &amp; the freelance se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d variables &amp; the event history arrays are constructed for jobs reported in the employer section on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Self-Employed R4-R5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freelance jobs into the employer s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4: 1983-84 cohorts receive the freelance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5: 1984 cohort receives the freelance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lic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er ros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lf-employed jobs includ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ly those who aged-out of the freelance se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eated &amp; event history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cludes self-employed jobs from the employer se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Self-Employed R6-R8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elance section no longer exi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jobs reported in the employer s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lf-employmen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lance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[civilian] jobs included in the created variables and the event history status array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lf-Employed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siness incorpor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ways in NLSY79/NLSY97 employer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LSY97 freelance section (age 16+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umber of employ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rounds NLSY79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l rounds NLSY97 employer/freelance (16+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un business from ho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LSY79 from R20+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l rounds NLSY97 employer/freelance (16+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Self-Employed R20+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business star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centage ow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ancial inform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abil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longer at busi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a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w job before business clo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alue after liquid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/NLSY97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ence point for data col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Job type da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lf-employed/freelance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5b22"/>
                </a:solidFill>
                <a:latin typeface="Tw Cen MT"/>
              </a:rPr>
              <a:t>Non-traditional jobs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95b22"/>
                </a:solidFill>
                <a:latin typeface="Tw Cen MT"/>
              </a:rPr>
              <a:t>Temporary agency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95b22"/>
                </a:solidFill>
                <a:latin typeface="Tw Cen MT"/>
              </a:rPr>
              <a:t>On-cal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95b22"/>
                </a:solidFill>
                <a:latin typeface="Tw Cen MT"/>
              </a:rPr>
              <a:t>Contract worke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ge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Non-Traditional R3-15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jobs are odd jobs-that is, work done from time to time.  Others are REGULAR jobs-that is, jobs done on a more or less regular basis.  Is this a job that is done on a more or less regular basis or is it an odd job?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PS employer only (r3-r15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employers (r16+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LSY79 Non-Traditional R16-R19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e you a regular employee at this job, do you consider yourself a temp worker, consultant or contractor, or are you an employee of a contractor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n-traditional before a regular employe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ect job to become permanent or remain temporary 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id by a temporary agency or contract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ver a regular employee for this employ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employ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Non-Traditional Job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und 20+: Identified in the Employer Ro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# weeks expect to be on assig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thly earnings over all assign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# different assign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# periods with no assig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&lt;5 then collect information on al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5+ then collect inform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ost recent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# weeks tot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Non-Traditional Job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1-R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tional suppl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specific ques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9 and beyo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tion mirrors the current NLSY79 sec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mployment Section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620" name="Object 3"/>
          <p:cNvGraphicFramePr/>
          <p:nvPr/>
        </p:nvGraphicFramePr>
        <p:xfrm>
          <a:off x="639720" y="1644480"/>
          <a:ext cx="8099640" cy="44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644480"/>
                    <a:ext cx="80996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/NLSY97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ence point for data col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Job type da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lf-employed/freelance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n-traditional jobs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emporary agency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tract worke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5b22"/>
                </a:solidFill>
                <a:latin typeface="Tw Cen MT"/>
              </a:rPr>
              <a:t>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ge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ilitary Experi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itary-specific ques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y grad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tes of serv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ranch of serv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gular branch or reserv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occup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LSY97 r2+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LSY79 from r1-r7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Military Experi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itary oversample (N=1,28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1-R6 collect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7 and beyo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unding cutbacks reduced this oversample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201 remain in sampl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itary jobs not on Employer Roste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 assigned a job i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ork history coded to reflect military jo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o other civilian jobs held at that ti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Military Experi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itary-specific questions began in R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ntified by class of worker (YEMP-5850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ed by government, by a private company, a nonprofit organization or are you working without pay in a family business or farm or are you a member of the Armed Forces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mall number of misidentified military jo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tly coded in YEMP_MILFLA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s answer regular employer supplement initial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swer correct question set at next interview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/NLSY97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ence point for data col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type da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lf-employed/freelance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n-traditional jobs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emporary agency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n-cal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tract worke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itary job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Wage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Wage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iest way to report total earning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eive overtime pay, tips or commissio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Yes &amp; hourly time un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ourly rate of pay excluding overtime pay/compensation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mount in overtime pay, tips or commissions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Yes &amp; non-hourly time un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arnings including overtime pay, tips and commis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lication for created hourly w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cludes non-salary compensation for workers who report non-hourly time uni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79 Teacher Wages R20+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itional questions asked of teac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bstitute &amp; regular teach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y per period/pay by number of courses taugh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umber of pay periods in a ye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urs worked at home and schoo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onus pay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tional appoint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eacher summer school, coach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Wage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 base salary excluding non-wage compensation (e.g., overtime pay, tips, commissions, and bonus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ily or per item report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lect number of days work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 item or per jo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llect length of time to complete one ite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LSY97 Non-Wage Compens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s of compens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vertime P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ip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miss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onu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centive P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ther (specify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lect all that app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LSY97 Overtime P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ltiple overtime rates allow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ach rate coll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urs/week usually work overti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ount overtime or rate earn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ouble time &amp; time and a half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ime un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umber of days of daily or per item r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ength of time to complete an item if per item r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Object 2"/>
          <p:cNvGraphicFramePr/>
          <p:nvPr/>
        </p:nvGraphicFramePr>
        <p:xfrm>
          <a:off x="1028880" y="38160"/>
          <a:ext cx="708660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38160"/>
                    <a:ext cx="7086600" cy="6781680"/>
                  </a:xfrm>
                  <a:prstGeom prst="rect">
                    <a:avLst/>
                  </a:prstGeom>
                  <a:ln w="25560">
                    <a:solidFill>
                      <a:srgbClr val="704404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LSY97 Non-overtime/non-salary Compens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p through each type separate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ach type collec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ount usually earn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ime un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umber of days of daily or per item r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ength of time to complete an item if per item r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2050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mployment Section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16" name="Object 3"/>
          <p:cNvGraphicFramePr/>
          <p:nvPr/>
        </p:nvGraphicFramePr>
        <p:xfrm>
          <a:off x="639720" y="1639800"/>
          <a:ext cx="8099640" cy="44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639800"/>
                    <a:ext cx="80996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aps Between Job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umber of week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 layof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ing for wor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in reason did not look for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hods of job search u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LSY79: Not in r20+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ssibly on rotating basis in future rou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reated Variab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swers to interview ques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er Roster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ta from previous roun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eated variable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oint-in-time (e.g., hourly wage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ongitudinal (number of jobs ever worked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ment event history arr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LSY79: work history array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Number of Jobs Created Variabl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257480" y="1600200"/>
          <a:ext cx="6629400" cy="510048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2667240"/>
              </a:tblGrid>
              <a:tr h="80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 (CV_TTL_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umber of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en (14-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ult (20+) Adult (20+) 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BE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TE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ADULT_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ADULT_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# of jobs - 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mplo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Self-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YR_AL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YR_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JOB_YR_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eeks Worked Created Variabl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343080" y="1600200"/>
          <a:ext cx="8458200" cy="5156280"/>
        </p:xfrm>
        <a:graphic>
          <a:graphicData uri="http://schemas.openxmlformats.org/drawingml/2006/table">
            <a:tbl>
              <a:tblPr/>
              <a:tblGrid>
                <a:gridCol w="3581280"/>
                <a:gridCol w="1717560"/>
                <a:gridCol w="31593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 (CV_WKSWK_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in 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ployee 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lf-employ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K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R_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R_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R_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SD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ployee 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lf-employ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K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I_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I_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I_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(Jo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teen (14-1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adult (20+)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work adult (20+) 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E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ULT_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ULT_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age Created Variab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266760" y="1600200"/>
          <a:ext cx="8610480" cy="3508200"/>
        </p:xfrm>
        <a:graphic>
          <a:graphicData uri="http://schemas.openxmlformats.org/drawingml/2006/table">
            <a:tbl>
              <a:tblPr/>
              <a:tblGrid>
                <a:gridCol w="2209680"/>
                <a:gridCol w="2438640"/>
                <a:gridCol w="3962160"/>
              </a:tblGrid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 (CV_HRLY_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urly W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urly 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urs Worked Created Variabl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14480" y="1600200"/>
          <a:ext cx="8915400" cy="4648320"/>
        </p:xfrm>
        <a:graphic>
          <a:graphicData uri="http://schemas.openxmlformats.org/drawingml/2006/table">
            <a:tbl>
              <a:tblPr/>
              <a:tblGrid>
                <a:gridCol w="3657600"/>
                <a:gridCol w="1903320"/>
                <a:gridCol w="3354480"/>
              </a:tblGrid>
              <a:tr h="89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CV_HOURS_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urs worked 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ployee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lf-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UR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YR_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YR_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YR_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rs work teen (14-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rs work adult (20+) 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rs work adult (20+) 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TE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ADULT_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_ADULT_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2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Created Variab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990720" y="1600200"/>
          <a:ext cx="7162560" cy="4952880"/>
        </p:xfrm>
        <a:graphic>
          <a:graphicData uri="http://schemas.openxmlformats.org/drawingml/2006/table">
            <a:tbl>
              <a:tblPr/>
              <a:tblGrid>
                <a:gridCol w="4038480"/>
                <a:gridCol w="1600200"/>
                <a:gridCol w="152388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LSY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unemployed SD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unemployed 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NEM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NEMP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out of labor force SD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out of labor force 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LF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LF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active military SD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ks active military 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ILSWK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ILSWK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ster Formation: Int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ct basic roster data during the int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er na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rt &amp; stop da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on’t Know &amp; Refuse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rt jobs on ending d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recently worked to least recently work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rted roster data guides the int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llow-up questions by jo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ster Formation: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view questions answered by 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Q1.01=Drexel Theat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tinued from prior interview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-Q2: quit on May 8 ‘09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Q3.01 [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NEW EMPLOYER]=OS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-Q4.01: started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new job on March 6 ‘08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-Q5.01: still there (July 14 ‘09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Q3.02 [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NEW EMPLOYER]=CO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-Q4.02: started 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new job on December 19 ‘08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MP-Q6.02: quit on June 16 ‘09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continued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rt employer names by stop d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SU (March 6, 2008 to July 14 ’09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rexel Theatre (DLI to May 8 ‘09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SI (December 19, 2008 to June 16 ’09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ign employer ID from most rec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ROS-UID.01: 200902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ROS-UID.02: 20070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-ROS-UID.03: 20090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p through jobs individua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9:36:00Z</dcterms:created>
  <dc:creator>Gardecki</dc:creator>
  <dc:description/>
  <dc:language>en-US</dc:language>
  <cp:lastModifiedBy>gardecki</cp:lastModifiedBy>
  <dcterms:modified xsi:type="dcterms:W3CDTF">2009-07-10T21:20:04Z</dcterms:modified>
  <cp:revision>1400</cp:revision>
  <dc:subject/>
  <dc:title>PowerPoint Presentation</dc:title>
</cp:coreProperties>
</file>