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D9D98-1C8E-4474-AD9B-6FA8DBD08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B964-60F8-4B2D-9596-4551908A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1A767-1951-49CD-89F3-815B3EAA4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03A0A-4A88-4EE4-88DD-08BF0DE15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E883C-9CC6-4A83-9DA7-585274FB9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FC177-1A44-4948-8651-48CB330C1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333D8-53F0-4705-93B1-7B9D675D2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A3C15-75D7-4EF1-A8B9-A74A0298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743C-1E73-4606-B223-DFA33C0E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F09B-4428-4A54-BB89-7955EA99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74CC-B2A7-43C2-9697-5C7B2B27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DE56-D149-488A-9142-59358A247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21CC-2064-46C2-8075-AAFD48F6B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oung Adult Surve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llowing the Children of the NLSY79 Mothers into the Fu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eas add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 HOME questions asked about youngest child of respondent in the househ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family income and financial stra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ction to and workplace use of marijua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hetamine usage as a separate series for the first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2 surve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in Military to find out whether/when reservists had been called into active duty</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part-time, irregular employment added for younger YAs parallel to those asked in CSAS</a:t>
            </a:r>
            <a:endParaRPr b="0"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esign for the 2004 survey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ehold Record redesigned to reduce interviewer err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age history of spouse/partners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from other relationships of spouse/partners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tary contributions of nonresidential parents asked for each biological chil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4 survey (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Child Care arrangements dropp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Items revised and asked of all children in the HH tied to the Y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household division of labor and economic enmeshment added for YAs with spouse/partn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serious but not cohabiting relationships added</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sign for the 2004 survey (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hma series ad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y behavior series ad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role items from CSAS added for 14-16 year old YA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6 survey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hma series tailored to update appropriate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strophic events series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assets and debts expan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n financial help with living expenses add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6 survey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Item Personality Inventory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conflict series add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f political questions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eries to ascertain biological relatedness among YA and sibling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8 survey (1)</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length of romantic commitment and pre-planning of cohabi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lihood of marrying and/or cohabi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s towards reproduction within cohabi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residence of biological children at birth</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8 survey (2)</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emale respondents, questions about work experiences around the birth of each chi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coparent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bout parenting behavior toward noncoresidential childr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able questions added about children in the household</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sign for the 2008 survey (3)</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 on identification as born again/evangelical Christia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 and time spent on computer questions expan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designed to measure social network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questions revised and updated</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ginning of the YA Surve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in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follow the NLSY79 children as they approached adulth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ge up” when they will turn 15 by the end of the current survey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 cap of 20 at interview in 199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ion of over-sample cases not fielded in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age or sample restrictions since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8 survey (4)</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about supervisory responsibility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bout work and/or deployment in combat zo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questions about computer usage dropp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questions about specific training programs dropped</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 2008 Preliminary Release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n overview with links into questionnaire s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an HTML version of the 2008 questionnaire that is hyper-linked within and across s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raw, unedited data for all interviewed YAs, along with a small number of constructed vari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merged with either the Child/YA 2006 release or the NLSY79 2006 releas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ng in the YA Survey</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survey flow and univer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 Survey Flow Char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screens show a flow chart of the YA 2006 surv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ame flow pattern applies to the YA surveys from 2000 to 20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flow chart 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general paths through the surve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universes for survey sections (but not individual ite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greater detail, refer to the HTML sur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7" name=""/>
          <p:cNvGraphicFramePr/>
          <p:nvPr/>
        </p:nvGraphicFramePr>
        <p:xfrm>
          <a:off x="1920960" y="228600"/>
          <a:ext cx="5302080" cy="6400800"/>
        </p:xfrm>
        <a:graphic>
          <a:graphicData uri="http://schemas.openxmlformats.org/presentationml/2006/ole">
            <p:oleObj r:id="rId1" spid="">
              <p:embed/>
              <p:pic>
                <p:nvPicPr>
                  <p:cNvPr id="88"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9" name=""/>
          <p:cNvGraphicFramePr/>
          <p:nvPr/>
        </p:nvGraphicFramePr>
        <p:xfrm>
          <a:off x="1920960" y="304920"/>
          <a:ext cx="5302080" cy="6172200"/>
        </p:xfrm>
        <a:graphic>
          <a:graphicData uri="http://schemas.openxmlformats.org/presentationml/2006/ole">
            <p:oleObj r:id="rId1" spid="">
              <p:embed/>
              <p:pic>
                <p:nvPicPr>
                  <p:cNvPr id="90" name="" descr=""/>
                  <p:cNvPicPr/>
                  <p:nvPr/>
                </p:nvPicPr>
                <p:blipFill>
                  <a:blip r:embed="rId2"/>
                  <a:stretch/>
                </p:blipFill>
                <p:spPr>
                  <a:xfrm>
                    <a:off x="1920960" y="304920"/>
                    <a:ext cx="53020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1" name=""/>
          <p:cNvGraphicFramePr/>
          <p:nvPr/>
        </p:nvGraphicFramePr>
        <p:xfrm>
          <a:off x="1920960" y="228600"/>
          <a:ext cx="5302080" cy="6400800"/>
        </p:xfrm>
        <a:graphic>
          <a:graphicData uri="http://schemas.openxmlformats.org/presentationml/2006/ole">
            <p:oleObj r:id="rId1" spid="">
              <p:embed/>
              <p:pic>
                <p:nvPicPr>
                  <p:cNvPr id="92"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3" name=""/>
          <p:cNvGraphicFramePr/>
          <p:nvPr/>
        </p:nvGraphicFramePr>
        <p:xfrm>
          <a:off x="1920960" y="228600"/>
          <a:ext cx="5302080" cy="6400800"/>
        </p:xfrm>
        <a:graphic>
          <a:graphicData uri="http://schemas.openxmlformats.org/presentationml/2006/ole">
            <p:oleObj r:id="rId1" spid="">
              <p:embed/>
              <p:pic>
                <p:nvPicPr>
                  <p:cNvPr id="94"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5" name=""/>
          <p:cNvGraphicFramePr/>
          <p:nvPr/>
        </p:nvGraphicFramePr>
        <p:xfrm>
          <a:off x="1920960" y="304920"/>
          <a:ext cx="5302080" cy="6248160"/>
        </p:xfrm>
        <a:graphic>
          <a:graphicData uri="http://schemas.openxmlformats.org/presentationml/2006/ole">
            <p:oleObj r:id="rId1" spid="">
              <p:embed/>
              <p:pic>
                <p:nvPicPr>
                  <p:cNvPr id="96" name="" descr=""/>
                  <p:cNvPicPr/>
                  <p:nvPr/>
                </p:nvPicPr>
                <p:blipFill>
                  <a:blip r:embed="rId2"/>
                  <a:stretch/>
                </p:blipFill>
                <p:spPr>
                  <a:xfrm>
                    <a:off x="1920960" y="304920"/>
                    <a:ext cx="5302080" cy="62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7" name=""/>
          <p:cNvGraphicFramePr/>
          <p:nvPr/>
        </p:nvGraphicFramePr>
        <p:xfrm>
          <a:off x="1920960" y="304920"/>
          <a:ext cx="5302080" cy="6172200"/>
        </p:xfrm>
        <a:graphic>
          <a:graphicData uri="http://schemas.openxmlformats.org/presentationml/2006/ole">
            <p:oleObj r:id="rId1" spid="">
              <p:embed/>
              <p:pic>
                <p:nvPicPr>
                  <p:cNvPr id="98" name="" descr=""/>
                  <p:cNvPicPr/>
                  <p:nvPr/>
                </p:nvPicPr>
                <p:blipFill>
                  <a:blip r:embed="rId2"/>
                  <a:stretch/>
                </p:blipFill>
                <p:spPr>
                  <a:xfrm>
                    <a:off x="1920960" y="304920"/>
                    <a:ext cx="53020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from the earliest years of the You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the World of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nic Identific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Flow for Individual Item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a respondent takes is determined by three major sources of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loaded information from past survey rounds and/or mother’s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s to specific questions in the surv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constructed from preloads, answers or a combination thereo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a typical respondent might take can be explored through following the hyperlinks in the HTML questionnai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on an age and characteristics (living with mom, in colleg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links appropriate to these characteristics and answers you choo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can be retraced backwards by using Lead-In lin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between the HTML questionnaire and the code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book is also hyperlinked and can be used to trace survey flow; how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TML questionnaire includes questions that are not released, 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ebook includes constructed variables that will not be in the questionn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questions in questionnaire but not relea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ng or other privat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tims, which may be coded and released as numeric variables, such as occupation and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hat are used as inputs for summary rosters, such as in the household record or the biological child roster; these data are released in their summary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items in codebook but not in questionnai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d items such as occupation and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ed variables such as age at first birth or month and year of first marri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ed versions of existing variables such as resid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1)</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asked only the first time a respondent goes through the surve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father’s race is asked only once, during the first YA interview</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se questions are directed at 14-16 year olds, but occasionally older YAs are interviewed for their first tim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tems may be deliberately restricted to new YAs under a certain age; e.g., questions about teenage drinking patterns (see YASR-10 for skip into the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prior to substantive questions allow users to understand univers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asked only if a positive response has not been given in the pa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there are preloaded flags for ever dated, ever been pregnant, ever smoked, ever drank,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prior to substantive questions allow users to check universes (e.g., YASR-4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sionally, either respondents change their minds or flags reflect previous interviewer error, so flags may be inconsistent over survey rounds (see YASR-49 for example of an escape cla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elf-report items, survey checks were not introduced until the 2000 re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3)</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have a substantive question needed to understand univers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ubstantive questions either allow for a ‘nonnumeric’ response or branch according to the type of respons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Q2-4B1 (When did you most recently begin living in this city/town?) offers the answer choices “Select to enter date” and “Lived here all my lif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lect to enter date” responses are branched to Q2-4B to enter the date, then into the rest of the migration sequ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ved here all my life” responses are branched out of the migration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have both a machine check and a substantive question needed to understand univer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Q3-0E is a machine check to see if R has reported dating in the past, and codes of zero branch to Q3-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3-1 asks age R began dating and offers the choices of “Select to enter age”, “Never started”, and “Volunteered same-sex da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lect to enter age” and “Volunteered same-sex dating” are branched to Q3-1A to enter 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ever started” responses are branched to the next machine check, Q3-1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520" y="914400"/>
            <a:ext cx="77724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only updated since the date of last interview for previously interviewed YAs but ever for new YA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re are not machine checks available prior to these questions, as text fills determine the question tex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text in the HTML questionnaire and codebook alerts users to these ques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ed text such as “[Since DLI have you/Have you ever]” will appear in such questions (see Q3-4)</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that everyone hits, such as Q2-1 (Y1451900 in 2006), allow users to identify new vs. old YAs</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s parallel to the current Youth Surve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usehold Recor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PS, Employer Supplements (som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eliminated), Military Service and Gap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t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fewer questions on ass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s such as Perlin Mastery, Rosenberg Self-Esteem, and CE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Missing Data</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data extracts with the SAS or SPSS statements option automatically include language to set negative values to special system missing values, users should be aware of what the various missing codes in our data mean so that they can better understand the universes that are missing from various data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7 in the Young Adult Data mean a valid skip, indicating t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been interviewed in that round,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been eligible for a given instrument,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entered a given section of the survey,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have been skipped out of a specific p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7 can be differentiated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eligibility and interview status flags for the YA in the Child Background area of intere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chine checks within each survey instruments to determine survey path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des of -3 in the Young Adult Data mean an invalid skip, indicating th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pondent did not answer questions that should have been answered (YASRB in 1996 and 1998),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e or more of the inputs needed to construct a variable are missing,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 problem with preload data or the system during an intervie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note that in the CAPI/CATI data an invalid skip will show up in the machine checks that branch the respondents into questions, not in the questions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2 and -1 in the Young Adult Data are respondent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s of -2 indicates a response of Don’t Know</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s of -1 indicates a refusal to ans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6" name=""/>
          <p:cNvGraphicFramePr/>
          <p:nvPr/>
        </p:nvGraphicFramePr>
        <p:xfrm>
          <a:off x="1822320" y="687240"/>
          <a:ext cx="5497560" cy="5481720"/>
        </p:xfrm>
        <a:graphic>
          <a:graphicData uri="http://schemas.openxmlformats.org/presentationml/2006/ole">
            <p:oleObj progId="Word.Document.12" r:id="rId1" spid="">
              <p:embed/>
              <p:pic>
                <p:nvPicPr>
                  <p:cNvPr id="117" name="" descr=""/>
                  <p:cNvPicPr/>
                  <p:nvPr/>
                </p:nvPicPr>
                <p:blipFill>
                  <a:blip r:embed="rId2"/>
                  <a:stretch/>
                </p:blipFill>
                <p:spPr>
                  <a:xfrm>
                    <a:off x="1822320" y="687240"/>
                    <a:ext cx="5497560" cy="548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8" name=""/>
          <p:cNvGraphicFramePr/>
          <p:nvPr/>
        </p:nvGraphicFramePr>
        <p:xfrm>
          <a:off x="1822320" y="1447920"/>
          <a:ext cx="5497560" cy="3332160"/>
        </p:xfrm>
        <a:graphic>
          <a:graphicData uri="http://schemas.openxmlformats.org/presentationml/2006/ole">
            <p:oleObj progId="Word.Document.12" r:id="rId1" spid="">
              <p:embed/>
              <p:pic>
                <p:nvPicPr>
                  <p:cNvPr id="119" name="" descr=""/>
                  <p:cNvPicPr/>
                  <p:nvPr/>
                </p:nvPicPr>
                <p:blipFill>
                  <a:blip r:embed="rId2"/>
                  <a:stretch/>
                </p:blipFill>
                <p:spPr>
                  <a:xfrm>
                    <a:off x="1822320" y="1447920"/>
                    <a:ext cx="5497560" cy="33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20" name=""/>
          <p:cNvGraphicFramePr/>
          <p:nvPr/>
        </p:nvGraphicFramePr>
        <p:xfrm>
          <a:off x="1822320" y="1787400"/>
          <a:ext cx="5497560" cy="3281400"/>
        </p:xfrm>
        <a:graphic>
          <a:graphicData uri="http://schemas.openxmlformats.org/presentationml/2006/ole">
            <p:oleObj progId="Word.Document.12" r:id="rId1" spid="">
              <p:embed/>
              <p:pic>
                <p:nvPicPr>
                  <p:cNvPr id="121" name="" descr=""/>
                  <p:cNvPicPr/>
                  <p:nvPr/>
                </p:nvPicPr>
                <p:blipFill>
                  <a:blip r:embed="rId2"/>
                  <a:stretch/>
                </p:blipFill>
                <p:spPr>
                  <a:xfrm>
                    <a:off x="1822320" y="1787400"/>
                    <a:ext cx="5497560" cy="328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22" name=""/>
          <p:cNvGraphicFramePr/>
          <p:nvPr/>
        </p:nvGraphicFramePr>
        <p:xfrm>
          <a:off x="1822320" y="1981080"/>
          <a:ext cx="5497560" cy="2894040"/>
        </p:xfrm>
        <a:graphic>
          <a:graphicData uri="http://schemas.openxmlformats.org/presentationml/2006/ole">
            <p:oleObj progId="Word.Document.12" r:id="rId1" spid="">
              <p:embed/>
              <p:pic>
                <p:nvPicPr>
                  <p:cNvPr id="123" name="" descr=""/>
                  <p:cNvPicPr/>
                  <p:nvPr/>
                </p:nvPicPr>
                <p:blipFill>
                  <a:blip r:embed="rId2"/>
                  <a:stretch/>
                </p:blipFill>
                <p:spPr>
                  <a:xfrm>
                    <a:off x="1822320" y="1981080"/>
                    <a:ext cx="5497560" cy="28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24" name=""/>
          <p:cNvGraphicFramePr/>
          <p:nvPr/>
        </p:nvGraphicFramePr>
        <p:xfrm>
          <a:off x="1822320" y="1270080"/>
          <a:ext cx="5497560" cy="4316400"/>
        </p:xfrm>
        <a:graphic>
          <a:graphicData uri="http://schemas.openxmlformats.org/presentationml/2006/ole">
            <p:oleObj progId="Word.Document.12" r:id="rId1" spid="">
              <p:embed/>
              <p:pic>
                <p:nvPicPr>
                  <p:cNvPr id="125" name="" descr=""/>
                  <p:cNvPicPr/>
                  <p:nvPr/>
                </p:nvPicPr>
                <p:blipFill>
                  <a:blip r:embed="rId2"/>
                  <a:stretch/>
                </p:blipFill>
                <p:spPr>
                  <a:xfrm>
                    <a:off x="1822320" y="1270080"/>
                    <a:ext cx="5497560" cy="43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d or Parallel questions from the CS/C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routine checks, accidents and inju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with par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arent/child interac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ak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Experience and Satisfa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ilored questions for this age group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ormation about fathers, especially non-residential 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of and reasons for leaving h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with parents as YAs leave hom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age and Cohabitation Hist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School and College experi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ilored questions for this age group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into the world of work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childcare usage and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detail on non-normative activity such as substance use and criminal behavi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detail on sexual a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 to telephone as primary m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S and Gaps elimina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ections shortened (Employer Supplement, fertility, train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ith complex answer choices broken down into multiple ques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questions from Self-Report Booklet converted into CATI/CAPI instru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eas add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ness to Par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migration sequenc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ment into and out of parent’s ho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 homeles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tary contributions to noncoresidentional children added to fertili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ing Attitudes added to fertility</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keck</cp:lastModifiedBy>
  <dcterms:modified xsi:type="dcterms:W3CDTF">2009-07-11T19:27:23Z</dcterms:modified>
  <cp:revision>74</cp:revision>
  <dc:subject/>
  <dc:title>The Young Adult Survey:</dc:title>
</cp:coreProperties>
</file>