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7C95F-65C1-46F5-B565-F7F41F9D4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FB5A6-E7CD-4957-B9C2-AD03B1D04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7CB2F-7231-4EE3-8158-362BCB06D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48AF9-F8B9-4E3F-8FED-FE40B7051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6F352-3379-408F-85E3-A551DB760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A44B8-3736-41DC-9CFC-F0EB15D53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2E656-82C8-41B1-81C9-AAE0F336B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6771F-489A-4D35-9E3B-A4CB87738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C48F6-0FE2-4D6B-A840-B7F08E288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1B4DB-01A0-4353-9423-6CE76D022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82D5F-2040-43FE-91AF-158DD50CB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D1FD7-A3CE-4660-B421-7739657AC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0F47-10EE-48BE-A38B-E14D87D97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Young Adult Surve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llowing the Children of the NLSY79 Mothers into the Futu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ilored questions for this age group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on into the world of work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childcare usage and co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er detail on non-normative activity such as substance use and criminal behavi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er detail on sexual acti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redesign for the 2000 survey (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 to telephone as primary mod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S and Gaps eliminat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sections shortened (Employer Supplement, fertility, train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ith complex answer choices broken down into multiple ques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questions from Self-Report Booklet converted into CATI/CAPI instru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redesign for the 2000 survey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reas add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ness to Paren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r migration sequenc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ment into and out of parent’s hom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 homeles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tary contributions to noncoresidentional children added to fertilit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ing Attitudes added to fertility</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jor redesign for the 2000 survey (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reas add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d HOME questions asked about youngest child of respondent in the househo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family income and financial strai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ction to and workplace use of marijua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hetamine usage as a separate series for the first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2 surve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questions in Military to find out whether/when reservists had been called into active duty</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bout part-time, irregular employment added for younger YAs parallel to those asked in CSAS</a:t>
            </a:r>
            <a:endParaRPr b="0" lang="en-US" sz="24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esign for the 2004 survey (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usehold Record redesigned to reduce interviewer err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riage history of spouse/partners ask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from other relationships of spouse/partners ask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tary contributions of nonresidential parents asked for each biological child</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4 survey (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Child Care arrangements dropp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Items revised and asked of all children in the HH tied to the Y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bout household division of labor and economic enmeshment added for YAs with spouse/partn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bout serious but not cohabiting relationships added</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esign for the 2004 survey (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hma series ad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lthy behavior series ad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der role items from CSAS added for 14-16 year old YA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6 survey (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thma series tailored to update appropriate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strophic events series ad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on assets and debts expan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es on financial help with living expenses add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6 survey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Item Personality Inventory ad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conflict series adde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es of political questions ad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eries to ascertain biological relatedness among YA and sibling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33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Generational Research Possibilities</a:t>
            </a:r>
            <a:endParaRPr b="0" lang="en-US" sz="4400" spc="-1" strike="noStrike">
              <a:solidFill>
                <a:srgbClr val="000000"/>
              </a:solidFill>
              <a:latin typeface="Times New Roman"/>
            </a:endParaRPr>
          </a:p>
        </p:txBody>
      </p:sp>
      <p:sp>
        <p:nvSpPr>
          <p:cNvPr id="44" name=""/>
          <p:cNvSpPr/>
          <p:nvPr/>
        </p:nvSpPr>
        <p:spPr>
          <a:xfrm>
            <a:off x="380880" y="4648320"/>
            <a:ext cx="1828800" cy="19047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gr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Experience</a:t>
            </a:r>
            <a:endParaRPr b="0" lang="en-US" sz="2400" spc="-1" strike="noStrike">
              <a:solidFill>
                <a:srgbClr val="000000"/>
              </a:solidFill>
              <a:latin typeface="Times New Roman"/>
            </a:endParaRPr>
          </a:p>
        </p:txBody>
      </p:sp>
      <p:sp>
        <p:nvSpPr>
          <p:cNvPr id="45" name=""/>
          <p:cNvSpPr/>
          <p:nvPr/>
        </p:nvSpPr>
        <p:spPr>
          <a:xfrm>
            <a:off x="2286000" y="3200400"/>
            <a:ext cx="1676520" cy="1295280"/>
          </a:xfrm>
          <a:prstGeom prst="rect">
            <a:avLst/>
          </a:prstGeom>
          <a:solidFill>
            <a:srgbClr val="ff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hood</a:t>
            </a:r>
            <a:endParaRPr b="0" lang="en-US" sz="2400" spc="-1" strike="noStrike">
              <a:solidFill>
                <a:srgbClr val="000000"/>
              </a:solidFill>
              <a:latin typeface="Times New Roman"/>
            </a:endParaRPr>
          </a:p>
        </p:txBody>
      </p:sp>
      <p:sp>
        <p:nvSpPr>
          <p:cNvPr id="46" name=""/>
          <p:cNvSpPr/>
          <p:nvPr/>
        </p:nvSpPr>
        <p:spPr>
          <a:xfrm>
            <a:off x="4800600" y="2895480"/>
            <a:ext cx="1600200" cy="1676520"/>
          </a:xfrm>
          <a:prstGeom prst="rect">
            <a:avLst/>
          </a:prstGeom>
          <a:solidFill>
            <a:srgbClr val="ff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hood</a:t>
            </a:r>
            <a:endParaRPr b="0" lang="en-US" sz="2400" spc="-1" strike="noStrike">
              <a:solidFill>
                <a:srgbClr val="000000"/>
              </a:solidFill>
              <a:latin typeface="Times New Roman"/>
            </a:endParaRPr>
          </a:p>
        </p:txBody>
      </p:sp>
      <p:sp>
        <p:nvSpPr>
          <p:cNvPr id="47" name=""/>
          <p:cNvSpPr/>
          <p:nvPr/>
        </p:nvSpPr>
        <p:spPr>
          <a:xfrm>
            <a:off x="7311960" y="3427560"/>
            <a:ext cx="1527120" cy="1600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hood</a:t>
            </a:r>
            <a:endParaRPr b="0" lang="en-US" sz="2400" spc="-1" strike="noStrike">
              <a:solidFill>
                <a:srgbClr val="000000"/>
              </a:solidFill>
              <a:latin typeface="Times New Roman"/>
            </a:endParaRPr>
          </a:p>
        </p:txBody>
      </p:sp>
      <p:cxnSp>
        <p:nvCxnSpPr>
          <p:cNvPr id="48" name=""/>
          <p:cNvCxnSpPr>
            <a:stCxn id="44" idx="0"/>
            <a:endCxn id="45" idx="1"/>
          </p:cNvCxnSpPr>
          <p:nvPr/>
        </p:nvCxnSpPr>
        <p:spPr>
          <a:xfrm flipV="1">
            <a:off x="1295280" y="3847320"/>
            <a:ext cx="991440" cy="801000"/>
          </a:xfrm>
          <a:prstGeom prst="straightConnector1">
            <a:avLst/>
          </a:prstGeom>
          <a:ln w="9360">
            <a:solidFill>
              <a:srgbClr val="000000"/>
            </a:solidFill>
            <a:miter/>
            <a:tailEnd len="med" type="triangle" w="med"/>
          </a:ln>
        </p:spPr>
      </p:cxnSp>
      <p:cxnSp>
        <p:nvCxnSpPr>
          <p:cNvPr id="49" name=""/>
          <p:cNvCxnSpPr>
            <a:stCxn id="45" idx="3"/>
            <a:endCxn id="46" idx="1"/>
          </p:cNvCxnSpPr>
          <p:nvPr/>
        </p:nvCxnSpPr>
        <p:spPr>
          <a:xfrm flipV="1">
            <a:off x="3962520" y="3733200"/>
            <a:ext cx="838800" cy="114840"/>
          </a:xfrm>
          <a:prstGeom prst="straightConnector1">
            <a:avLst/>
          </a:prstGeom>
          <a:ln w="9360">
            <a:solidFill>
              <a:srgbClr val="000000"/>
            </a:solidFill>
            <a:miter/>
            <a:tailEnd len="med" type="triangle" w="med"/>
          </a:ln>
        </p:spPr>
      </p:cxnSp>
      <p:cxnSp>
        <p:nvCxnSpPr>
          <p:cNvPr id="50" name=""/>
          <p:cNvCxnSpPr>
            <a:stCxn id="46" idx="3"/>
            <a:endCxn id="47" idx="1"/>
          </p:cNvCxnSpPr>
          <p:nvPr/>
        </p:nvCxnSpPr>
        <p:spPr>
          <a:xfrm>
            <a:off x="6400440" y="3733560"/>
            <a:ext cx="911880" cy="494280"/>
          </a:xfrm>
          <a:prstGeom prst="straightConnector1">
            <a:avLst/>
          </a:prstGeom>
          <a:ln w="9360">
            <a:solidFill>
              <a:srgbClr val="000000"/>
            </a:solidFill>
            <a:miter/>
            <a:tailEnd len="med" type="triangle" w="med"/>
          </a:ln>
        </p:spPr>
      </p:cxnSp>
      <p:cxnSp>
        <p:nvCxnSpPr>
          <p:cNvPr id="51" name=""/>
          <p:cNvCxnSpPr>
            <a:stCxn id="44" idx="0"/>
            <a:endCxn id="46" idx="0"/>
          </p:cNvCxnSpPr>
          <p:nvPr/>
        </p:nvCxnSpPr>
        <p:spPr>
          <a:xfrm flipH="1" flipV="1" rot="5400000">
            <a:off x="2571480" y="1618560"/>
            <a:ext cx="1753560" cy="4306320"/>
          </a:xfrm>
          <a:prstGeom prst="curvedConnector5">
            <a:avLst>
              <a:gd name="adj1" fmla="val 113039"/>
              <a:gd name="adj2" fmla="val 49995"/>
              <a:gd name="adj3" fmla="val 113039"/>
            </a:avLst>
          </a:prstGeom>
          <a:ln w="9360">
            <a:solidFill>
              <a:srgbClr val="000000"/>
            </a:solidFill>
            <a:miter/>
            <a:tailEnd len="med" type="triangle" w="med"/>
          </a:ln>
        </p:spPr>
      </p:cxnSp>
      <p:cxnSp>
        <p:nvCxnSpPr>
          <p:cNvPr id="52" name=""/>
          <p:cNvCxnSpPr>
            <a:stCxn id="45" idx="2"/>
            <a:endCxn id="47" idx="2"/>
          </p:cNvCxnSpPr>
          <p:nvPr/>
        </p:nvCxnSpPr>
        <p:spPr>
          <a:xfrm flipH="1" rot="16200000">
            <a:off x="5333760" y="2285640"/>
            <a:ext cx="532800" cy="4952160"/>
          </a:xfrm>
          <a:prstGeom prst="curvedConnector5">
            <a:avLst>
              <a:gd name="adj1" fmla="val 142934"/>
              <a:gd name="adj2" fmla="val 49996"/>
              <a:gd name="adj3" fmla="val 142934"/>
            </a:avLst>
          </a:prstGeom>
          <a:ln w="9360">
            <a:solidFill>
              <a:srgbClr val="000000"/>
            </a:solidFill>
            <a:miter/>
            <a:tailEnd len="med" type="triangle" w="med"/>
          </a:ln>
        </p:spPr>
      </p:cxnSp>
      <p:cxnSp>
        <p:nvCxnSpPr>
          <p:cNvPr id="53" name=""/>
          <p:cNvCxnSpPr>
            <a:stCxn id="44" idx="3"/>
            <a:endCxn id="47" idx="2"/>
          </p:cNvCxnSpPr>
          <p:nvPr/>
        </p:nvCxnSpPr>
        <p:spPr>
          <a:xfrm flipV="1">
            <a:off x="2209680" y="5027400"/>
            <a:ext cx="5866200" cy="5738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8 survey (1)</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on length of romantic commitment and pre-planning of cohabi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lihood of marrying and/or cohabi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itudes towards reproduction within cohabit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on residence of biological children at birth</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8 survey (2)</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emale respondents, questions about work experiences around the birth of each chil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bout coparenting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bout parenting behavior toward noncoresidential childr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able questions added about children in the household</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esign for the 2008 survey (3)</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 on identification as born again/evangelical Christia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rcise and time spent on computer questions expand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designed to measure social network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questions revised and updated</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esign for the 2008 survey (4)</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about supervisory responsibility ad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bout work and/or deployment in combat zon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questions about computer usage dropp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questions about specific training programs dropped</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A 2008 Preliminary Release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 an overview with links into questionnaire se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an HTML version of the 2008 questionnaire that is hyper-linked within and across sec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raw, unedited data for all interviewed YAs, along with a small number of constructed variab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merged with either the Child/YA 2006 release or the NLSY79 2006 release</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ing in the YA Survey</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ing survey flow and univer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A Survey Flow Chart</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screens show a flow chart of the YA 2006 surve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ame flow pattern applies to the YA surveys from 2000 to 200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flow chart 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general paths through the surve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universes for survey sections (but not individual item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greater detail, refer to the HTML surv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02" name=""/>
          <p:cNvGraphicFramePr/>
          <p:nvPr/>
        </p:nvGraphicFramePr>
        <p:xfrm>
          <a:off x="1920960" y="228600"/>
          <a:ext cx="5302080" cy="6400800"/>
        </p:xfrm>
        <a:graphic>
          <a:graphicData uri="http://schemas.openxmlformats.org/presentationml/2006/ole">
            <p:oleObj r:id="rId1" spid="">
              <p:embed/>
              <p:pic>
                <p:nvPicPr>
                  <p:cNvPr id="103" name="" descr=""/>
                  <p:cNvPicPr/>
                  <p:nvPr/>
                </p:nvPicPr>
                <p:blipFill>
                  <a:blip r:embed="rId2"/>
                  <a:stretch/>
                </p:blipFill>
                <p:spPr>
                  <a:xfrm>
                    <a:off x="1920960" y="228600"/>
                    <a:ext cx="53020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04" name=""/>
          <p:cNvGraphicFramePr/>
          <p:nvPr/>
        </p:nvGraphicFramePr>
        <p:xfrm>
          <a:off x="1920960" y="304920"/>
          <a:ext cx="5302080" cy="6172200"/>
        </p:xfrm>
        <a:graphic>
          <a:graphicData uri="http://schemas.openxmlformats.org/presentationml/2006/ole">
            <p:oleObj r:id="rId1" spid="">
              <p:embed/>
              <p:pic>
                <p:nvPicPr>
                  <p:cNvPr id="105" name="" descr=""/>
                  <p:cNvPicPr/>
                  <p:nvPr/>
                </p:nvPicPr>
                <p:blipFill>
                  <a:blip r:embed="rId2"/>
                  <a:stretch/>
                </p:blipFill>
                <p:spPr>
                  <a:xfrm>
                    <a:off x="1920960" y="304920"/>
                    <a:ext cx="53020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06" name=""/>
          <p:cNvGraphicFramePr/>
          <p:nvPr/>
        </p:nvGraphicFramePr>
        <p:xfrm>
          <a:off x="1920960" y="228600"/>
          <a:ext cx="5302080" cy="6400800"/>
        </p:xfrm>
        <a:graphic>
          <a:graphicData uri="http://schemas.openxmlformats.org/presentationml/2006/ole">
            <p:oleObj r:id="rId1" spid="">
              <p:embed/>
              <p:pic>
                <p:nvPicPr>
                  <p:cNvPr id="107" name="" descr=""/>
                  <p:cNvPicPr/>
                  <p:nvPr/>
                </p:nvPicPr>
                <p:blipFill>
                  <a:blip r:embed="rId2"/>
                  <a:stretch/>
                </p:blipFill>
                <p:spPr>
                  <a:xfrm>
                    <a:off x="1920960" y="228600"/>
                    <a:ext cx="53020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areas to explore</a:t>
            </a:r>
            <a:endParaRPr b="0" lang="en-US" sz="2800" spc="-1" strike="noStrike">
              <a:solidFill>
                <a:srgbClr val="000000"/>
              </a:solidFill>
              <a:latin typeface="Times New Roman"/>
            </a:endParaRPr>
          </a:p>
        </p:txBody>
      </p:sp>
      <p:sp>
        <p:nvSpPr>
          <p:cNvPr id="5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y Tran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ing Attitudes and Behavi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al Attai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to Work Tran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or Force Partici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cupational/Status Attai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of Attitudes and Belief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ance across generation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08" name=""/>
          <p:cNvGraphicFramePr/>
          <p:nvPr/>
        </p:nvGraphicFramePr>
        <p:xfrm>
          <a:off x="1920960" y="228600"/>
          <a:ext cx="5302080" cy="6400800"/>
        </p:xfrm>
        <a:graphic>
          <a:graphicData uri="http://schemas.openxmlformats.org/presentationml/2006/ole">
            <p:oleObj r:id="rId1" spid="">
              <p:embed/>
              <p:pic>
                <p:nvPicPr>
                  <p:cNvPr id="109" name="" descr=""/>
                  <p:cNvPicPr/>
                  <p:nvPr/>
                </p:nvPicPr>
                <p:blipFill>
                  <a:blip r:embed="rId2"/>
                  <a:stretch/>
                </p:blipFill>
                <p:spPr>
                  <a:xfrm>
                    <a:off x="1920960" y="228600"/>
                    <a:ext cx="53020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10" name=""/>
          <p:cNvGraphicFramePr/>
          <p:nvPr/>
        </p:nvGraphicFramePr>
        <p:xfrm>
          <a:off x="1920960" y="304920"/>
          <a:ext cx="5302080" cy="6248160"/>
        </p:xfrm>
        <a:graphic>
          <a:graphicData uri="http://schemas.openxmlformats.org/presentationml/2006/ole">
            <p:oleObj r:id="rId1" spid="">
              <p:embed/>
              <p:pic>
                <p:nvPicPr>
                  <p:cNvPr id="111" name="" descr=""/>
                  <p:cNvPicPr/>
                  <p:nvPr/>
                </p:nvPicPr>
                <p:blipFill>
                  <a:blip r:embed="rId2"/>
                  <a:stretch/>
                </p:blipFill>
                <p:spPr>
                  <a:xfrm>
                    <a:off x="1920960" y="304920"/>
                    <a:ext cx="5302080" cy="62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12" name=""/>
          <p:cNvGraphicFramePr/>
          <p:nvPr/>
        </p:nvGraphicFramePr>
        <p:xfrm>
          <a:off x="1920960" y="304920"/>
          <a:ext cx="5302080" cy="6172200"/>
        </p:xfrm>
        <a:graphic>
          <a:graphicData uri="http://schemas.openxmlformats.org/presentationml/2006/ole">
            <p:oleObj r:id="rId1" spid="">
              <p:embed/>
              <p:pic>
                <p:nvPicPr>
                  <p:cNvPr id="113" name="" descr=""/>
                  <p:cNvPicPr/>
                  <p:nvPr/>
                </p:nvPicPr>
                <p:blipFill>
                  <a:blip r:embed="rId2"/>
                  <a:stretch/>
                </p:blipFill>
                <p:spPr>
                  <a:xfrm>
                    <a:off x="1920960" y="304920"/>
                    <a:ext cx="53020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Flow for Individual Item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h a respondent takes is determined by three major sources of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loaded information from past survey rounds and/or mother’s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s to specific questions in the surve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s constructed from preloads, answers or a combination thereo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h a typical respondent might take can be explored through following the hyperlinks in the HTML questionnai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on an age and characteristics (living with mom, in college,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on links appropriate to these characteristics and answers you choo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can be retraced backwards by using Lead-In lin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between the HTML questionnaire and the codeboo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book is also hyperlinked and can be used to trace survey flow; how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TML questionnaire includes questions that are not released, a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debook includes constructed variables that will not be in the questionn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questions in questionnaire but not releas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ng or other privat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tims, which may be coded and released as numeric variables, such as occupation and indust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that are used as inputs for summary rosters, such as in the household record or the biological child roster; these data are released in their summary 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items in codebook but not in questionnai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d items such as occupation and indust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ed variables such as age at first birth or month and year of first marri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ed versions of existing variables such as resid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1)</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are asked only the first time a respondent goes through the surve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father’s race is asked only once, during the first YA interview</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these questions are directed at 14-16 year olds, but occasionally older YAs are interviewed for their first tim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items may be deliberately restricted to new YAs under a certain age; e.g., questions about teenage drinking patterns (see YASR-10 for skip into the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checks prior to substantive questions allow users to understand universe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6091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are asked only if a positive response has not been given in the pa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there are preloaded flags for ever dated, ever been pregnant, ever smoked, ever drank,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checks prior to substantive questions allow users to check universes (e.g., YASR-4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sionally, either respondents change their minds or flags reflect previous interviewer error, so flags may be inconsistent over survey rounds (see YASR-49 for example of an escape clau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elf-report items, survey checks were not introduced until the 2000 re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6" name=""/>
          <p:cNvGraphicFramePr/>
          <p:nvPr/>
        </p:nvGraphicFramePr>
        <p:xfrm>
          <a:off x="457200" y="507960"/>
          <a:ext cx="8229600" cy="5842080"/>
        </p:xfrm>
        <a:graphic>
          <a:graphicData uri="http://schemas.openxmlformats.org/presentationml/2006/ole">
            <p:oleObj progId="Word.Document.12" r:id="rId1" spid="">
              <p:embed/>
              <p:pic>
                <p:nvPicPr>
                  <p:cNvPr id="57" name="" descr=""/>
                  <p:cNvPicPr/>
                  <p:nvPr/>
                </p:nvPicPr>
                <p:blipFill>
                  <a:blip r:embed="rId2"/>
                  <a:stretch/>
                </p:blipFill>
                <p:spPr>
                  <a:xfrm>
                    <a:off x="457200" y="507960"/>
                    <a:ext cx="8229600" cy="584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609120"/>
            <a:ext cx="77724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3)</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have a substantive question needed to understand univers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substantive questions either allow for a ‘nonnumeric’ response or branch according to the type of respons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Q2-4B1 (When did you most recently begin living in this city/town?) offers the answer choices “Select to enter date” and “Lived here all my lif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elect to enter date” responses are branched to Q2-4B to enter the date, then into the rest of the migration seque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ived here all my life” responses are branched out of the migration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6091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4)</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have both a machine check and a substantive question needed to understand univers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Q3-0E is a machine check to see if R has reported dating in the past, and codes of zero branch to Q3-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3-1 asks age R began dating and offers the choices of “Select to enter age”, “Never started”, and “Volunteered same-sex da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elect to enter age” and “Volunteered same-sex dating” are branched to Q3-1A to enter 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Never started” responses are branched to the next machine check, Q3-1C</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33520" y="914400"/>
            <a:ext cx="77724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veats for understanding survey flow and universes (5)</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questions are only updated since the date of last interview for previously interviewed YAs but ever for new YA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there are not machine checks available prior to these questions, as text fills determine the question tex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 text in the HTML questionnaire and codebook alerts users to these ques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ed text such as “[Since DLI have you/Have you ever]” will appear in such questions (see Q3-4)</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checks that everyone hits, such as Q2-1 (Y1451900 in 2006), allow users to identify new vs. old YAs</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standing Missing Data</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data extracts with the SAS or SPSS statements option automatically include language to set negative values to special system missing values, users should be aware of what the various missing codes in our data mean so that they can better understand the universes that are missing from various data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of -7 in the Young Adult Data mean a valid skip, indicating th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not have been interviewed in that round, 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not have been eligible for a given instrument, 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not have entered a given section of the survey, 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pondent may have been skipped out of a specific p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of -7 can be differentiated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eligibility and interview status flags for the YA in the Child Background area of interes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machine checks within each survey instruments to determine survey path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des of -3 in the Young Adult Data mean an invalid skip, indicating th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pondent did not answer questions that should have been answered (YASRB in 1996 and 1998),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e or more of the inputs needed to construct a variable are missing,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a problem with preload data or the system during an intervie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note that in the CAPI/CATI data an invalid skip will show up in the machine checks that branch the respondents into questions, not in the questions themsel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of -2 and -1 in the Young Adult Data are respondent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s of -2 indicates a response of Don’t Know</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s of -1 indicates a refusal to answ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31" name=""/>
          <p:cNvGraphicFramePr/>
          <p:nvPr/>
        </p:nvGraphicFramePr>
        <p:xfrm>
          <a:off x="1822320" y="687240"/>
          <a:ext cx="5497560" cy="5481720"/>
        </p:xfrm>
        <a:graphic>
          <a:graphicData uri="http://schemas.openxmlformats.org/presentationml/2006/ole">
            <p:oleObj progId="Word.Document.12" r:id="rId1" spid="">
              <p:embed/>
              <p:pic>
                <p:nvPicPr>
                  <p:cNvPr id="132" name="" descr=""/>
                  <p:cNvPicPr/>
                  <p:nvPr/>
                </p:nvPicPr>
                <p:blipFill>
                  <a:blip r:embed="rId2"/>
                  <a:stretch/>
                </p:blipFill>
                <p:spPr>
                  <a:xfrm>
                    <a:off x="1822320" y="687240"/>
                    <a:ext cx="5497560" cy="548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33" name=""/>
          <p:cNvGraphicFramePr/>
          <p:nvPr/>
        </p:nvGraphicFramePr>
        <p:xfrm>
          <a:off x="1822320" y="1447920"/>
          <a:ext cx="5497560" cy="3332160"/>
        </p:xfrm>
        <a:graphic>
          <a:graphicData uri="http://schemas.openxmlformats.org/presentationml/2006/ole">
            <p:oleObj progId="Word.Document.12" r:id="rId1" spid="">
              <p:embed/>
              <p:pic>
                <p:nvPicPr>
                  <p:cNvPr id="134" name="" descr=""/>
                  <p:cNvPicPr/>
                  <p:nvPr/>
                </p:nvPicPr>
                <p:blipFill>
                  <a:blip r:embed="rId2"/>
                  <a:stretch/>
                </p:blipFill>
                <p:spPr>
                  <a:xfrm>
                    <a:off x="1822320" y="1447920"/>
                    <a:ext cx="5497560" cy="333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ginning of the YA Survey</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in 199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to follow the NLSY79 children as they approached adulth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age up” when they will turn 15 by the end of the current survey y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 cap of 20 at interview in 1998</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ion of over-sample cases not fielded in 20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age or sample restrictions since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35" name=""/>
          <p:cNvGraphicFramePr/>
          <p:nvPr/>
        </p:nvGraphicFramePr>
        <p:xfrm>
          <a:off x="1822320" y="1787400"/>
          <a:ext cx="5497560" cy="3281400"/>
        </p:xfrm>
        <a:graphic>
          <a:graphicData uri="http://schemas.openxmlformats.org/presentationml/2006/ole">
            <p:oleObj progId="Word.Document.12" r:id="rId1" spid="">
              <p:embed/>
              <p:pic>
                <p:nvPicPr>
                  <p:cNvPr id="136" name="" descr=""/>
                  <p:cNvPicPr/>
                  <p:nvPr/>
                </p:nvPicPr>
                <p:blipFill>
                  <a:blip r:embed="rId2"/>
                  <a:stretch/>
                </p:blipFill>
                <p:spPr>
                  <a:xfrm>
                    <a:off x="1822320" y="1787400"/>
                    <a:ext cx="5497560" cy="328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37" name=""/>
          <p:cNvGraphicFramePr/>
          <p:nvPr/>
        </p:nvGraphicFramePr>
        <p:xfrm>
          <a:off x="1822320" y="1981080"/>
          <a:ext cx="5497560" cy="2894040"/>
        </p:xfrm>
        <a:graphic>
          <a:graphicData uri="http://schemas.openxmlformats.org/presentationml/2006/ole">
            <p:oleObj progId="Word.Document.12" r:id="rId1" spid="">
              <p:embed/>
              <p:pic>
                <p:nvPicPr>
                  <p:cNvPr id="138" name="" descr=""/>
                  <p:cNvPicPr/>
                  <p:nvPr/>
                </p:nvPicPr>
                <p:blipFill>
                  <a:blip r:embed="rId2"/>
                  <a:stretch/>
                </p:blipFill>
                <p:spPr>
                  <a:xfrm>
                    <a:off x="1822320" y="1981080"/>
                    <a:ext cx="5497560" cy="289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39" name=""/>
          <p:cNvGraphicFramePr/>
          <p:nvPr/>
        </p:nvGraphicFramePr>
        <p:xfrm>
          <a:off x="1822320" y="1270080"/>
          <a:ext cx="5497560" cy="4316400"/>
        </p:xfrm>
        <a:graphic>
          <a:graphicData uri="http://schemas.openxmlformats.org/presentationml/2006/ole">
            <p:oleObj progId="Word.Document.12" r:id="rId1" spid="">
              <p:embed/>
              <p:pic>
                <p:nvPicPr>
                  <p:cNvPr id="140" name="" descr=""/>
                  <p:cNvPicPr/>
                  <p:nvPr/>
                </p:nvPicPr>
                <p:blipFill>
                  <a:blip r:embed="rId2"/>
                  <a:stretch/>
                </p:blipFill>
                <p:spPr>
                  <a:xfrm>
                    <a:off x="1822320" y="1270080"/>
                    <a:ext cx="5497560" cy="431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from the earliest years of the You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of the World of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s Ro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nic Identifica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s parallel to the current Youth Surve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usehold Recor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CPS, Employer Supplements (som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s eliminated), Military Service and Gap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rt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me (fewer questions on ass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itudes such as Perlin Mastery, Rosenberg Self-Esteem, and CE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ed or Parallel questions from the CS/C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alth (routine checks, accidents and injur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ing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 with par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arent/child interac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Tak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Experience and Satisfa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66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Conten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ilored questions for this age group (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formation about fathers, especially non-residential on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ing of and reasons for leaving ho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with parents as YAs leave hom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riage and Cohabitation Histo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School and College experi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13:01:50Z</dcterms:created>
  <dc:creator>NLSUser</dc:creator>
  <dc:description/>
  <dc:language>en-US</dc:language>
  <cp:lastModifiedBy>keck</cp:lastModifiedBy>
  <dcterms:modified xsi:type="dcterms:W3CDTF">2009-07-12T23:11:56Z</dcterms:modified>
  <cp:revision>75</cp:revision>
  <dc:subject/>
  <dc:title>The Young Adult Survey:</dc:title>
</cp:coreProperties>
</file>