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4"/>
          </p:nvPr>
        </p:nvSpPr>
        <p:spPr>
          <a:xfrm>
            <a:off x="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D9ED76-22AE-4E52-A0B5-F87BA9B5C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7313C9-ED05-4611-82E7-1576EA8037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89B2B8-7A31-4CC7-BED6-FB9997674B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095-35B9-43D9-9B9E-89C61A3F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CF9-FEE6-48A8-913C-6D598A0B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C89-3C09-46B7-8DD3-54975BE1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33A-9DD4-4922-9F27-91FD8DCF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A7E2-3B17-499B-9FE8-BA4004C2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D8C0-C263-4BA9-ABD4-E16FB0E9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B7A7-6D88-4B7B-BA2F-D8B22641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921E-441E-4260-9055-81D618D1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A1A7-218B-4A19-B9DF-AACD16D2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7853-AF62-4987-8DC5-FBD45071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74F7-4054-46E9-B062-CB362E00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647-E5D5-4430-A665-9F2A5454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1FC9-0239-4DD0-860B-CF385EF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B6C0-E53A-4B15-AE9F-ADCC010C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31BF-9911-4701-9F32-47AEB84A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533C-E7ED-474F-AD3B-CC4ED713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D9E6-5473-4A8E-896B-1CF74CCC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FFA9B-6FDC-4198-89C5-134A66AA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54700-C599-4709-B732-CBDDCBBB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1B405-6E01-4278-97D9-D5A2548C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E5D21-022D-4F35-8120-F95AF4DB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937F8-E8E0-4ACB-A974-8280995C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2E4F-F271-4380-91EF-9D39B1BA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45CF-0A4A-45B7-966A-0F319BC1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AAF7-8610-466D-B6E7-AFE30465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C6064-7CED-47F2-AA94-13AFC3D4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BA309-1B85-41B7-90E5-9B5829C4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E46EE-DACA-4A74-A63A-CFC55DEE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DC9B1-314F-4617-B8E5-02763477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837C-6392-4684-B3AE-40F54DBC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67C17-E380-410C-B5E0-BBCF788C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FD4D3-D7D8-4E89-A6A5-5532C143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78571-D37B-45CE-98B6-14582F4A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7D1-68B9-4477-B2B1-0DC13C79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173E1-50F6-4704-B320-3ADFC25B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D72D-A2B3-4EF6-A92D-8BF36B78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1BEA4-C18C-4A09-9FBB-EEA7CFBF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2EB74-7A96-43AF-B30D-AD9A469F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F213E-65CF-472B-B7A5-521217DA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0253F-9C4B-4600-B894-6F4D78FA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AF50E-2963-4F48-A9CB-6FD6DAFD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EF221-2040-4813-9987-8417453A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D064F-D586-4067-984D-8127E0EB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45F-2BCC-4782-B3A8-0F1668A7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E45-1723-4B58-B947-400E1362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4C0-F07F-4FD3-9002-95AA5586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953-3860-45F2-8F90-8CBA147C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15F-A7BA-4C7E-853D-8D280B10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AB10-1046-43B6-BF98-84A7279E98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55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7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8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86F3-55D5-489D-ACEE-C10D83D9FA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0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1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1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F3F3-0F7A-4C0F-94A4-1F28BCC873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6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6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67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71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CE6B-983D-4C05-806C-3A49A16D6C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NLS Rosters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List of items relating to a topic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Unique QNAME identifies these items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Finding roster items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Read the documentation!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Lists of QNAME/RNUMS are included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Search 97 using the Area of Interest=Roster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Only until the July 2009 data release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Search using Variable Type=Roster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NLSY97 has the most rosters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Match to Event History Arrays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Event History Arrays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Not linked to a specific year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Loop numbers do not apply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Most contain an ID link to rosters/loops 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Two types of array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Week-by-week account of jobs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Work history (79/97) – job ID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Month-by-month account of activity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Marriage (97) – partner ID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Schooling (97)  - school ID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Recipiency/program participation (97/79) – no ID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Event History IDs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666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Use ID to find the monthly/weekly activity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Example continued: how many weeks did the R work at this job in calendar year 2004?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Job ID contained in the status array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639720" indent="-22860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Times New Roman"/>
              </a:rPr>
              <a:t>0: No information reported to account for week; job dates indeterminate</a:t>
            </a:r>
            <a:endParaRPr b="0" lang="en-US" sz="1800" spc="-1" strike="noStrike">
              <a:solidFill>
                <a:srgbClr val="ff3399"/>
              </a:solidFill>
              <a:latin typeface="Times New Roman"/>
            </a:endParaRPr>
          </a:p>
          <a:p>
            <a:pPr lvl="2" marL="639720" indent="-22860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Times New Roman"/>
              </a:rPr>
              <a:t>1: Not associated w/an employer, not actively searching for an employer job</a:t>
            </a:r>
            <a:endParaRPr b="0" lang="en-US" sz="1800" spc="-1" strike="noStrike">
              <a:solidFill>
                <a:srgbClr val="ff3399"/>
              </a:solidFill>
              <a:latin typeface="Times New Roman"/>
            </a:endParaRPr>
          </a:p>
          <a:p>
            <a:pPr lvl="2" marL="639720" indent="-22860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Times New Roman"/>
              </a:rPr>
              <a:t>2: Not working (unemployment vs. out of labor force cannot be determined)</a:t>
            </a:r>
            <a:endParaRPr b="0" lang="en-US" sz="1800" spc="-1" strike="noStrike">
              <a:solidFill>
                <a:srgbClr val="ff3399"/>
              </a:solidFill>
              <a:latin typeface="Times New Roman"/>
            </a:endParaRPr>
          </a:p>
          <a:p>
            <a:pPr lvl="2" marL="639720" indent="-22860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Times New Roman"/>
              </a:rPr>
              <a:t>3: Associated w/an employer, periods not working for the employer missing</a:t>
            </a:r>
            <a:endParaRPr b="0" lang="en-US" sz="1800" spc="-1" strike="noStrike">
              <a:solidFill>
                <a:srgbClr val="ff3399"/>
              </a:solidFill>
              <a:latin typeface="Times New Roman"/>
            </a:endParaRPr>
          </a:p>
          <a:p>
            <a:pPr lvl="2" marL="639720" indent="-22860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Times New Roman"/>
              </a:rPr>
              <a:t>4: Unemployed</a:t>
            </a:r>
            <a:endParaRPr b="0" lang="en-US" sz="1800" spc="-1" strike="noStrike">
              <a:solidFill>
                <a:srgbClr val="ff3399"/>
              </a:solidFill>
              <a:latin typeface="Times New Roman"/>
            </a:endParaRPr>
          </a:p>
          <a:p>
            <a:pPr lvl="2" marL="639720" indent="-22860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Times New Roman"/>
              </a:rPr>
              <a:t>5: Out of the labor force</a:t>
            </a:r>
            <a:endParaRPr b="0" lang="en-US" sz="1800" spc="-1" strike="noStrike">
              <a:solidFill>
                <a:srgbClr val="ff3399"/>
              </a:solidFill>
              <a:latin typeface="Times New Roman"/>
            </a:endParaRPr>
          </a:p>
          <a:p>
            <a:pPr lvl="2" marL="639720" indent="-22860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Times New Roman"/>
              </a:rPr>
              <a:t>6: Active military service</a:t>
            </a:r>
            <a:endParaRPr b="0" lang="en-US" sz="1800" spc="-1" strike="noStrike">
              <a:solidFill>
                <a:srgbClr val="ff3399"/>
              </a:solidFill>
              <a:latin typeface="Times New Roman"/>
            </a:endParaRPr>
          </a:p>
          <a:p>
            <a:pPr lvl="2" marL="639720" indent="-22860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Times New Roman"/>
              </a:rPr>
              <a:t>9701 TO 200610: Employer on roster (see YEMP_UID)</a:t>
            </a:r>
            <a:endParaRPr b="0" lang="en-US" sz="18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Matching to EH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IDs may be found in more than 1 place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Match ID to the status array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Main/only job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EMP_STATUS_2004.01 to EMP_STATUS_2004.52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Match ID to the dual job arrays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Contains only job IDs if a dual job worked in that week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EMP_DUAL_2_2004 .01 to EMP_DUAL_2_2004.52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For all dual arrays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Event History Example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66680" y="18284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Sum weeks that match the employer id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4 weeks are worked at this job in the first 7 weeks: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BUT you would need to do this for each person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154320" y="2971800"/>
          <a:ext cx="2835360" cy="2438280"/>
        </p:xfrm>
        <a:graphic>
          <a:graphicData uri="http://schemas.openxmlformats.org/drawingml/2006/table">
            <a:tbl>
              <a:tblPr/>
              <a:tblGrid>
                <a:gridCol w="2011320"/>
                <a:gridCol w="824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_STATUS_2004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_STATUS_2004.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_STATUS_2004.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_STATUS_2004.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_STATUS_2004.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_STATUS_2004.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P_STATUS_2004.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Example using Event History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9036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18252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Use the actual ID [job_uid] to link survey to EH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582480" indent="18252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Position number is not useful 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marL="182520" indent="18252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Again easier to use arrays to count weeks worked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marL="182520" indent="18252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local status "status0401-status0452" 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182520" indent="18252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local dual "dual0401-dual0452" 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182520" indent="18252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local i=1 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182520" indent="18252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gen j=0 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182520" indent="18252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while 'i'&lt;=52 { 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182520" indent="18252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local var1: word 'i' of 'status' 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182520" indent="18252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local var2: word 'i' of 'dual' 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182520" indent="18252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replace j=j+1 if 'var1'==job_uid | 'var2'==job_uid 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182520" indent="18252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local i='i'+1 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182520" indent="182520"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182520" indent="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Finding Examples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Two Tutorials on documentation page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Linking Roster Items across Rounds in the NLSY97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Matching Cohabiting Partners to Their Characteristics in the NLSY97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Check back as there will be more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 Final Note…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As you organize your research projects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Read the documentation about your topic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Identify your variables of interest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Rosters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Created &amp; Event History variables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Examine variables for content &amp; anomalies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Generate tagsets &amp; programs for RETRIEVAL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Researcher Rules for Rosters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66680" y="198072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Roster loops match: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Other roster items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IND.02 &amp; OCC.02 are the same job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Questionnaire loops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2nd roster job matches to the 2nd data loop in the questionnaire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Created variable loops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The 2nd job’s wage=CV_HRLY_PAY.02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ID usually refers to the 1st round reported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Roster IDs are assigned in order during the survey but are NOT necessarily in order in the data roster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Roster Formation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Some roster items created/used at survey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Example: Jobs 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Jobs worked at the DLI are verified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If denied, then delete from roster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If verified, then ask follow-up questions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Jobs worked since DLI are then added to the roster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After the survey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Roster items are cleaned if necessary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New roster items are added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Using Roster IDs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All rosters contain an ID variable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Employer id=YEMP_UID.03 (e.g., 200402)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IDs allow you to link items: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To current round loop numbers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The ID position (e.g., 03)=loop # for that job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Across rounds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The ID position probably differs for each round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Compare characteristics across rounds with loop #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To the event histories using the ID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Simple Roster ID Example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Determine the change in hourly wage for respondents who worked the same job in rounds 8 (2004) through 10 (2006). Steps: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For each respondent: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371600" indent="-457200">
              <a:spcBef>
                <a:spcPts val="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Compare the IDs of all jobs across the rounds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2" marL="1371600" indent="-457200">
              <a:spcBef>
                <a:spcPts val="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Identify jobs fitting the criteria (3 rounds)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2" marL="1371600" indent="-457200">
              <a:spcBef>
                <a:spcPts val="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Restrict to 1 job per respondent (hrs/wk?)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2" marL="1371600" indent="-457200">
              <a:spcBef>
                <a:spcPts val="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Determine ID position of that job in each year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2" marL="1371600" indent="-457200">
              <a:spcBef>
                <a:spcPts val="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Match ID position to the loop # in each year 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2" marL="1371600" indent="-457200">
              <a:spcBef>
                <a:spcPts val="99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Use the loop # to pull the appropriate wages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Reality: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66320" y="1981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Consider the case for a specific R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R8 reports a new job (200402) @ position 3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Still at 200402 in r9 @ position/loop 1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Still at 200402 in r10 @ position/loop 4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BUT how to identify this type of job for all R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Create a variable=r8 Job ID  [e.g., job_uid]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Use the ID to match across rounds 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Find jobs that are reported in all 3 rounds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Some R have&gt;1 job (choose 1 job – hrs/wk?)</a:t>
            </a: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4" marL="12574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048120" y="304920"/>
          <a:ext cx="4937040" cy="1463400"/>
        </p:xfrm>
        <a:graphic>
          <a:graphicData uri="http://schemas.openxmlformats.org/drawingml/2006/table">
            <a:tbl>
              <a:tblPr/>
              <a:tblGrid>
                <a:gridCol w="1646280"/>
                <a:gridCol w="1645920"/>
                <a:gridCol w="164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nd/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b 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8/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4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MP_UID.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9/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4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MP_UID.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10/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4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MP_UID.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Matching Roster IDs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3808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88920">
              <a:buClr>
                <a:srgbClr val="ffff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For each job between r8-r9, r8-r10 create: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399960" indent="-90360"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R8-R9: match189, match289, match389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399960" indent="-90360"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R8-R10: match1810, match2810, match3810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marL="88920" indent="-8892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Example of matching 3</a:t>
            </a:r>
            <a:r>
              <a:rPr b="0" lang="en-US" sz="2800" spc="-1" strike="noStrike" baseline="30000">
                <a:solidFill>
                  <a:srgbClr val="ff3399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 r8 job to any job in r9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marL="88920" indent="-88920">
              <a:buClr>
                <a:srgbClr val="ffffcc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gen match389=.            /*match the 3</a:t>
            </a:r>
            <a:r>
              <a:rPr b="0" lang="en-US" sz="1600" spc="-1" strike="noStrike" baseline="30000">
                <a:solidFill>
                  <a:srgbClr val="99ff33"/>
                </a:solidFill>
                <a:latin typeface="Times New Roman"/>
              </a:rPr>
              <a:t>rd</a:t>
            </a: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 element of r8 roster to r9 using Stata*/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88920" indent="-88920">
              <a:buClr>
                <a:srgbClr val="ffffcc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local euid8  uid8_1 uid8_2 uid8_3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88920" indent="-88920">
              <a:buClr>
                <a:srgbClr val="ffffcc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local euid9  uid9_1 uid9_2 uid9_5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88920" indent="-88920">
              <a:buClr>
                <a:srgbClr val="ffffcc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local i9=1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88920" indent="-88920">
              <a:buClr>
                <a:srgbClr val="ffffcc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while `i9' &lt;= 3 {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88920" indent="-88920">
              <a:buClr>
                <a:srgbClr val="ffffcc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local var8 : word `i8' of `euid8‘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88920" indent="-88920">
              <a:buClr>
                <a:srgbClr val="ffffcc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local var9 : word `i9' of `euid9‘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88920" indent="-88920">
              <a:buClr>
                <a:srgbClr val="ffffcc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replace match389=`i9' if `var8'==`var9' &amp; `var8'&gt;-4 &amp; `var9'&gt;-4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88920" indent="-88920">
              <a:buClr>
                <a:srgbClr val="ffffcc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local i9=`i9' + 1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88920" indent="-88920">
              <a:buClr>
                <a:srgbClr val="ffffcc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88920" indent="-88920">
              <a:buClr>
                <a:srgbClr val="ffff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Match389=1 [r9 position # of job listed in r8 loop3]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Determine Eligible Jobs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Determine eligible jobs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301680" indent="-301680">
              <a:spcBef>
                <a:spcPts val="400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gen job_uid1=uid8_1 if match189~=. &amp; match1810~=.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lvl="1" marL="301680" indent="-301680">
              <a:spcBef>
                <a:spcPts val="400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gen job_uid2=uid8_2 if match289~=. &amp; match2810~=.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lvl="1" marL="301680" indent="-301680">
              <a:spcBef>
                <a:spcPts val="400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gen job_uid3=uid8_3 if match389~=. &amp; match3810~=.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For job 3 in r8 for this respondent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301680" indent="-3016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Match389=1  [match to 1st job in r9]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301680" indent="-3016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Match3810=4  [match to 4th job in r10]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301680" indent="-3016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Job_uid3=200402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Narrow to 1 job per respondent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301680" indent="-3016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job_uid=job_uid3 [200402 in our example]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301680" indent="-3016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match8=3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  <a:p>
            <a:pPr lvl="1" marL="301680" indent="-3016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Matching Rosters &amp; Loops</a:t>
            </a: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0666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Characteristics can be compared across rounds using the loop # once the position &amp; ID in each round are known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365040" indent="365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replace wager8=wage8_3 if match8==3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lvl="1" marL="365040" indent="365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replace wager9=wage9_1 if match8==3 &amp; match389==1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lvl="1" marL="365040" indent="365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Times New Roman"/>
              </a:rPr>
              <a:t>replace wager10=wage10_4 if match8==3 &amp; match3810==4</a:t>
            </a:r>
            <a:endParaRPr b="0" lang="en-US" sz="1600" spc="-1" strike="noStrike">
              <a:solidFill>
                <a:srgbClr val="ff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Easier to use arrays to do this type of analysis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Loop items include raw data &amp; created variables</a:t>
            </a:r>
            <a:endParaRPr b="0" lang="en-US" sz="2800" spc="-1" strike="noStrike">
              <a:solidFill>
                <a:srgbClr val="ff3399"/>
              </a:solidFill>
              <a:latin typeface="Times New Roman"/>
            </a:endParaRPr>
          </a:p>
          <a:p>
            <a:pPr lvl="1" marL="365040" indent="3650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Event History arrays do not include loops</a:t>
            </a:r>
            <a:endParaRPr b="0" lang="en-US" sz="2400" spc="-1" strike="noStrike">
              <a:solidFill>
                <a:srgbClr val="ff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9T14:50:55Z</dcterms:created>
  <dc:creator>Karima Nagi</dc:creator>
  <dc:description/>
  <dc:language>en-US</dc:language>
  <cp:lastModifiedBy>gardecki</cp:lastModifiedBy>
  <cp:lastPrinted>2000-04-03T17:29:03Z</cp:lastPrinted>
  <dcterms:modified xsi:type="dcterms:W3CDTF">2009-07-11T20:13:33Z</dcterms:modified>
  <cp:revision>1239</cp:revision>
  <dc:subject/>
  <dc:title>On Jobs Section</dc:title>
</cp:coreProperties>
</file>