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346-602E-43EF-849D-4199376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2AA-65A8-4566-BBAF-621FA5BC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0C7-6EA6-4382-94D7-3ADB6785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BAA-52F0-4309-ACAD-7BD47340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2A1-2D60-400E-8D90-A38E9B4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0EE-04BC-4D4F-B46F-7D5D930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D18-0654-4307-9A5B-CD4C3F7E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618-62A6-464A-8985-62ED29D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4C4-B84E-476B-9CC3-AD93619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B64-6361-40E9-AD4D-8A201F4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F12-182A-4E0F-B3DA-91AD6A7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BB8-4163-4568-8E58-E22D826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바탕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ata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D2E3-FB7D-437E-B828-3FF9480D331A}" type="slidenum">
              <a:rPr b="0" lang="en-US" sz="1400" spc="-1" strike="noStrike">
                <a:solidFill>
                  <a:srgbClr val="000000"/>
                </a:solidFill>
                <a:latin typeface="바탕"/>
              </a:rPr>
              <a:t>&lt;number&gt;</a:t>
            </a:fld>
            <a:endParaRPr b="0" lang="en-US" sz="14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Schooling Data:  </a:t>
            </a:r>
            <a:br>
              <a:rPr sz="4800"/>
            </a:br>
            <a:r>
              <a:rPr b="1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NLSY79 and NLSY97</a:t>
            </a:r>
            <a:endParaRPr b="0" lang="en-US" sz="48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434304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1 (NLSY79):  Audrey Light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15, 2009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Respondents’ additional schooling data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tisfaction with high school (1979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als and expectations (1979, 1981, 1982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st grade R would like to complet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st grade R expects to complet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me spent at school, studying in last week (1981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ther R took loans, had financial aid for college (various years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Family members’ schooling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GC by R’s mother, father, oldest sib (‘79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GC by R’s spouse (1979-82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GC by each household member (all years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GC by each sibling (1993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,918 Rs have sibs in the NLSY79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1979, we can form 4,690 sib pairs in 2,467 household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,152 of these sib pairs “cross-report” HGC in 1993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II.  High School Survey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one-time survey of respondents’ high schools, conducted in 1980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school identified by an NLSY79 respondent was mailed: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school questionnair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student questionnaire for each R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naires were returned for 8,805 Rs although not all were answered completely.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ummary of School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766800"/>
          <a:ext cx="7772400" cy="5995800"/>
        </p:xfrm>
        <a:graphic>
          <a:graphicData uri="http://schemas.openxmlformats.org/drawingml/2006/table">
            <a:tbl>
              <a:tblPr/>
              <a:tblGrid>
                <a:gridCol w="5440320"/>
                <a:gridCol w="1089360"/>
                <a:gridCol w="124272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nrollmen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2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5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books in library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1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3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if a program is offered i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icultural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2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5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office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6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tive educatio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4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7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0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6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me economics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6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8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de/industry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6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occupation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4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6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students disadvantag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4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average daily attendanc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8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.3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ders who do not graduat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5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1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ummary of School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762120"/>
          <a:ext cx="7315200" cy="5918040"/>
        </p:xfrm>
        <a:graphic>
          <a:graphicData uri="http://schemas.openxmlformats.org/drawingml/2006/table">
            <a:tbl>
              <a:tblPr/>
              <a:tblGrid>
                <a:gridCol w="5178600"/>
                <a:gridCol w="1068480"/>
                <a:gridCol w="106812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students who ar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Indian/Alaskan Nativ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1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n/Pacific Islander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1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spanic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0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(not Hispanic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0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te (not Hispanic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0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9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1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6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age of faculty who ar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Indian/Alaskan Nativ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4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n/Pacific Islander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3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spanic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2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(not Hispanic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1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te (not Hispanic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8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3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9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8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ummary of School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143000"/>
          <a:ext cx="8229600" cy="2860560"/>
        </p:xfrm>
        <a:graphic>
          <a:graphicData uri="http://schemas.openxmlformats.org/drawingml/2006/table">
            <a:tbl>
              <a:tblPr/>
              <a:tblGrid>
                <a:gridCol w="5943600"/>
                <a:gridCol w="1143000"/>
                <a:gridCol w="114300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FTE counselors in school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5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FTE teachers in school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4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3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FTE teachers with grad degre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4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8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FTE teachers left since 197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4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salary for 1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ear teachers w/ B.A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0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78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ummary of Student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762120"/>
          <a:ext cx="7467480" cy="6095880"/>
        </p:xfrm>
        <a:graphic>
          <a:graphicData uri="http://schemas.openxmlformats.org/drawingml/2006/table">
            <a:tbl>
              <a:tblPr/>
              <a:tblGrid>
                <a:gridCol w="5330880"/>
                <a:gridCol w="1068120"/>
                <a:gridCol w="1068480"/>
              </a:tblGrid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if currently enroll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3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2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/year last enroll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4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 —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if reason left school i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uat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7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err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ll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opped ou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2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8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st grade attended at this school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0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if participated in 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medial English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2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1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medial mathematic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6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1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h as a second languag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3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ingual educatio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2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Summary of Student-Specific Variables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762120"/>
          <a:ext cx="8229600" cy="5486400"/>
        </p:xfrm>
        <a:graphic>
          <a:graphicData uri="http://schemas.openxmlformats.org/drawingml/2006/table">
            <a:tbl>
              <a:tblPr/>
              <a:tblGrid>
                <a:gridCol w="6248520"/>
                <a:gridCol w="838080"/>
                <a:gridCol w="114300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ntile score on 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ifornia Test of Mental Maturity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4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is-Lennon Mental Ability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1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rge-Thorndike Intelligence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2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nmon-Nelson Test of Mental Maturity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3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hlmann-Anderson Intelligence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1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ial Aptitude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5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perative School and College Ability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9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ford-Binet Intelligence Sca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chsler Intelligence Scale for Childre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1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other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other tes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so:  Total scores, grade levels when tests were taken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HS Survey Sample Size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dents eligible for school surve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,2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ludes military subsample (n=1,280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ludes Rs high schools outside the U.S. (n=175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s with a “completed” school survey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,805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8% of target sample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iables with 8,805 valid response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s with valid responses for all 30 school-specific variable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,594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s with valid responses for first 5 student-specific variable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,438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s with percentile score and month/year/grade for at least one standardized test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875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III. Transcript Survey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ion of transcripts of respondents who had graduated from H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ected in 1980, 1981 and 1983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ools were asked to send copies of each respondent’s transcript (for grades 9-12) along with course catalogs.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cripts were provided for 9,010 Rs, although not all are complete.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Cohort Overview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066680"/>
          <a:ext cx="8763120" cy="5548320"/>
        </p:xfrm>
        <a:graphic>
          <a:graphicData uri="http://schemas.openxmlformats.org/drawingml/2006/table">
            <a:tbl>
              <a:tblPr/>
              <a:tblGrid>
                <a:gridCol w="2895480"/>
                <a:gridCol w="2819520"/>
                <a:gridCol w="3048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irth year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57-6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80-8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rst round year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rst round age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7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7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-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round 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year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ge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xt interview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3-5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-2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llege 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ne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ummary of Transcript Variable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990720"/>
          <a:ext cx="7315200" cy="5730840"/>
        </p:xfrm>
        <a:graphic>
          <a:graphicData uri="http://schemas.openxmlformats.org/drawingml/2006/table">
            <a:tbl>
              <a:tblPr/>
              <a:tblGrid>
                <a:gridCol w="5178600"/>
                <a:gridCol w="1068120"/>
                <a:gridCol w="106848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ys absent, grade 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6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2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1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7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rank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6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siz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6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.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 score, PSA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bal score, PSA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 score, SA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6.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bal score, SA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.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h score, AC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7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bal score, AC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2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/year left this school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4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  —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ummary of Transcript Variable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990720"/>
          <a:ext cx="8001000" cy="5532480"/>
        </p:xfrm>
        <a:graphic>
          <a:graphicData uri="http://schemas.openxmlformats.org/drawingml/2006/table">
            <a:tbl>
              <a:tblPr/>
              <a:tblGrid>
                <a:gridCol w="5734080"/>
                <a:gridCol w="1133280"/>
                <a:gridCol w="113364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if reason left school is 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uat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7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err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ll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opped out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1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3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eived G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49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rade level, course 1 (9-12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932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tle, course 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90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바탕"/>
                        </a:rPr>
                        <a:t>—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rade received, course 1 (0=F… 4=A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80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ource of computed grade, course 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,80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바탕"/>
                        </a:rPr>
                        <a:t>—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arnegie credits, course 1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,89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66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Course information available for up to 65 courses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Coding Transcript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es were computed in various ways: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, final grade for entire year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grade over multiple term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grade for one term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dits were coded using the Carnegie credit system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-year course receives 1.0 credit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ourses pro-rated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e level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er courses assigned to preceding year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titl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digit code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Terminology for Curriculum and Instruction in Local and State School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CES)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mple Transcript 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914400"/>
          <a:ext cx="8305560" cy="5059440"/>
        </p:xfrm>
        <a:graphic>
          <a:graphicData uri="http://schemas.openxmlformats.org/drawingml/2006/table">
            <a:tbl>
              <a:tblPr/>
              <a:tblGrid>
                <a:gridCol w="2361960"/>
                <a:gridCol w="990720"/>
                <a:gridCol w="1066680"/>
                <a:gridCol w="1905120"/>
                <a:gridCol w="914400"/>
                <a:gridCol w="1066680"/>
              </a:tblGrid>
              <a:tr h="299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ID=xxxx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h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Iish I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ch I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ing tech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nish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Govt.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y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writing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ology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ir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iver Ed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. Ed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ed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mple Transcript, continued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90720"/>
          <a:ext cx="8305560" cy="4895640"/>
        </p:xfrm>
        <a:graphic>
          <a:graphicData uri="http://schemas.openxmlformats.org/drawingml/2006/table">
            <a:tbl>
              <a:tblPr/>
              <a:tblGrid>
                <a:gridCol w="2286000"/>
                <a:gridCol w="914400"/>
                <a:gridCol w="990360"/>
                <a:gridCol w="2210040"/>
                <a:gridCol w="838080"/>
                <a:gridCol w="1066680"/>
              </a:tblGrid>
              <a:tr h="299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ID=xxxx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sition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itie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Lit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ech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nish I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nish II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 I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w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ychology I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s &amp; Craf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. History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s &amp; Craf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. Ed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redits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uated June, 19xx                     Class rank:  203/432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n aside re other cohorts: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ool surve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so conducted fo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ld, NLSY97, YW, Y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cri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so collected fo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LSY97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IV.  Highest Grade Completed (HGC)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GC is a key measure for research, policy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ant to know its (causal) effect on post-school earnings and other outcomes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many surveys, HGC (or highest degree) is the sole measure of schooling attainment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NLSY79 (and other NLS cohorts), we can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HGC to other measures of schooling attainment (degrees), achievement (grades, test scores)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 enrollment patterns as well as final HGC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ther schooling information to “correct” HGC when it appears to be in error.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1:  respondents who leave school once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17760"/>
          <a:ext cx="8915400" cy="5340240"/>
        </p:xfrm>
        <a:graphic>
          <a:graphicData uri="http://schemas.openxmlformats.org/drawingml/2006/table">
            <a:tbl>
              <a:tblPr/>
              <a:tblGrid>
                <a:gridCol w="1173240"/>
                <a:gridCol w="966600"/>
                <a:gridCol w="966960"/>
                <a:gridCol w="968400"/>
                <a:gridCol w="963360"/>
                <a:gridCol w="968400"/>
                <a:gridCol w="971640"/>
                <a:gridCol w="966960"/>
                <a:gridCol w="969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8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5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tending grade 14 in ‘79; not attending in ‘80; date last   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rolled 6/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9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attendance during survey; date last enrolled 1/78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HGC is not re-reported unless R returns to school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2:  respondents who leave school and reenroll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981080"/>
          <a:ext cx="8763120" cy="4098960"/>
        </p:xfrm>
        <a:graphic>
          <a:graphicData uri="http://schemas.openxmlformats.org/drawingml/2006/table">
            <a:tbl>
              <a:tblPr/>
              <a:tblGrid>
                <a:gridCol w="1163880"/>
                <a:gridCol w="957240"/>
                <a:gridCol w="960480"/>
                <a:gridCol w="958680"/>
                <a:gridCol w="957240"/>
                <a:gridCol w="959040"/>
                <a:gridCol w="963360"/>
                <a:gridCol w="959040"/>
                <a:gridCol w="884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42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Array of monthly enrollment status should also be used to identify enrollment breaks.  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3:  respondents whose HGC increases by “too much”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66680" y="1981080"/>
          <a:ext cx="6477120" cy="4114800"/>
        </p:xfrm>
        <a:graphic>
          <a:graphicData uri="http://schemas.openxmlformats.org/drawingml/2006/table">
            <a:tbl>
              <a:tblPr/>
              <a:tblGrid>
                <a:gridCol w="1265400"/>
                <a:gridCol w="1041480"/>
                <a:gridCol w="1042920"/>
                <a:gridCol w="1044360"/>
                <a:gridCol w="1040040"/>
                <a:gridCol w="1042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CASEI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se cases necessarily misreported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NLSY79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view schooling data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ails on high school survey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ails on high school transcript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-up look at “highest grade completed”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“highest grade completed” with                             “highest degree”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-up look at monthly enrollment status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3, continued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ASEID=50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1219320"/>
          <a:ext cx="8305560" cy="5518080"/>
        </p:xfrm>
        <a:graphic>
          <a:graphicData uri="http://schemas.openxmlformats.org/drawingml/2006/table">
            <a:tbl>
              <a:tblPr/>
              <a:tblGrid>
                <a:gridCol w="3962160"/>
                <a:gridCol w="1185840"/>
                <a:gridCol w="747720"/>
                <a:gridCol w="685800"/>
                <a:gridCol w="642960"/>
                <a:gridCol w="10810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7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st grade attend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GED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received G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R is 4 months past her 16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irthday on 2/76.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3, continued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ASEID=251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143000"/>
          <a:ext cx="7620120" cy="5421240"/>
        </p:xfrm>
        <a:graphic>
          <a:graphicData uri="http://schemas.openxmlformats.org/drawingml/2006/table">
            <a:tbl>
              <a:tblPr/>
              <a:tblGrid>
                <a:gridCol w="4015080"/>
                <a:gridCol w="1392120"/>
                <a:gridCol w="1065240"/>
                <a:gridCol w="114768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est grade attend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S diploma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received diploma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R is interviewed on 2/79 and 6/81.  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3, continued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ASEID=88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066680"/>
          <a:ext cx="8381880" cy="4802400"/>
        </p:xfrm>
        <a:graphic>
          <a:graphicData uri="http://schemas.openxmlformats.org/drawingml/2006/table">
            <a:tbl>
              <a:tblPr/>
              <a:tblGrid>
                <a:gridCol w="4416480"/>
                <a:gridCol w="1531800"/>
                <a:gridCol w="1171440"/>
                <a:gridCol w="126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./yr. last enroll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7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ghest grade complet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 (created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s HS diploma?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received diploma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7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College and enrollment data reveal that R was enrolled in a liberal arts college from 8/76 to 5/80. He was 1 month past his 23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irthday on 5/80.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4:  respondents with decreasing HGC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371600"/>
          <a:ext cx="8763120" cy="3687840"/>
        </p:xfrm>
        <a:graphic>
          <a:graphicData uri="http://schemas.openxmlformats.org/drawingml/2006/table">
            <a:tbl>
              <a:tblPr/>
              <a:tblGrid>
                <a:gridCol w="1066680"/>
                <a:gridCol w="660600"/>
                <a:gridCol w="780840"/>
                <a:gridCol w="781200"/>
                <a:gridCol w="779400"/>
                <a:gridCol w="779400"/>
                <a:gridCol w="785880"/>
                <a:gridCol w="781200"/>
                <a:gridCol w="780840"/>
                <a:gridCol w="784440"/>
                <a:gridCol w="78264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ighest grade completed (HGC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CASEID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eemingly inconsistent sequences of HGC most often occur during college.)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4, continued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ASEID=20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447920"/>
          <a:ext cx="8915400" cy="4876560"/>
        </p:xfrm>
        <a:graphic>
          <a:graphicData uri="http://schemas.openxmlformats.org/drawingml/2006/table">
            <a:tbl>
              <a:tblPr/>
              <a:tblGrid>
                <a:gridCol w="2674800"/>
                <a:gridCol w="594000"/>
                <a:gridCol w="595080"/>
                <a:gridCol w="668520"/>
                <a:gridCol w="668160"/>
                <a:gridCol w="642960"/>
                <a:gridCol w="674640"/>
                <a:gridCol w="749520"/>
                <a:gridCol w="733320"/>
                <a:gridCol w="9144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</a:t>
                      </a:r>
                      <a:endParaRPr b="0" lang="en-US" sz="23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/yr last enr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8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GC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Degree data reveal that this R received a HS diploma on 6/77 (at age 17), and a B.S. on 12/86 (at age 27).  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Example 4, continued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ASEID=189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371600"/>
          <a:ext cx="8915400" cy="4343400"/>
        </p:xfrm>
        <a:graphic>
          <a:graphicData uri="http://schemas.openxmlformats.org/drawingml/2006/table">
            <a:tbl>
              <a:tblPr/>
              <a:tblGrid>
                <a:gridCol w="3076560"/>
                <a:gridCol w="631800"/>
                <a:gridCol w="789120"/>
                <a:gridCol w="709560"/>
                <a:gridCol w="868320"/>
                <a:gridCol w="946080"/>
                <a:gridCol w="827280"/>
                <a:gridCol w="1066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/yr last enrolled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79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84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GC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Degree data reveal that this R received a HS diploma on 6/76 (at age 18) and an associate’s degree on 6/85 (at age 27).  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V.  Comparing HGC with Highest Degree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D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1988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What is the name of the highest degree you have ever received?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R2509800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ked if R (a) currently attends school or (b) does not have a high school diploma or GED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10,421 respondents who (a) are not currently attending school and (b) have HDEG=1-8 or HDEG=-4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G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 1988 (or earlier)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What is the highest grade or year of regular school that you have completed and gotten credit for?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R2509000)</a:t>
            </a: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 back in time (1987, 1986…) until a valid response is found.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ep 10,388 respondents for whom HGC=1-20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HGC by DEG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990720"/>
          <a:ext cx="8839440" cy="5127480"/>
        </p:xfrm>
        <a:graphic>
          <a:graphicData uri="http://schemas.openxmlformats.org/drawingml/2006/table">
            <a:tbl>
              <a:tblPr/>
              <a:tblGrid>
                <a:gridCol w="990720"/>
                <a:gridCol w="97308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G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 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oc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.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t.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1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9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+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+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5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1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6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9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8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total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7.8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7.9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6.0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4.5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7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.6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5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00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xample 5:  HGC=12, HDEG=B.S.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1066680"/>
          <a:ext cx="8915400" cy="4870440"/>
        </p:xfrm>
        <a:graphic>
          <a:graphicData uri="http://schemas.openxmlformats.org/drawingml/2006/table">
            <a:tbl>
              <a:tblPr/>
              <a:tblGrid>
                <a:gridCol w="1112760"/>
                <a:gridCol w="1249560"/>
                <a:gridCol w="609480"/>
                <a:gridCol w="762120"/>
                <a:gridCol w="609480"/>
                <a:gridCol w="685800"/>
                <a:gridCol w="685800"/>
                <a:gridCol w="762120"/>
                <a:gridCol w="609480"/>
                <a:gridCol w="609480"/>
                <a:gridCol w="609840"/>
                <a:gridCol w="60948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ASEID=467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/yr last enrolle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/79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83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00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In 1989, R reported a high school diploma received 6/79.  He attended community college in April and May of 1983.  In 1988, he reported his highest degree as a B.S.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xample 6:  HGC=16, HDEG=HS diploma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066680"/>
          <a:ext cx="8686800" cy="5373720"/>
        </p:xfrm>
        <a:graphic>
          <a:graphicData uri="http://schemas.openxmlformats.org/drawingml/2006/table">
            <a:tbl>
              <a:tblPr/>
              <a:tblGrid>
                <a:gridCol w="1057320"/>
                <a:gridCol w="1298520"/>
                <a:gridCol w="662040"/>
                <a:gridCol w="663480"/>
                <a:gridCol w="662040"/>
                <a:gridCol w="838080"/>
                <a:gridCol w="559080"/>
                <a:gridCol w="604800"/>
                <a:gridCol w="604800"/>
                <a:gridCol w="603000"/>
                <a:gridCol w="605160"/>
                <a:gridCol w="5284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ASEID=11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ly attending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/yr last enrolled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81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C on May 1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21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In 1979 and 1988, R reported a high school diploma received 6/76.  He attended an art college from 9/78 to 11/81 but apparently received no degree. 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I.  Overview of schooling data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ts’ schooling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(dates enrolle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inment (highest grade, degrees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(courses taken, college major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haracteristics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(attitudes toward school, expectations)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use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member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&amp; siblings’ schooling attainment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VI.  Monthly Enrollment Statu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(month of last interview), in which months were you attending regular school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ked only of Rs who have been enrolled since last interview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ked in every round from 1981 on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xample 6: Monthly Enrollment Status</a:t>
            </a:r>
            <a:br>
              <a:rPr sz="36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ASEID=119</a:t>
            </a:r>
            <a:endParaRPr b="0" lang="en-US" sz="24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447920"/>
          <a:ext cx="8001000" cy="3414600"/>
        </p:xfrm>
        <a:graphic>
          <a:graphicData uri="http://schemas.openxmlformats.org/drawingml/2006/table">
            <a:tbl>
              <a:tblPr/>
              <a:tblGrid>
                <a:gridCol w="615960"/>
                <a:gridCol w="614520"/>
                <a:gridCol w="615960"/>
                <a:gridCol w="614160"/>
                <a:gridCol w="615960"/>
                <a:gridCol w="615960"/>
                <a:gridCol w="615960"/>
                <a:gridCol w="615960"/>
                <a:gridCol w="615960"/>
                <a:gridCol w="614160"/>
                <a:gridCol w="615960"/>
                <a:gridCol w="614520"/>
                <a:gridCol w="615960"/>
              </a:tblGrid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s entered in 1981 interview 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interview months are shaded in red.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Example 7, continued</a:t>
            </a:r>
            <a:br>
              <a:rPr sz="36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ASEID=119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바탕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95280"/>
          <a:ext cx="8839440" cy="5619960"/>
        </p:xfrm>
        <a:graphic>
          <a:graphicData uri="http://schemas.openxmlformats.org/drawingml/2006/table">
            <a:tbl>
              <a:tblPr/>
              <a:tblGrid>
                <a:gridCol w="639720"/>
                <a:gridCol w="730440"/>
                <a:gridCol w="730080"/>
                <a:gridCol w="762120"/>
                <a:gridCol w="636480"/>
                <a:gridCol w="638280"/>
                <a:gridCol w="636480"/>
                <a:gridCol w="574920"/>
                <a:gridCol w="649080"/>
                <a:gridCol w="649440"/>
                <a:gridCol w="730080"/>
                <a:gridCol w="731880"/>
                <a:gridCol w="730440"/>
              </a:tblGrid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hs added in 1982 interview    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.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.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.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.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9)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0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3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4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5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  interview months are shaded in red.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college-specific data for this R reveal that he entered this college in 9/78.  We can assume that he was enrolled for the entire 1978-79, 1979-80 and 1980-81 academic years, and for the first term of 1981-82.  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a50021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Lessons Learned?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LSY79 provides multi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schooling (e.g., HGC vs. degree vs. enrollment).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LSY79 provides multi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 over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most respondents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wealth of information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als a fair amount of internal inconsistency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any inconsistencies to be “corrected.”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Note that cross-sectional data may have as much noise as the NLSY79</a:t>
            </a:r>
            <a:r>
              <a:rPr b="0" lang="en-US" sz="2400" spc="-1" strike="noStrike">
                <a:solidFill>
                  <a:srgbClr val="333399"/>
                </a:solidFill>
                <a:latin typeface="바탕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333399"/>
                </a:solidFill>
                <a:latin typeface="바탕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e just can’t see (let alone correct) it!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Lessons Learned?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(continued)</a:t>
            </a:r>
            <a:endParaRPr b="0" lang="en-US" sz="36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’s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bout errors and internal inconsistency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LSY79  allows researchers to explore such issues as: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is a “better” measure of schooling attainment:  HGC or degree?  Or is there useful, independent information contain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asures? 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patterns of school enrollment (time to degree, interruptions) be accounted for along with final attainment?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grades, courses, and school characteristics affect such outcomes as final schooling attainment and earnings?</a:t>
            </a:r>
            <a:endParaRPr b="0" lang="en-US" sz="24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ote that these attributes are shared by the NLSY97 and, to some extent, by the Child/YA, YM and YW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Respondents’ enrollment status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ly attending or enrolled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no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/year last enrolled, reason left school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s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rolled since last interview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yes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s enro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Jan. ‘80 onward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s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ended colleg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yes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/year enro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st recent college; whet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rolled full-time or part-time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rollment status as of May 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survey year (created variable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Respondents’ schooling attainment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currently enrolled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de attending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enrolled since last interview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st grade attended;  Highest grade comple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GC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GC as of May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urvey year (created variable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R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school diploma or GED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yes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/year diploma or GED received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 of college degrees receiv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979-84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If enrolled since last interview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st degree  recei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1988 onward)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/year degree received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Respondents’ schooling attainment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(continued)</a:t>
            </a:r>
            <a:endParaRPr b="0" lang="en-US" sz="28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1979, most schooling questions (months enrolled, HGC, highest degree)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ked if R has been enrolled since the last interview.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2008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s were asked to re-report: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highest grade or year of regular school that you have completed and gotten credit for?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name of the highest degree you have ever received?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se mid-life reports are not tied to recent enrollment and provide validation of sorts. 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Respondents’ curriculum &amp; school characteristics (high school)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80 High School Survey  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ool characteristics (total enrollment, racial/ethnic composition of faculty and student body, etc.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 characteristics (R’s standardized test scores, whether R took remedial courses, etc.)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80-83 Transcript Survey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endance record, class rank, SAT/ACT scores, courses taken, grad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Respondents’ curriculum &amp; school characteristics (colleges)</a:t>
            </a:r>
            <a:endParaRPr b="0" lang="en-US" sz="4000" spc="-1" strike="noStrike">
              <a:solidFill>
                <a:srgbClr val="cc0000"/>
              </a:solidFill>
              <a:latin typeface="바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jor field of study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tion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ost recent college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CE code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ost recent college (created variable)</a:t>
            </a:r>
            <a:endParaRPr b="0" lang="en-US" sz="32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des used are unique identifiers assigned to each 2-year and 4-year institution in U.S. by the Federal Interagency Committee on Education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used to merge college characteristics from external databases 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CE codes are restricted geocode variables</a:t>
            </a:r>
            <a:endParaRPr b="0" lang="en-US" sz="28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9:36:00Z</dcterms:created>
  <dc:creator>Gardecki</dc:creator>
  <dc:description/>
  <dc:language>en-US</dc:language>
  <cp:lastModifiedBy>Audrey Light</cp:lastModifiedBy>
  <dcterms:modified xsi:type="dcterms:W3CDTF">2009-07-10T17:15:03Z</dcterms:modified>
  <cp:revision>1371</cp:revision>
  <dc:subject/>
  <dc:title>PowerPoint Presentation</dc:title>
</cp:coreProperties>
</file>