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4D-65F9-40D7-8D0B-E5F6971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72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C58-2570-4ED3-AAA3-6A9859F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F14-D3CB-464E-BC8E-28F47D00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72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213-292A-43B7-84E3-B4B63007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84F-170C-4A05-9547-2A8D756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3F8-20CB-4895-9B74-F0E19228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4B4-FE00-4E7E-81CB-C8BF754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E68-3E74-42E7-BE20-E0839359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C6A-5C13-42CE-8A1F-4D602778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3EE-DC6D-42A7-859B-DA22719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72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5FA-775D-4AE3-BE9C-0FEDEFF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72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961-480C-4CC0-A95B-AE40F33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BED4-F377-4924-9014-86F68F93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endParaRPr b="0" lang="en-US" sz="5400" spc="-1" strike="noStrike">
              <a:solidFill>
                <a:srgbClr val="a50021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llected for 69.4% cohort from last schoo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 wav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9-2000 &amp; 2004 [TRANS_STATUS]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vey year for both=1999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chool inform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mmary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, when, and why left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PA, class rank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raduation requirement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 in special progra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ores on select standardized tes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…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cademic year inform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bsent &amp; tardy spe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dit weighted GP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% New Basics credits earn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erm inform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nth/year enrolled, academic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dits earned &amp; Grade level (e.g.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urse informat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bject Co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dits earned/standardized grad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ata Source Summary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-survey schooling history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CHR section in R6-R9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s data if Parent Questionnaire miss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rades skipped/repeat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urrent schooling hist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ngle Item Ver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 His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trospective high school hist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cript Surve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Intended Results 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re complete picture of transition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rom middle to high school to college/care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tween schoo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dditional data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s attend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s of cour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formation on alternative trajector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ternative schools/home school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ique situation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arceration/Pregnanc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esired Outcom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Within the survey roun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A&gt;=HG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level changes only if enroll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Between survey rounds &amp; other sourc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C never decrea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highest degree received never decrea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consistenc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round survey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Unintended Result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re sources=more chances for conflic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in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.g., HGC doesn’t match event history gr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tween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.g., R8 HGC&lt;R7 HGC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porting problems in the event hist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known dat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lematic for grade confirma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 at school not since DLI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ata harder for researchers to us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51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51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ata from Parent Questionnai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6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ear entere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1989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peated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13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6-1997 school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jected graduation date from these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01/02 school ye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51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440" y="1371600"/>
          <a:ext cx="8763120" cy="5006880"/>
        </p:xfrm>
        <a:graphic>
          <a:graphicData uri="http://schemas.openxmlformats.org/drawingml/2006/table">
            <a:tbl>
              <a:tblPr/>
              <a:tblGrid>
                <a:gridCol w="1841400"/>
                <a:gridCol w="2283120"/>
                <a:gridCol w="2286000"/>
                <a:gridCol w="23526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2857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1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nroll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878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1  [1997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2  [1998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3  [1999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4  [2000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5  [2001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6  [2002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7  [2003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715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676520"/>
          <a:ext cx="8382240" cy="4389480"/>
        </p:xfrm>
        <a:graphic>
          <a:graphicData uri="http://schemas.openxmlformats.org/drawingml/2006/table">
            <a:tbl>
              <a:tblPr/>
              <a:tblGrid>
                <a:gridCol w="1143000"/>
                <a:gridCol w="1984320"/>
                <a:gridCol w="1368720"/>
                <a:gridCol w="1225440"/>
                <a:gridCol w="2660760"/>
              </a:tblGrid>
              <a:tr h="100872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hool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W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 comple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 b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xpected graduation d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760" rIns="8676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ohort Overview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440" y="1309680"/>
          <a:ext cx="8763120" cy="5548320"/>
        </p:xfrm>
        <a:graphic>
          <a:graphicData uri="http://schemas.openxmlformats.org/drawingml/2006/table">
            <a:tbl>
              <a:tblPr/>
              <a:tblGrid>
                <a:gridCol w="2895840"/>
                <a:gridCol w="2819160"/>
                <a:gridCol w="3048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57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80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round: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round: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rou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test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xt inter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3-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-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gh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lle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TERM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905120"/>
          <a:ext cx="8229600" cy="310824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246852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m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RT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D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3517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Youth Questionnai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graduation date [YSCH-11900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2002 reported in R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est degree received [YSCH-3113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 school degree reported in R7 to R1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REASON=Graduat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DATE~M/~Y=5/200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Which Source Is Correct?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nrollment in 101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inuous from R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ver attended in R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ismatch between HGC/HGA and loop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2 jump from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loo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2 HGC=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NLSY97 Schooling Data</a:t>
            </a:r>
            <a:br>
              <a:rPr sz="4800"/>
            </a:br>
            <a:r>
              <a:rPr b="0" lang="en-US" sz="48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8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ata from Parent Questionnai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7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ear entere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1989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entered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=1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996/97 school ye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eated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dn’t skip any gra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ojected graduation dat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001/02 school year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440" y="1371600"/>
          <a:ext cx="8763120" cy="4584600"/>
        </p:xfrm>
        <a:graphic>
          <a:graphicData uri="http://schemas.openxmlformats.org/drawingml/2006/table">
            <a:tbl>
              <a:tblPr/>
              <a:tblGrid>
                <a:gridCol w="1841400"/>
                <a:gridCol w="2283120"/>
                <a:gridCol w="2284200"/>
                <a:gridCol w="235440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2857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HG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1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nroll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[YSCH-3878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1  [1997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2  [1998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3  [1999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4  [2000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5  [2001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6  [2002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7  [2003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371600"/>
          <a:ext cx="7626240" cy="507996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371600"/>
                <a:gridCol w="1755720"/>
                <a:gridCol w="1755720"/>
              </a:tblGrid>
              <a:tr h="915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School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comple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Grade b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Book Antiqua"/>
                        </a:rPr>
                        <a:t>Expected graduation d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/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6/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8/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/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/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Book Antiqua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/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Transcript Survey (TRANS_TERM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93640" y="1676520"/>
          <a:ext cx="7954920" cy="3292200"/>
        </p:xfrm>
        <a:graphic>
          <a:graphicData uri="http://schemas.openxmlformats.org/drawingml/2006/table">
            <a:tbl>
              <a:tblPr/>
              <a:tblGrid>
                <a:gridCol w="1371600"/>
                <a:gridCol w="1736640"/>
                <a:gridCol w="256068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m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RT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D_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3/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UBID=7746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Youth Questionnai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graduation date [YSCH-11900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y 2002 reported in R6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est degree received [YSCH-3113]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 school degree reported in R7 &amp; R8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REASON=Gradua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_LEFT_DATE~M/~Y=5/200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Which Source Is Correct?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ismatch between transcripts &amp;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s give a completion date of -3/1999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letion date of 6/00 in survey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s give a completion date of -3/2000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 completion date listed in survey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Schooling Objectiv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rrect NLSY79 seam problem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ify enrollment for the interview mont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rrect NLSY79 grade reversal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ify HGC/HGA from prior intervie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 history of individual school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t history of grade attendance (loop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ount for skipping/repeating grad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ct/confirm data from other sourc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What Have We Learned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ore sources for the same information =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ore chances for conflicting data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High School Data Review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ost data are mostly consistent over t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ultiple resources to resolve inconsistencie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1 years of respondent reported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gh school is finished in some manner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high school diploma/G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rolled in a college without a diploma/G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 in a GED progra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d out of high school (age 20+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Youth Questionnaire Resourc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e all rounds of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ploma question (YSCH-3113 in R7+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ng term out of school status &amp; ver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Answers to single items [HGC/HGA]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vent history information [grade loops]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Expected graduation dat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rrections made internall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erification ques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Other Resource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arent Questionnai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s respondent entere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CHR section in R6-R9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ects some schooling if no Parent Questionnai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ranscript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e and reason left high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trospective term history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Resolving High School Data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porting problems in event histor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known dates and grade comple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ute if in the next grade sequential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grade reversal then progress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ute i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grade reported was completed before at the same school &amp; verification supports thi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d grade progression, graduated on 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ute if graduate on time given the grade reported at the 1st interview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Bottom Line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aw data can be difficult to us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chool roster better source for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eated variables summarize raw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ated after conflicts resolv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V_* indicates round specific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esn’t include respondents not interviewed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VC_* indicates across round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ear=XR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eated Event History variables usefu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_*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ollapsed Variables (CVC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tus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HGC_EV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HIGHEST_DEGREE_EV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gree da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HS_DIPLOMA &amp; CVC_GED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AA_DEGREE &amp; CVC_BA_DEGRE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MA_DEGRE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PROF_DEGRE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PHD_DEGRE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ndardized sco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SAT_MATH_SCOR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SAT_VERBAL_SCOR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C_ACT_SCOR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Created Variables (CV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V_ENROLLST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experie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GRADES_REPEAT_EV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GRADE_SKIP_EV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SCH_ATTEND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PIAT_PERCENTILE_SCOR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gh school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SCHOOL_TYP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SCHOOL_SIZ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STUDENT_TEACHER_RATIO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ge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BA_CREDIT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V_ASSOC_CREDIT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Event History Variables (SCH-)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Month-by-Month Arrays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CH_STATUS_yr.m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rollment stat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CH_TERM_yr.m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typ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 o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rade if high schoo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m if colleg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D_yr.mo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inks SCH_ arrays to questionnaire data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SCHOOL_PUBID from ros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More Information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User’s Guide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hievement  test sco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T-ASVAB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AT Math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ing Experie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ge Choi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-based learning program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cript surve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debook Supplem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nscript Surve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NLSY97 Questionnaire </a:t>
            </a:r>
            <a:br>
              <a:rPr sz="4400"/>
            </a:b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(YSCH-, NEWSCHOOL_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onfirm status at DLI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GA/HGC/enrollment stat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firm/correct prior round; report current roun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eport each school attended since DLI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rollment periods at each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NEWSCHOOL_ roster created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Loop’ though questions for each schoo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imary &amp; secondary schoo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lleg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ata Collected on Each Primary/Secondary School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For each school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s and dates attend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aps in attenda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spension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typ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General Schooling data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ected graduation 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ploma/GED receip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/ACT scor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Data Collected for Each College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School information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PEDS code in Geocode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.g., public/priv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Credit progressio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urce/# granted when began at colleg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# attempted pe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# earned per ter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# required to gradu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For Each College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er term information (loops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ning dat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majo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ull/part time statu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t and financ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Degree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ype received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Other Schooling Information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YSCH: School-based learning progra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 spent on work site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mount if pai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asses taken in conjunction with schoo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YCOC: College choice section (round 7+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983 &amp; 1984 birth cohor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rm &amp; year of app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nanci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PEDS code in Geocode da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ook Antiqua"/>
              </a:rPr>
              <a:t>Parent Questionnaire (PC8-)</a:t>
            </a:r>
            <a:endParaRPr b="0" lang="en-US" sz="4400" spc="-1" strike="noStrike">
              <a:solidFill>
                <a:srgbClr val="a50021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R1 Parent interviews for 88.4% respondents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torical schooling information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a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/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ge attended head star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kipped and/or repeated grad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aps in attendance (1 month+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ok classes during brea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articipation in special program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medial, Special, Gifted, or Biling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9:36:00Z</dcterms:created>
  <dc:creator>Gardecki</dc:creator>
  <dc:description/>
  <dc:language>en-US</dc:language>
  <cp:lastModifiedBy>gardecki</cp:lastModifiedBy>
  <dcterms:modified xsi:type="dcterms:W3CDTF">2009-07-10T20:38:37Z</dcterms:modified>
  <cp:revision>1665</cp:revision>
  <dc:subject/>
  <dc:title>PowerPoint Presentation</dc:title>
</cp:coreProperties>
</file>