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3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09E21B-DD05-4073-A03F-F2971422B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2220840" y="228600"/>
            <a:ext cx="2486160" cy="1863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598320" y="2133720"/>
            <a:ext cx="5824800" cy="6705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231920" y="457200"/>
            <a:ext cx="4351320" cy="3263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9040" y="4027320"/>
            <a:ext cx="5503680" cy="5050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49280" y="3809880"/>
            <a:ext cx="598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90520" y="376200"/>
            <a:ext cx="4349880" cy="32623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9040" y="3871800"/>
            <a:ext cx="55036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22240" y="8077320"/>
            <a:ext cx="5011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266840" y="0"/>
            <a:ext cx="4335480" cy="32511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8680" y="3327480"/>
            <a:ext cx="5810040" cy="5362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422360" y="376200"/>
            <a:ext cx="4038480" cy="30290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12360" y="3560760"/>
            <a:ext cx="5504040" cy="5438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722600" y="152280"/>
            <a:ext cx="3149280" cy="236232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523440" y="2666520"/>
            <a:ext cx="6118200" cy="6172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286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865160" y="376200"/>
            <a:ext cx="3054600" cy="22906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534960" y="2743200"/>
            <a:ext cx="5734080" cy="6324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558800" y="220680"/>
            <a:ext cx="3465720" cy="25988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598320" y="2895120"/>
            <a:ext cx="5834160" cy="5867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227240" y="220680"/>
            <a:ext cx="4349520" cy="326232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9040" y="3638520"/>
            <a:ext cx="5580000" cy="5438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246320" y="376200"/>
            <a:ext cx="4375080" cy="32814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9040" y="3733560"/>
            <a:ext cx="5657760" cy="5265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566720" y="380880"/>
            <a:ext cx="3149640" cy="23623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8680" y="2895480"/>
            <a:ext cx="5817960" cy="5703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212840" y="696960"/>
            <a:ext cx="4456080" cy="334152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9040" y="4190760"/>
            <a:ext cx="5743440" cy="4647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893960" y="457200"/>
            <a:ext cx="3149640" cy="23623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9040" y="2971800"/>
            <a:ext cx="5968800" cy="60199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CACB-AC32-4F7A-B84B-03312A9A2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3E0D-80F2-4C97-A36D-B70BF67FD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61FF-706C-492F-8585-BDEE7745D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2809-5EAA-4B66-8451-F4D643F8C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8C6FB-CD6F-4363-B05E-5E60613EE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59E2E-977A-4111-9ADC-CCEDAF5ED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F75F9-C876-44B1-9C07-914FC011D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0B718-DC64-4B25-BEAC-DA7C918E5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87756-9DCF-4F2F-A693-0E2E78767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32E26-0F90-4722-9562-DE11702FB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098ED-CB88-4E54-A257-D0A8B968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5851-DB09-4436-9242-79B3C906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42C45-2168-4F91-A717-DF4A326D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920CB-7725-4586-AA84-49FEC1DE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6911B-9175-4D43-8367-C43C21D16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F41FC-ADCA-4334-BBC4-1EC78B38F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181EA-8CBB-4610-BD66-B31649004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5208-F413-4AEE-BB61-839E7F22A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CB02-F4D9-40AF-9F3C-39AEE3BF9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6540-8A9C-4C50-8DA6-0A5E39F70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0EAF-F7CC-44E7-AAE9-F18AEE648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5D41-8005-492C-90E3-45AC7F0F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8EA8-CCEE-4126-AE85-5FE0066C6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75D0-03BA-4D43-875A-83212EC3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becb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586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2b33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ecbd8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ecbd8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0FD56-03FB-4D5C-ADD2-D2041D846EBF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becb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2b335b"/>
            </a:solidFill>
            <a:ln w="57240">
              <a:solidFill>
                <a:srgbClr val="becb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586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2b33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A35F7-A548-4033-B1D6-FB580D0BA699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becbd8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becbd8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nlsinfo.org/childya/nlsdocs/guide/ChildYA2006UsersGuide.pdf" TargetMode="Externa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nlsinfo.org/childya/nlsdocs/tableofcontents.html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nlsbibliography.org/" TargetMode="External"/><Relationship Id="rId2" Type="http://schemas.openxmlformats.org/officeDocument/2006/relationships/hyperlink" Target="http://www.nlsbibliography.org/" TargetMode="External"/><Relationship Id="rId3" Type="http://schemas.openxmlformats.org/officeDocument/2006/relationships/hyperlink" Target="http://www.nlsbibliography.org/" TargetMode="External"/><Relationship Id="rId4" Type="http://schemas.openxmlformats.org/officeDocument/2006/relationships/hyperlink" Target="http://www.nlsinfo.org/childya/nlsdocs/tableofcontents.html" TargetMode="External"/><Relationship Id="rId5" Type="http://schemas.openxmlformats.org/officeDocument/2006/relationships/hyperlink" Target="http://www.nlsinfo.org/childya/nlsdocs/tableofcontents.html" TargetMode="External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1447560"/>
            <a:ext cx="8077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Children</a:t>
            </a:r>
            <a:r>
              <a:rPr b="1" lang="en-US" sz="4600" spc="-1" strike="noStrike">
                <a:solidFill>
                  <a:srgbClr val="ffffff"/>
                </a:solidFill>
                <a:latin typeface="Arial"/>
              </a:rPr>
              <a:t> of the NLSY79</a:t>
            </a:r>
            <a:br>
              <a:rPr sz="4600"/>
            </a:b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14400" y="342900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NLS General User Worksh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aula Bak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HRR at The Ohio State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July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peat Child Interviews: All ki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800280" y="1563840"/>
          <a:ext cx="7000560" cy="470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0280" y="1563840"/>
                    <a:ext cx="7000560" cy="47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peat Interviews: Children 0-14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762120" y="1476360"/>
          <a:ext cx="7267320" cy="469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476360"/>
                    <a:ext cx="7267320" cy="469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ooling Samp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600200" y="1305000"/>
          <a:ext cx="5295960" cy="518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305000"/>
                    <a:ext cx="529596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NLSY79 Assessm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assess key aspects of physical, cognitive, social and emotional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types of assessmen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Clr>
                <a:srgbClr val="ff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stablished scal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ther indicators of child wellbeing – some scaled, some individual item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modes of assessment data collec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terviewer-administrated (in Child Supplement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ff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other report (in Mother Supplement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ff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terviewer observation including testing condi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ognitive: Interviewer-administered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2925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emor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30000"/>
              </a:lnSpc>
              <a:spcBef>
                <a:spcPts val="2475"/>
              </a:spcBef>
              <a:spcAft>
                <a:spcPts val="550"/>
              </a:spcAft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echsler Digit Span: Digits Forward/Backwar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30000"/>
              </a:lnSpc>
              <a:spcBef>
                <a:spcPts val="2200"/>
              </a:spcBef>
              <a:spcAft>
                <a:spcPts val="550"/>
              </a:spcAft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cCarthy Verbal Memory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30000"/>
              </a:lnSpc>
              <a:spcBef>
                <a:spcPts val="2200"/>
              </a:spcBef>
              <a:spcAft>
                <a:spcPts val="550"/>
              </a:spcAft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emory for Loc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95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chievement/Abil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30000"/>
              </a:lnSpc>
              <a:spcBef>
                <a:spcPts val="2475"/>
              </a:spcBef>
              <a:spcAft>
                <a:spcPts val="550"/>
              </a:spcAft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eabody Individual Assessment Test (PIAT) Mat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30000"/>
              </a:lnSpc>
              <a:spcBef>
                <a:spcPts val="2475"/>
              </a:spcBef>
              <a:spcAft>
                <a:spcPts val="550"/>
              </a:spcAft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IAT Reading Recognition &amp; Comprehens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95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Vocabular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30000"/>
              </a:lnSpc>
              <a:spcBef>
                <a:spcPts val="1925"/>
              </a:spcBef>
              <a:spcAft>
                <a:spcPts val="550"/>
              </a:spcAft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eabody Picture Vocabulary Test-Revis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30000"/>
              </a:lnSpc>
              <a:spcBef>
                <a:spcPts val="1925"/>
              </a:spcBef>
              <a:spcAft>
                <a:spcPts val="550"/>
              </a:spcAft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ody Par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00280" indent="0">
              <a:spcBef>
                <a:spcPts val="28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ocioemotional &amp; Behavioral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0769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tor &amp; Social Developme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MSD) – from NH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erame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What My Child is Like) – from Rothbart, Campos, and Kag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lf-Perception Profile for Childr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SPPC) – Harter sc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ehavior Problems Inde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(BP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1250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cidence &amp; severity of behavior probl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1250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Global measure &amp; subsc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hild moods; Risk aversion; Shyness; Psych refer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e HOME-Short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31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ther Re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lnSpc>
                <a:spcPct val="60000"/>
              </a:lnSpc>
              <a:spcBef>
                <a:spcPts val="2100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otional and verbal responsive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lnSpc>
                <a:spcPct val="60000"/>
              </a:lnSpc>
              <a:spcBef>
                <a:spcPts val="2100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ernal acceptance &amp; involv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lnSpc>
                <a:spcPct val="60000"/>
              </a:lnSpc>
              <a:spcBef>
                <a:spcPts val="2100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ganization of the environment; learning material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60000"/>
              </a:lnSpc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60000"/>
              </a:lnSpc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Scale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lnSpc>
                <a:spcPct val="70000"/>
              </a:lnSpc>
              <a:spcBef>
                <a:spcPts val="2100"/>
              </a:spcBef>
              <a:buClr>
                <a:srgbClr val="0099cc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al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lnSpc>
                <a:spcPct val="70000"/>
              </a:lnSpc>
              <a:spcBef>
                <a:spcPts val="2100"/>
              </a:spcBef>
              <a:buClr>
                <a:srgbClr val="0099cc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otional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lnSpc>
                <a:spcPct val="70000"/>
              </a:lnSpc>
              <a:spcBef>
                <a:spcPts val="2100"/>
              </a:spcBef>
              <a:buClr>
                <a:srgbClr val="0099cc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gnitive Stim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91320" y="2362320"/>
            <a:ext cx="2438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0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attern of Assessment Administration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66560" y="1371600"/>
          <a:ext cx="8001000" cy="535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371600"/>
                    <a:ext cx="8001000" cy="53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e Assessment Scor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18960" y="144756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types of scores are available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50000"/>
              </a:lnSpc>
              <a:spcBef>
                <a:spcPts val="2001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mmary scores for each assess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e tables &amp; appendices in users gu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24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are they computed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50000"/>
              </a:lnSpc>
              <a:spcBef>
                <a:spcPts val="2001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dures in users gu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24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tation for missing dat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50000"/>
              </a:lnSpc>
              <a:spcBef>
                <a:spcPts val="2001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ME, BPI, SPP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24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all assessments are norme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50000"/>
              </a:lnSpc>
              <a:spcBef>
                <a:spcPts val="2001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normed scores for Temperament or SPP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2001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rms available for total Digit Span sc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Norms – Std vs %i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spcAft>
                <a:spcPts val="751"/>
              </a:spcAft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ypes of scores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dardized vs Percentile vs Ra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ndard Sc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76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qual-interval meas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76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of the most common metr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76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 be compared across tes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76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 be arithmetically manipulate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centile Sc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76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dinal sca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76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e intui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76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ution against using to manipulate scores by differencing or taking an average to represent growth or ch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e NLSY79 main Youth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874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1979 – Round 1; currently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"/>
              </a:rPr>
              <a:t>23</a:t>
            </a:r>
            <a:r>
              <a:rPr b="0" lang="en-US" sz="2500" spc="-1" strike="noStrike" u="sng" baseline="30000">
                <a:solidFill>
                  <a:srgbClr val="ffffff"/>
                </a:solidFill>
                <a:uFillTx/>
                <a:latin typeface="Arial"/>
              </a:rPr>
              <a:t>rd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"/>
              </a:rPr>
              <a:t> round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– 30 year spa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874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Original sample: 12,686 men &amp; women age 14 - 21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874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Oversamples of Black &amp; Hispanic, low income white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874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Followed annually through 1994; then biennially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874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Employment, education &amp; training primary focu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874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dded topics: fertility, health, attitudes, crime, HH composition, marriage &amp; cohabitation, mobility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874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1986 – Started assessment of children of mother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Response for Interviewed Childre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507960" y="1333440"/>
          <a:ext cx="8699400" cy="497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1333440"/>
                    <a:ext cx="8699400" cy="49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Key points about Child assessment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2801"/>
              </a:spcBef>
              <a:buClr>
                <a:srgbClr val="ff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all kids get all assessments - Administration pattern varies across years even for same assess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2801"/>
              </a:spcBef>
              <a:buClr>
                <a:srgbClr val="ff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data “recouped” at later 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2801"/>
              </a:spcBef>
              <a:buClr>
                <a:srgbClr val="ff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essment completion rates generally hig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2801"/>
              </a:spcBef>
              <a:buClr>
                <a:srgbClr val="ff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ssing data – differentiate valid, invalid, noninterviews by using child age &amp; interview status variables or child sampling weigh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Family Structure - HH Composi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ernal Household composi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e &amp; gender pro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ce of extended famil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mily siz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ce of spouse/cohabiting part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posed into child-specific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for children of mothers interview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mily Structure – Child residence &amp; Father Cont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d on child-specific reports in mother’s interview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om FERTILITY section of mother inter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ta in BIRTH RECORD area of inter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idence &amp; father contact ar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epara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rom reports of children or spouse/partner in the HH ro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ransposed to child-specific variables – reside in Child database for younger childre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oung Adul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amily Functioning - Paren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renting Items in the NLSY79 Child (starting 199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gagement in Parent-Child Activitie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Child rating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ekly &amp; Monthly activitie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Ratings of Parental Time/Involvemen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Child ratin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mount of tim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ss activities that are importa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 Parent-Child Discussio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Child ratin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lk over decision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sten to children in discuss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bility to discuss thing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. Parental Monitoring 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 knowledge of where children ar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Child rating &amp; Mother ratin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. Emotional Relationship with Parents 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eelings of closeness to parents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Child rating &amp; Mother rating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26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arly Childcare &amp; Maternal Employmen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ild care in 1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3 Years of Life – in Child data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ternal Work History fi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from mother’s work history timeline (“weekly array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array contains one variable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 characteristics aggregated into 13-week quar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ther data transposed and attached to child’s life timeline through ag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바탕"/>
              </a:rPr>
              <a:t>Mother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sual weeks worked by mother at main job, 13 weeks before birth of chil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Arial Narrow"/>
                <a:ea typeface="바탕"/>
              </a:rPr>
              <a:t>C</a:t>
            </a:r>
            <a:r>
              <a:rPr b="1" lang="en-US" sz="1600" spc="-1" strike="noStrike">
                <a:solidFill>
                  <a:srgbClr val="ff00ff"/>
                </a:solidFill>
                <a:latin typeface="Arial"/>
                <a:ea typeface="바탕"/>
              </a:rPr>
              <a:t>hild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바탕"/>
              </a:rPr>
              <a:t>U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al weeks worked by mother at main job, 1st qtr before birth of  chil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Head Start and Preschoo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ead Start &amp; preschool - Child Interview: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ge first attended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ength of time attend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other rating of satisfaction with Head Start program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ead Start – Mother’s main Youth interview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988 mothers – attended Head Start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994 respondents - attended Head Start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hild Schooling in the NLSY79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rollment status; Current gra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hool type; number of schools attend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ade repetition; Problems at school; weapon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ther evaluation of progr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hool rating by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Moth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by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hi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mework &amp; computer 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hool activities &amp; voluntee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 involv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 cla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assroom pract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e info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Appendix H. NLSY79 Children: Survey Content 1986-2006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http://www.nlsinfo.org/childya/nlsdocs/guide/ChildYA2006UsersGuide.pd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hild School Survey &amp; School Nam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78483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chool survey data collected in 1995-1996 for schools attended 1993-1995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ool characteristic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ecbd8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duation r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ecbd8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sition of student body &amp; staf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ecbd8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ic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ecbd8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ent involv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ild’s schooling experienc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ecbd8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ademic performance/progr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ecbd8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hool activities &amp; special progra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 scores from school transcrip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hool names for children and young adul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lected in mother’s main Youth quex 1994-200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ly confidential; linkable with school &amp; district datas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00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ld Health Data in th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ther’s main Youth inter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rth inf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rthweight; leng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station/pregnancy du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 of delive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spital stay at bir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/postnatal ca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dical visits for illness/injury in 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year; type of illn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ther’s pregnancy health behavi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ge at first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well ca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is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ant feeding &amp; immuniz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alth insura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lth care covered by employer or private insur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lth care covered by Medic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ychiatrist/psychologist/counselor visit covered by insur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2133720"/>
            <a:ext cx="8381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Overview of  the  Child  Surve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hildren born to NLSY79 moth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125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ace-to-face interviews every 2 yea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125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ge range from birth - 30’s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125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hild assessment sample capped at age 14 starting in 1994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125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arge sub-sampl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125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road range of indicato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125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tercohort desig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hild Health – Child interview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7696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ight &amp; Weight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viewer measurement/Mother repor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ther repor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ndedn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ye col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dical checku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cidents &amp; injur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llnesses &amp; hospit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miting health condition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nses (age at onse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urance cove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 rating of child heal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ild report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stance use (10 yrs +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thma series started in 2006 – Mom, Child, Y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cohort Health: NLSY79 Moms, Kids, Y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533520" y="925560"/>
          <a:ext cx="8001000" cy="6237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925560"/>
                    <a:ext cx="8001000" cy="623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rvey Content: Children 10-14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42640" y="1523520"/>
            <a:ext cx="6629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me &amp; Fami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titu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ig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iendships and pe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oking – Drinking – Drugs - Anti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ing and relationshi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x education &amp; sexual activi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V viewing &amp; computer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 for pay, early employ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mmunity Context/Neighborhood Quality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ildre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becbd8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ild perception of safety of neighborhoo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becbd8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lunteer work in neighborhoo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ther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becbd8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ther rating of neighborhood problems/qua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becbd8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ther perception of neighborhood safe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ng adult childre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becbd8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olescent rating of neighborhood/qua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becbd8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ved in same city all of adolescent’s lif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becbd8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volved with neighborhood/social action group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becbd8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pt job cleaning up neighborhood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NLSY79 Mother - Child –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oung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ult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Connection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675"/>
              </a:spcBef>
              <a:spcAft>
                <a:spcPts val="224"/>
              </a:spcAft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ternal employment/work schedules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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hild/YA behavi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25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ternal prenatal health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hild/YA healt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25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ild health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maternal employment decisions &amp; subsequent fert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25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ild school entry/readiness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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maternal employment deci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25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ild school &amp; achievement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YA educational attainment &amp; labor force particip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675"/>
              </a:spcBef>
              <a:spcAft>
                <a:spcPts val="224"/>
              </a:spcAft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rly child care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YA education/behavior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25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ild obesity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YA health &amp; employ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25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ild antisocial behavior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YA delinque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675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mission of attitudes, behaviors and beliefs (e.g., parent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675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pressive symptoms across adolescence and young adultho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675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ternal &amp; childhood precursors of adolescent substance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Navigating the Child Instrume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look at the Questionnair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uide to interviewer-respondent convers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ple/universe pathway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tual text &amp; order of questions (important for measuremen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http://www.nlsinfo.org/childya/nlsdocs/tableofcontents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Quex ≠ The Codebook!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ff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ild codebooks not hyperlinked to other document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ff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rbatims and confidential data appear in the Quex – but not in the codeboo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ff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eated variables: In the codebook but not in the Quex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ild Supplement – Who got wha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80880" y="1447920"/>
          <a:ext cx="8134560" cy="488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13456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  <a:ea typeface="Times New Roman"/>
              </a:rPr>
              <a:t>Children of the NLSY79 – more inf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1905120"/>
            <a:ext cx="8382240" cy="47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S Child-YA webpages: </a:t>
            </a:r>
            <a:r>
              <a:rPr b="0" lang="en-US" sz="2200" spc="-1" strike="noStrike">
                <a:solidFill>
                  <a:srgbClr val="99ccff"/>
                </a:solidFill>
                <a:latin typeface="Arial"/>
              </a:rPr>
              <a:t>http://www.bls.gov/nls/nlsy79ch.htm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LS annotated bibliography:   </a:t>
            </a:r>
            <a:r>
              <a:rPr b="0" lang="en-US" sz="22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2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www.nlsbibliography.org</a:t>
            </a:r>
            <a:r>
              <a:rPr b="0" lang="en-US" sz="22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/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LSY79 Child print bibs: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5"/>
              </a:rPr>
              <a:t>www.nlsinfo.org/childya/nlsdocs/tableofcontent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&amp; Documentation: </a:t>
            </a:r>
            <a:r>
              <a:rPr b="0" lang="en-US" sz="2200" spc="-1" strike="noStrike">
                <a:solidFill>
                  <a:srgbClr val="99ccff"/>
                </a:solidFill>
                <a:latin typeface="Arial"/>
              </a:rPr>
              <a:t>http://www.nlsinfo.org/investigator/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LS User Services:    usersvc@chrr.osu.ed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one: (614) 442-7366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X:      614.442.732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239400" y="273240"/>
            <a:ext cx="792612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search App #1: Head Start and long-term Young Adult outcom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61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ming (2009) Long-term benefits of Head Start – impact of program participation on summary index of young adult outco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mpl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Children in families with at least 2 eligible for Head Start (3698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ther input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rom main Youth file: AFQT, Total Net Family Inco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ild input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PPVT scores at age 3 &amp; intermediate factor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8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st scores at age 5/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8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de reten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80000"/>
              </a:lnSpc>
              <a:spcBef>
                <a:spcPts val="451"/>
              </a:spcBef>
              <a:spcAft>
                <a:spcPts val="224"/>
              </a:spcAft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arning disab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ng Adult outcom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8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 school graduation; College attend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8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leness; Cr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8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en parentho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8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lth stat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39400" y="273240"/>
            <a:ext cx="792612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ming (2009) cont’d - Analysi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68544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-family differences model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ares sibs with differing program particip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-estimates model w/ family specific wg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t-benefit analysis comparing Head Start with other model program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jects future wage gains using NLSY79 main Youth data w/ age 19 outcom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vides detailed programs, variable listings and source code for analys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Data Elements in the NLSY79 Child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ssessments: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24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Cognitive developmen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24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Motor, social, and emotional developmen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49"/>
              </a:spcBef>
              <a:buClr>
                <a:srgbClr val="ff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Child and family background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49"/>
              </a:spcBef>
              <a:buClr>
                <a:srgbClr val="ff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Family functioning; home environmen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49"/>
              </a:spcBef>
              <a:buClr>
                <a:srgbClr val="ff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Health &amp; prenatal/postnatal history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49"/>
              </a:spcBef>
              <a:buClr>
                <a:srgbClr val="ff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reteen and teen behaviors &amp; attitud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49"/>
              </a:spcBef>
              <a:buClr>
                <a:srgbClr val="ff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Schooling &amp; peer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49"/>
              </a:spcBef>
              <a:buClr>
                <a:srgbClr val="ff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Young adult survey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49"/>
              </a:spcBef>
              <a:buClr>
                <a:srgbClr val="ff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Mother-specific information &amp; histori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Deming (2009) Variable appendix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88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rename Y1012000 InSchool1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88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rename Y1012100 YrInSchool1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88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rename Y1014300 DropOut1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88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rename Y1015000 Repeat_YA1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88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rename Y1015500 HighGrade_Att1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88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rename Y1015600 HighGrade_Compl1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88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rename Y1211300 YA_Educ104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88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rename Y1254200 InSchool10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88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rename Y1254300 YrInSchool10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88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rename Y1256700 DropOut10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88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rename Y1257400 Repeat_YA10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88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rename Y1257900 HighGrade_Att10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88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rename Y1258000 HighGrade_Compl10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88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rename Y1487900 InSchool104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88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rename Y1488000 YrInSchool104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88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rename Y1490400 DropOut104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88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rename Y1491100 Repeat_YA104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88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rename Y1491600 HighGrade_Att104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88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rename Y1491700 HighGrade_Compl104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88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rename Y1672700 YA_Age104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1523880"/>
            <a:ext cx="3429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rename Y0301500 HealthLim_YA94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rename Y0301700 Health_Report94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rename Y0605100 HealthLim_YA96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rename Y0605300 Health_Report96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rename Y0897900 HealthLim_YA98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rename Y0898100 Health_Report98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rename Y1147500 HealthLim_YA10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rename Y1147800 Health_Report10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rename Y1381900 HealthLim_YA102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rename Y1382200 Health_Report102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rename Y1632300 HealthLim_YA104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rename Y1632600 Health_Report104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rename Y1629300 Asthma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rename Y1632700 Fruit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rename Y1632800 Veg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rename Y1632900 Exercise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rename Y1633000 Computer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rename Y1633100 Sleep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Arial"/>
              </a:rPr>
              <a:t>rename Y1211000 YA_NumKid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Arial"/>
              </a:rPr>
              <a:t>rename Y1456200 Homeless104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Arial"/>
              </a:rPr>
              <a:t>rename Y1463100 Religion104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Research App #2: Early adolescent behavior and future delinquency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hey, Van Hulle, D’Onofrio, Rodgers (2008) – Does parental knowledge in early adolescence predict delinquency during late adolesce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mpl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Children age 12-13 at t1              YAs age 16-17 at t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ther demographic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age at 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irth; total net family inco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ental knowledg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how much parents know about friends, whereabouts, teachers, homework, money, TV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ental limit sett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who sets rules/limits; how much say in making rules; how often parents limit time/activ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er pressu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perceived pressure to commit crime, violence, skip school, use illegal substa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ighborhood disorganiza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rating of neighborhood problems; cr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952880" y="2514600"/>
            <a:ext cx="762120" cy="173160"/>
          </a:xfrm>
          <a:prstGeom prst="rightArrow">
            <a:avLst>
              <a:gd name="adj1" fmla="val 50000"/>
              <a:gd name="adj2" fmla="val 1100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26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Lahey, et al. (cont’d): Outcome measures &amp; Analysi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inquenc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Dichotomous outcome to identify “highly delinquent” at age 16 or 1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sampling weight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mple clustering w/in sampling units &amp; families not mode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ta limitati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Critique of parental knowledge scales; limited measures of peer associ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search App #3: Child obesity in the NLSY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79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Child &amp; NLSY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9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ou, Rashad, Grossman (2008) Fast Food Advertising &amp; Child obe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LSY sample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LSY 1997: Adolescents aged 12-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LSY 1979: Children aged 3-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tcome measure: Overweight measured by body mass index (BM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e-level control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# fast food restaurants; restaurant prices; food at home price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Cigarette prices; clean indoor air law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osure to fast food restaurant TV advertisin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ekly number fast food restaurant messages aired on T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# hours child/adolescent watches TV week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gnuson &amp; Berger (2007) Family Structure Transitions and Child Outcom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mily structure states &amp; transitions          child achievement &amp; behavior trajectories during middle childho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mily structu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(1) single-mother, (2) step, (3) two-par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ild outcom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  Math &amp; Reading &amp; BPI sc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rol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HOME scores; mother’s AFQT; birth wgt; birth order; disability; maternal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LM Model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 conventional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TCOME = function [initial outcome level] + error te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 piecewise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TCOME = function [initial outcome level + age-relate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ummy vars] +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648320" y="1676520"/>
            <a:ext cx="533160" cy="228600"/>
          </a:xfrm>
          <a:prstGeom prst="rightArrow">
            <a:avLst>
              <a:gd name="adj1" fmla="val 50000"/>
              <a:gd name="adj2" fmla="val 5830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610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rnal &amp; Keane (2006)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ild Care Choices and Children’s Cognitive Achievement: The Case of Single Mothers</a:t>
            </a:r>
            <a:br>
              <a:rPr sz="23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61976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urrie &amp; Neidell (2007)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etting Inside the "Black Box" of Head Start Quality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8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essments: PPVT; PIATs; B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28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Child data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2449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d Start attendan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2449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de repeti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y mother variables: AFQT &amp; inc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nked to administrative Head Start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allenges of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NLSY79 Child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a birth coh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e eligibility constraints on child assess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orts miss some ev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 detail from and about fa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 detail on classroom &amp; school environ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bling clusters – kinship netwo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33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Trends in NLSY79 Mother Age &amp; Educatio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696080" cy="44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NLSY79 Child &amp; Mother Sampl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61960" y="1523880"/>
          <a:ext cx="8286840" cy="424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1960" y="1523880"/>
                    <a:ext cx="8286840" cy="42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26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Some NLSY79 14 Year-Olds are Children; </a:t>
            </a:r>
            <a:br>
              <a:rPr sz="3300"/>
            </a:b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Some aren’t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335b"/>
                </a:solidFill>
                <a:latin typeface="Arial"/>
              </a:rPr>
              <a:t>Seam effects: Comparable Qs in Child &amp; YA for        14 year ol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809880" y="1019160"/>
          <a:ext cx="5067360" cy="656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019160"/>
                    <a:ext cx="5067360" cy="656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oung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ults are NLSY79 Children – 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only olde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YAs have an assessment his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YAs have a “child data” his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YAs are represented in constructed variables from mother’s rec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:    Household compos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ernal workhis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mily backgr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rly child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3T13:01:50Z</dcterms:created>
  <dc:creator>NLSUser</dc:creator>
  <dc:description/>
  <dc:language>en-US</dc:language>
  <cp:lastModifiedBy>baker</cp:lastModifiedBy>
  <dcterms:modified xsi:type="dcterms:W3CDTF">2009-07-13T21:48:37Z</dcterms:modified>
  <cp:revision>827</cp:revision>
  <dc:subject/>
  <dc:title>The Young Adult Survey:</dc:title>
</cp:coreProperties>
</file>