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3523D-5F83-448C-9AB1-4B2B8468C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37DD7-CB93-492F-86E7-CFCEED4F2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524D9-C53F-434C-9E7F-1DB4133B7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A7A11-8D1F-4E71-81F2-16BD9E52E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0F75B-7B3B-4F62-A68F-BFF4A30A1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F35E-582D-44D4-BE34-F16343715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4A950-086C-4678-83AC-A5BCE9DB0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863FF-557E-4A55-963F-DBD4438DF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7FEE-0E2A-4048-B4F5-543434EE3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505D-78BB-4074-B036-BE6B26A5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E3E21-3390-4456-9DCE-89EB09AE5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F75DD-FDC0-484B-9252-01B496EB4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C9FD-9718-46D9-AB00-03B56482AF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5257800" y="6172200"/>
            <a:ext cx="3505320" cy="52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arrisschool.uchicago.edu/Research/faculty_projects/NLSY97_flat_files/"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ansfer Program in the 1997 Cohort of the NLSY</a:t>
            </a:r>
            <a:endParaRPr b="0" lang="en-US" sz="4800" spc="-1" strike="noStrike">
              <a:solidFill>
                <a:srgbClr val="000000"/>
              </a:solidFill>
              <a:latin typeface="Arial"/>
            </a:endParaRPr>
          </a:p>
        </p:txBody>
      </p:sp>
      <p:sp>
        <p:nvSpPr>
          <p:cNvPr id="43" name="PlaceHolder 2"/>
          <p:cNvSpPr>
            <a:spLocks noGrp="1"/>
          </p:cNvSpPr>
          <p:nvPr>
            <p:ph type="subTitle"/>
          </p:nvPr>
        </p:nvSpPr>
        <p:spPr>
          <a:xfrm>
            <a:off x="144792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n Black</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iversity of Chicago &amp; NOR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imate these models, you would arrange the data where each month is an observation.  For persons’ whose spells last 3 months, they will have 3 observations.  For persons’ whose spells last 5 months, they will have 5 observ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ependent variable will be a 0 until the month they leave, which will be a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iency may not be monthly – may be week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64"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obability we are estima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nths 1, the probability of “surviving” to month 0 has no effect so you use the whole s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nth 2, you use only those who survived month 1 so your sample is condit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1752480" y="2286000"/>
            <a:ext cx="4800600" cy="115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6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we wish to estim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egins to look like a logit or probit problem, and the pmghaz.ado uses a logit-type model, but constrains to coefficients to be the same on the X’s across mon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sample is limited to survivors for months 2 and beyond we may have a problem</a:t>
            </a:r>
            <a:endParaRPr b="0" lang="en-US" sz="2800" spc="-1" strike="noStrike">
              <a:solidFill>
                <a:srgbClr val="000000"/>
              </a:solidFill>
              <a:latin typeface="Arial"/>
            </a:endParaRPr>
          </a:p>
        </p:txBody>
      </p:sp>
      <p:pic>
        <p:nvPicPr>
          <p:cNvPr id="68" name="" descr=""/>
          <p:cNvPicPr/>
          <p:nvPr/>
        </p:nvPicPr>
        <p:blipFill>
          <a:blip r:embed="rId1"/>
          <a:stretch/>
        </p:blipFill>
        <p:spPr>
          <a:xfrm>
            <a:off x="1981080" y="2133720"/>
            <a:ext cx="4267440" cy="102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rviving sample is selected on survivorship so any unobserved differences (or heterogeneity) results in biased estima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approach is to assume that the heterogeneity results in a gamma mixture model as proposed by Meyer (and you guessed it, pgmhaz.ado does this for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mplicated adjustments (Heckman-Singer’s nonparametric adjustment) are not yet imple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rea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approac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yer, B. D. “Unemployment insurance and unemployment spells,” </a:t>
            </a:r>
            <a:r>
              <a:rPr b="0" i="1" lang="en-US" sz="2000" spc="-1" strike="noStrike">
                <a:solidFill>
                  <a:srgbClr val="000000"/>
                </a:solidFill>
                <a:latin typeface="Arial"/>
              </a:rPr>
              <a:t>Econometrica</a:t>
            </a:r>
            <a:r>
              <a:rPr b="0" lang="en-US" sz="2000" spc="-1" strike="noStrike">
                <a:solidFill>
                  <a:srgbClr val="000000"/>
                </a:solidFill>
                <a:latin typeface="Arial"/>
              </a:rPr>
              <a:t> August 1990 58(4) 757-782.</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mplicated heterogeneity adjustme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kman, J.J., and B. Singer. “Econometric duration analysis” </a:t>
            </a:r>
            <a:r>
              <a:rPr b="0" i="1" lang="en-US" sz="2000" spc="-1" strike="noStrike">
                <a:solidFill>
                  <a:srgbClr val="000000"/>
                </a:solidFill>
                <a:latin typeface="Arial"/>
              </a:rPr>
              <a:t>Journal of Econometrics</a:t>
            </a:r>
            <a:r>
              <a:rPr b="0" lang="en-US" sz="2000" spc="-1" strike="noStrike">
                <a:solidFill>
                  <a:srgbClr val="000000"/>
                </a:solidFill>
                <a:latin typeface="Arial"/>
              </a:rPr>
              <a:t> January/February 1984 24(1-2) </a:t>
            </a:r>
            <a:r>
              <a:rPr b="0" i="1" lang="en-US" sz="2000" spc="-1" strike="noStrike">
                <a:solidFill>
                  <a:srgbClr val="000000"/>
                </a:solidFill>
                <a:latin typeface="Arial"/>
              </a:rPr>
              <a:t>63-132</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hand censori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rger, M.C. and D. A. Black. “The Duration of Medicaid Spells: An Analysis Using Flow and Stock Samples,” </a:t>
            </a:r>
            <a:r>
              <a:rPr b="0" i="1" lang="en-US" sz="2000" spc="-1" strike="noStrike">
                <a:solidFill>
                  <a:srgbClr val="000000"/>
                </a:solidFill>
                <a:latin typeface="Arial"/>
              </a:rPr>
              <a:t>Review of Economics and Statistics</a:t>
            </a:r>
            <a:r>
              <a:rPr b="0" lang="en-US" sz="2000" spc="-1" strike="noStrike">
                <a:solidFill>
                  <a:srgbClr val="000000"/>
                </a:solidFill>
                <a:latin typeface="Arial"/>
              </a:rPr>
              <a:t> November 1998 80(4)</a:t>
            </a:r>
            <a:r>
              <a:rPr b="1" lang="en-US" sz="2000" spc="-1" strike="noStrike">
                <a:solidFill>
                  <a:srgbClr val="000000"/>
                </a:solidFill>
                <a:latin typeface="Arial"/>
              </a:rPr>
              <a:t> </a:t>
            </a:r>
            <a:r>
              <a:rPr b="0" lang="en-US" sz="2000" spc="-1" strike="noStrike">
                <a:solidFill>
                  <a:srgbClr val="000000"/>
                </a:solidFill>
                <a:latin typeface="Arial"/>
              </a:rPr>
              <a:t>667‑674.</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ery short bit on UI</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is an insurance program that only covers workers with an adequate work history and who are not dismissed for cause or who do not q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I claim covers one year and allows you to take full benefits for 6 months (generally) within th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periodically exte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go from the data to estimation?</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tart with the </a:t>
            </a:r>
            <a:r>
              <a:rPr b="0" i="1" lang="en-US" sz="3200" spc="-1" strike="noStrike">
                <a:solidFill>
                  <a:srgbClr val="a50021"/>
                </a:solidFill>
                <a:latin typeface="Arial"/>
              </a:rPr>
              <a:t>User Manu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to pull the data you need, including covari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low process, but do not rush it.  You will just have to come bac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ull some variables from Harris School’s (Bob Michael’s) “flat files” at </a:t>
            </a:r>
            <a:r>
              <a:rPr b="0" lang="en-US" sz="2400" spc="-1" strike="noStrike" u="sng">
                <a:solidFill>
                  <a:srgbClr val="009999"/>
                </a:solidFill>
                <a:uFillTx/>
                <a:latin typeface="Arial"/>
                <a:hlinkClick r:id="rId1"/>
              </a:rPr>
              <a:t>http://harrisschool.uchicago.edu/Research/faculty_projects/NLSY97_flat_files/</a:t>
            </a:r>
            <a:r>
              <a:rPr b="0" lang="en-US" sz="2400" spc="-1" strike="noStrike" u="sng">
                <a:solidFill>
                  <a:srgbClr val="000000"/>
                </a:solidFill>
                <a:uFillTx/>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pic>
        <p:nvPicPr>
          <p:cNvPr id="78" name="" descr=""/>
          <p:cNvPicPr/>
          <p:nvPr/>
        </p:nvPicPr>
        <p:blipFill>
          <a:blip r:embed="rId1"/>
          <a:stretch/>
        </p:blipFill>
        <p:spPr>
          <a:xfrm>
            <a:off x="457200" y="2438280"/>
            <a:ext cx="8686800" cy="33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investigator will dutifully give you 8984 observations, one for each public 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se are not going to be used. For instance, in 2002, only 208 report any spell of unemploy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move data with no UI spells (which is easy in Stata using the egen anycount op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en x = anycount(ui*), v(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look at som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ook the data from 2002 and dropped all observations that had no unemployment sp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going to name variable mxx, where xx is the number of the month from 01 to 12.  This a terrible convention (I actually used ui2002xx, but it was hard to dis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types of transfer payment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NF (AFDC), Temporary Assistance to Needy Families, what is generally referred to as “welf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Stamp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C (Women, Infants, and Childr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transfer payments – primarily  SSI, or Supplemental Security Income, which may include some “insurance” programs such as Disability Insu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4" name=""/>
          <p:cNvSpPr/>
          <p:nvPr/>
        </p:nvSpPr>
        <p:spPr>
          <a:xfrm>
            <a:off x="533520" y="1523880"/>
            <a:ext cx="8001000" cy="43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1600" spc="-1" strike="noStrike">
                <a:solidFill>
                  <a:srgbClr val="000000"/>
                </a:solidFill>
                <a:latin typeface="Times New Roman"/>
              </a:rPr>
              <a:t>m01   m02   m03   m04   m05   m06   m07   m08   m09   m10   m11   m12</a:t>
            </a:r>
            <a:r>
              <a:rPr b="0"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Yes   Yes   Yes    No    No   Y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a:t>
            </a:r>
            <a:r>
              <a:rPr b="0" lang="es-ES" sz="1800" spc="-1" strike="noStrike">
                <a:solidFill>
                  <a:srgbClr val="000000"/>
                </a:solidFill>
                <a:latin typeface="Times New Roman"/>
              </a:rPr>
              <a:t>	</a:t>
            </a:r>
            <a:r>
              <a:rPr b="0" lang="es-ES" sz="1800" spc="-1" strike="noStrike">
                <a:solidFill>
                  <a:srgbClr val="000000"/>
                </a:solidFill>
                <a:latin typeface="Times New Roman"/>
              </a:rPr>
              <a:t>No   Yes   Yes   Yes   Yes   Yes   Yes   Yes   Yes   Yes   Yes   Y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No    No    No   Yes   Y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No   Yes   Yes   Yes   Y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Yes   Yes    No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6.</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Yes    No    No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7.</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Yes   Yes   Yes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8.</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Yes   Yes    No    No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9.</a:t>
            </a:r>
            <a:r>
              <a:rPr b="0" lang="es-ES" sz="1800" spc="-1" strike="noStrike">
                <a:solidFill>
                  <a:srgbClr val="000000"/>
                </a:solidFill>
                <a:latin typeface="Times New Roman"/>
              </a:rPr>
              <a:t>	</a:t>
            </a:r>
            <a:r>
              <a:rPr b="0" lang="es-ES" sz="1800" spc="-1" strike="noStrike">
                <a:solidFill>
                  <a:srgbClr val="000000"/>
                </a:solidFill>
                <a:latin typeface="Times New Roman"/>
              </a:rPr>
              <a:t>Yes    No    No    No    No    No    No    No    No    No    N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0.</a:t>
            </a:r>
            <a:r>
              <a:rPr b="0" lang="es-ES" sz="1800" spc="-1" strike="noStrike">
                <a:solidFill>
                  <a:srgbClr val="000000"/>
                </a:solidFill>
                <a:latin typeface="Times New Roman"/>
              </a:rPr>
              <a:t>	</a:t>
            </a:r>
            <a:r>
              <a:rPr b="0" lang="es-ES" sz="1800" spc="-1" strike="noStrike">
                <a:solidFill>
                  <a:srgbClr val="000000"/>
                </a:solidFill>
                <a:latin typeface="Times New Roman"/>
              </a:rPr>
              <a:t>No    No   Yes   Yes   Yes   Yes   Yes    No    No    No    No    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6" name=""/>
          <p:cNvSpPr/>
          <p:nvPr/>
        </p:nvSpPr>
        <p:spPr>
          <a:xfrm>
            <a:off x="533520" y="1828800"/>
            <a:ext cx="80010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1600" spc="-1" strike="noStrike">
                <a:solidFill>
                  <a:srgbClr val="000000"/>
                </a:solidFill>
                <a:latin typeface="Times New Roman"/>
              </a:rPr>
              <a:t>m01   m02   m03   m04   m05   m06   m07   m08   m09   m10   m11   m12</a:t>
            </a:r>
            <a:r>
              <a:rPr b="0" lang="es-E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2.</a:t>
            </a:r>
            <a:r>
              <a:rPr b="0" lang="es-ES" sz="1800" spc="-1" strike="noStrike">
                <a:solidFill>
                  <a:srgbClr val="000000"/>
                </a:solidFill>
                <a:latin typeface="Times New Roman"/>
              </a:rPr>
              <a:t>	</a:t>
            </a:r>
            <a:r>
              <a:rPr b="0" lang="es-ES" sz="1800" spc="-1" strike="noStrike">
                <a:solidFill>
                  <a:srgbClr val="000000"/>
                </a:solidFill>
                <a:latin typeface="Times New Roman"/>
              </a:rPr>
              <a:t>No    No    No    No    No    No    No    No    No   Yes   Y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20.</a:t>
            </a:r>
            <a:r>
              <a:rPr b="0" lang="es-ES" sz="1800" spc="-1" strike="noStrike">
                <a:solidFill>
                  <a:srgbClr val="000000"/>
                </a:solidFill>
                <a:latin typeface="Times New Roman"/>
              </a:rPr>
              <a:t>	</a:t>
            </a:r>
            <a:r>
              <a:rPr b="0" lang="es-ES" sz="1800" spc="-1" strike="noStrike">
                <a:solidFill>
                  <a:srgbClr val="000000"/>
                </a:solidFill>
                <a:latin typeface="Times New Roman"/>
              </a:rPr>
              <a:t>No    No   Yes   Yes     .     .     .     .     .     .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42.</a:t>
            </a:r>
            <a:r>
              <a:rPr b="0" lang="es-ES" sz="1800" spc="-1" strike="noStrike">
                <a:solidFill>
                  <a:srgbClr val="000000"/>
                </a:solidFill>
                <a:latin typeface="Times New Roman"/>
              </a:rPr>
              <a:t>	</a:t>
            </a:r>
            <a:r>
              <a:rPr b="0" lang="es-ES" sz="1800" spc="-1" strike="noStrike">
                <a:solidFill>
                  <a:srgbClr val="000000"/>
                </a:solidFill>
                <a:latin typeface="Times New Roman"/>
              </a:rPr>
              <a:t>Yes     .     .     .     .     .     .     .     .     .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53.</a:t>
            </a:r>
            <a:r>
              <a:rPr b="0" lang="es-ES" sz="1800" spc="-1" strike="noStrike">
                <a:solidFill>
                  <a:srgbClr val="000000"/>
                </a:solidFill>
                <a:latin typeface="Times New Roman"/>
              </a:rPr>
              <a:t>	</a:t>
            </a:r>
            <a:r>
              <a:rPr b="0" lang="es-ES" sz="1800" spc="-1" strike="noStrike">
                <a:solidFill>
                  <a:srgbClr val="000000"/>
                </a:solidFill>
                <a:latin typeface="Times New Roman"/>
              </a:rPr>
              <a:t>Yes    No    No     .     .     .     .     .     .     .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estim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en keep relevant months and reshape the data to meet your estimation needs (see Stata’s reshape comma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need to collect and append any time invariant variables – race, sex, ethnicity, ASVAB score – to each month of the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elieve that calendar month affects transitions, you need to keep track of time as we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consideration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want some covariates to vary with time (age, education, number of children).  How will you do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is relatively easy as you can augment it by a mon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What if attending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need to be very precise about tim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types of variabl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an indicator for each month whether or not the household is participating in the program since age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recei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hold member(s) receiving the 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Indicates that the respondent denies previously reported rece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types of social insuranc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compensation (only available in first two r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mployment Insu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surance programs are different than transfer payments because your “contributions” or taxes fund th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focus on Unemployment Insurance for this tal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ngths of data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is data clearly allows you to track the incidence of, say, Food Stamp use, other data sets such as the CPS will give you much larger and much broader s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ata covers adolescent “participation” in programs as well as young adult with reasonably large s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ata allow you to see what fraction of time they have been on a pro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ngths of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data allow you to estimate the duration of the spell of recipi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h duration models are also often referred to as “hazard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relevance: for a program of a given size you might want to know is this a large group of individuals with relatively short stays or a small group with long st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55"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discrete-time hazard models because the data are month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andard software is not appropriate because it assumes underlying data are continuous (no observations with the same length of sp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onthly data, you will get a very large number of observations with the same spell leng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a has ado file that will do estimation, pgmhaz.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idea: Given that the spell of transfer recipiency lasted until time t</a:t>
            </a:r>
            <a:r>
              <a:rPr b="0" lang="en-US" sz="2800" spc="-1" strike="noStrike" baseline="30000">
                <a:solidFill>
                  <a:srgbClr val="000000"/>
                </a:solidFill>
                <a:latin typeface="Arial"/>
              </a:rPr>
              <a:t>0</a:t>
            </a:r>
            <a:r>
              <a:rPr b="0" lang="en-US" sz="2800" spc="-1" strike="noStrike">
                <a:solidFill>
                  <a:srgbClr val="000000"/>
                </a:solidFill>
                <a:latin typeface="Arial"/>
              </a:rPr>
              <a:t>, what is the probability that it ends at time (t</a:t>
            </a:r>
            <a:r>
              <a:rPr b="0" lang="en-US" sz="2800" spc="-1" strike="noStrike" baseline="30000">
                <a:solidFill>
                  <a:srgbClr val="000000"/>
                </a:solidFill>
                <a:latin typeface="Arial"/>
              </a:rPr>
              <a:t>0</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ly, this is jus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 complete set of conditional probabilities, you can recover probability function</a:t>
            </a:r>
            <a:endParaRPr b="0" lang="en-US" sz="2800" spc="-1" strike="noStrike">
              <a:solidFill>
                <a:srgbClr val="000000"/>
              </a:solidFill>
              <a:latin typeface="Arial"/>
            </a:endParaRPr>
          </a:p>
        </p:txBody>
      </p:sp>
      <p:pic>
        <p:nvPicPr>
          <p:cNvPr id="58" name="" descr=""/>
          <p:cNvPicPr/>
          <p:nvPr/>
        </p:nvPicPr>
        <p:blipFill>
          <a:blip r:embed="rId1"/>
          <a:stretch/>
        </p:blipFill>
        <p:spPr>
          <a:xfrm>
            <a:off x="1600200" y="3352680"/>
            <a:ext cx="4724280" cy="113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gentle but incomplete introduction to hazard model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uple of compl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you may not observed the end of the spell because of data limitations or other censoring mechanisms, right-hand censo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you may not observe the beginning of the spell because of data limitations (left-hand censo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problem is easy to handle (and pgmhaz.ado does it for you), the third is a lot ha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13:45:51Z</dcterms:created>
  <dc:creator>black-dan</dc:creator>
  <dc:description/>
  <dc:language>en-US</dc:language>
  <cp:lastModifiedBy>Dan Black</cp:lastModifiedBy>
  <dcterms:modified xsi:type="dcterms:W3CDTF">2007-07-17T13:37:30Z</dcterms:modified>
  <cp:revision>5</cp:revision>
  <dc:subject/>
  <dc:title>Transfer Program in the 1997 Cohort of the NLSY</dc:title>
</cp:coreProperties>
</file>