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C313A-72E7-4C39-A7A6-894BECCB39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591012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900600"/>
            <a:ext cx="591012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0F107-788C-42C0-9236-9171872A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90060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256920" y="390060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9F51-2D6F-42AF-B0AF-4768AB88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26600" y="106632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25320" y="106632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90060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26600" y="390060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25320" y="390060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99E1A-CC57-45F3-BCAD-70DB3BDD7E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066320"/>
            <a:ext cx="5910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591012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-720"/>
            <a:ext cx="87631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390060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066320"/>
            <a:ext cx="5910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C64BC-47EA-444F-8C5C-D8037051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56920" y="390060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3900600"/>
            <a:ext cx="591012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591012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3900600"/>
            <a:ext cx="591012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390060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256920" y="390060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26600" y="106632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25320" y="106632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390060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226600" y="390060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225320" y="3900600"/>
            <a:ext cx="1902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591012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2EADC-6C77-476B-ABFE-E481A143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BBBB-0BC9-4360-AE6F-E7640147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D7FC2-E852-42AB-AB24-817E19F8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720"/>
            <a:ext cx="87631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245C-01EE-4E23-B9E1-16A6EBCB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90060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5428-9D02-4566-8AC7-AF4BFD3B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56920" y="390060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64EA8-445B-410E-920F-7DB79149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56920" y="1066320"/>
            <a:ext cx="288396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900600"/>
            <a:ext cx="5910120" cy="25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B667-B718-4A62-A7D1-C43B9A8F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solidFill>
            <a:srgbClr val="ffe9ab">
              <a:alpha val="92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066320"/>
            <a:ext cx="591012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91160" y="66290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8680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1A65-3E74-4F6C-8570-8C9246BCAF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10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23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-72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240" y="1066320"/>
            <a:ext cx="591012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16765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Employment Dat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NLSY79 &amp; NLSY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280" y="4343400"/>
            <a:ext cx="8610840" cy="8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1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2 (Work Histories):   Audrey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14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 Job Start Dates and Stop Dat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35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0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65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0 interview is held the week of 8/5/90 (week 658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_WK#_1990_JOB#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.   (for n=1,2,3,4,5)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_WK#_1990_JOB#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.   (for n=1,2,3,4,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reports no current job, and no jobs held since the last interview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5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1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1 interview is held the week of 6/30/91 (week 705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_WK#_1991_JOB#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674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_WK#_1991_JOB#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0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reports a job that began in week 674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ob does not “stop” in week 705.  The interview week is used as a pseudo-stop week to indicate that the job is ongoing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variable in the Job Information file confirms that the respondent is currently working for this employ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]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we will refer to this job as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993366"/>
                </a:solidFill>
                <a:uFillTx/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_WK#_1991_JOB#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.   (n=2,3,4,5)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_WK#_1991_JOB#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.     (n=2,3,4,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reports no other jobs held since the last interview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3"/>
          <p:cNvSpPr/>
          <p:nvPr/>
        </p:nvSpPr>
        <p:spPr>
          <a:xfrm>
            <a:off x="304920" y="762120"/>
            <a:ext cx="83818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this reported information we know that, as of week 705, the respondent’s work history looks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6"/>
          <p:cNvGrpSpPr/>
          <p:nvPr/>
        </p:nvGrpSpPr>
        <p:grpSpPr>
          <a:xfrm>
            <a:off x="307800" y="2209680"/>
            <a:ext cx="8835840" cy="2136240"/>
            <a:chOff x="307800" y="2209680"/>
            <a:chExt cx="8835840" cy="2136240"/>
          </a:xfrm>
        </p:grpSpPr>
        <p:sp>
          <p:nvSpPr>
            <p:cNvPr id="103" name="Oval 57"/>
            <p:cNvSpPr/>
            <p:nvPr/>
          </p:nvSpPr>
          <p:spPr>
            <a:xfrm>
              <a:off x="2819520" y="3733920"/>
              <a:ext cx="152280" cy="152280"/>
            </a:xfrm>
            <a:prstGeom prst="ellipse">
              <a:avLst/>
            </a:prstGeom>
            <a:solidFill>
              <a:srgbClr val="99336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58"/>
            <p:cNvSpPr/>
            <p:nvPr/>
          </p:nvSpPr>
          <p:spPr>
            <a:xfrm>
              <a:off x="307800" y="3886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9"/>
            <p:cNvSpPr/>
            <p:nvPr/>
          </p:nvSpPr>
          <p:spPr>
            <a:xfrm>
              <a:off x="2440800" y="3886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7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0"/>
            <p:cNvSpPr/>
            <p:nvPr/>
          </p:nvSpPr>
          <p:spPr>
            <a:xfrm>
              <a:off x="4346280" y="3886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61"/>
            <p:cNvSpPr/>
            <p:nvPr/>
          </p:nvSpPr>
          <p:spPr>
            <a:xfrm flipH="1">
              <a:off x="4724280" y="3124080"/>
              <a:ext cx="463320" cy="565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62"/>
            <p:cNvSpPr/>
            <p:nvPr/>
          </p:nvSpPr>
          <p:spPr>
            <a:xfrm flipH="1">
              <a:off x="2895480" y="2742840"/>
              <a:ext cx="83808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3"/>
            <p:cNvSpPr/>
            <p:nvPr/>
          </p:nvSpPr>
          <p:spPr>
            <a:xfrm>
              <a:off x="2438280" y="22096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Job 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begi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64"/>
            <p:cNvSpPr/>
            <p:nvPr/>
          </p:nvSpPr>
          <p:spPr>
            <a:xfrm>
              <a:off x="458640" y="2590560"/>
              <a:ext cx="22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90 inter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65"/>
            <p:cNvSpPr/>
            <p:nvPr/>
          </p:nvSpPr>
          <p:spPr>
            <a:xfrm>
              <a:off x="4267080" y="2514240"/>
              <a:ext cx="487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91 interview (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Job A in progres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66"/>
            <p:cNvSpPr/>
            <p:nvPr/>
          </p:nvSpPr>
          <p:spPr>
            <a:xfrm>
              <a:off x="457200" y="3809880"/>
              <a:ext cx="23623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67"/>
            <p:cNvSpPr/>
            <p:nvPr/>
          </p:nvSpPr>
          <p:spPr>
            <a:xfrm flipH="1">
              <a:off x="456840" y="3124080"/>
              <a:ext cx="463320" cy="565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68"/>
            <p:cNvSpPr/>
            <p:nvPr/>
          </p:nvSpPr>
          <p:spPr>
            <a:xfrm>
              <a:off x="2933640" y="3809880"/>
              <a:ext cx="1828800" cy="0"/>
            </a:xfrm>
            <a:prstGeom prst="line">
              <a:avLst/>
            </a:prstGeom>
            <a:ln w="41400">
              <a:solidFill>
                <a:srgbClr val="993366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20"/>
          <p:cNvSpPr/>
          <p:nvPr/>
        </p:nvSpPr>
        <p:spPr>
          <a:xfrm>
            <a:off x="228600" y="5181480"/>
            <a:ext cx="861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바탕"/>
              </a:rPr>
              <a:t>PER#_START_1991_JOB1=-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and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바탕"/>
              </a:rPr>
              <a:t> PER#_STOP_1991_JOB1=-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, so there are no “within job”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3"/>
          <p:cNvSpPr/>
          <p:nvPr/>
        </p:nvSpPr>
        <p:spPr>
          <a:xfrm>
            <a:off x="228600" y="533520"/>
            <a:ext cx="8763120" cy="43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2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LASTINT_WK#_199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2 interview is held the week of 6/14/92 (week 75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INT_WK is last year’s interview week +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REV_EMP#_1992_JOB#0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previous employer” variable indicates that this year’s job #1 is identical to last year’s job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ontinue to refer to this job as </a:t>
            </a:r>
            <a:r>
              <a:rPr b="1" lang="en-US" sz="2400" spc="-1" strike="noStrike" u="sng">
                <a:solidFill>
                  <a:srgbClr val="993366"/>
                </a:solidFill>
                <a:uFillTx/>
                <a:latin typeface="Arial"/>
              </a:rPr>
              <a:t>Job A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228600" y="228600"/>
            <a:ext cx="85345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2 Interview,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REV_EMP#_1992_JOB#0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_WK#_1992_JOB#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_WK#_1992_JOB#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5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es not “start” in week 706.  The last interview week is used as a pseudo-start week to indicate that this job is a continuation of a job reported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es not “stop” in week 755.  The interview week is used as a pseudo-stop week to indicate that the job is ong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_WK#_1992_JOB#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.   (n=2,3,4,5)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_WK#_1992_JOB#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.     (n=2,3,4,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reports no other jobs held since the last inter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0"/>
          <p:cNvSpPr/>
          <p:nvPr/>
        </p:nvSpPr>
        <p:spPr>
          <a:xfrm>
            <a:off x="304920" y="838080"/>
            <a:ext cx="83818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of week 755, the respondent’s work history looks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1"/>
          <p:cNvGrpSpPr/>
          <p:nvPr/>
        </p:nvGrpSpPr>
        <p:grpSpPr>
          <a:xfrm>
            <a:off x="154440" y="2438280"/>
            <a:ext cx="8816040" cy="1770480"/>
            <a:chOff x="154440" y="2438280"/>
            <a:chExt cx="8816040" cy="1770480"/>
          </a:xfrm>
        </p:grpSpPr>
        <p:sp>
          <p:nvSpPr>
            <p:cNvPr id="120" name="Line 22"/>
            <p:cNvSpPr/>
            <p:nvPr/>
          </p:nvSpPr>
          <p:spPr>
            <a:xfrm flipH="1">
              <a:off x="4738680" y="3133440"/>
              <a:ext cx="546120" cy="453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3"/>
            <p:cNvSpPr/>
            <p:nvPr/>
          </p:nvSpPr>
          <p:spPr>
            <a:xfrm flipH="1">
              <a:off x="2718720" y="2803320"/>
              <a:ext cx="873360" cy="812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"/>
            <p:cNvSpPr/>
            <p:nvPr/>
          </p:nvSpPr>
          <p:spPr>
            <a:xfrm>
              <a:off x="2276640" y="2438280"/>
              <a:ext cx="240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ob A beg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5"/>
            <p:cNvSpPr/>
            <p:nvPr/>
          </p:nvSpPr>
          <p:spPr>
            <a:xfrm>
              <a:off x="564480" y="2819160"/>
              <a:ext cx="17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0 inter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6"/>
            <p:cNvSpPr/>
            <p:nvPr/>
          </p:nvSpPr>
          <p:spPr>
            <a:xfrm>
              <a:off x="4219560" y="2819160"/>
              <a:ext cx="24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1 inter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7"/>
            <p:cNvSpPr/>
            <p:nvPr/>
          </p:nvSpPr>
          <p:spPr>
            <a:xfrm>
              <a:off x="154440" y="3786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5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8"/>
            <p:cNvSpPr/>
            <p:nvPr/>
          </p:nvSpPr>
          <p:spPr>
            <a:xfrm>
              <a:off x="6616440" y="2621520"/>
              <a:ext cx="235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2 inter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ob A in progress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9"/>
            <p:cNvSpPr/>
            <p:nvPr/>
          </p:nvSpPr>
          <p:spPr>
            <a:xfrm flipH="1">
              <a:off x="7496280" y="3269880"/>
              <a:ext cx="491400" cy="371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7161480" y="37389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1"/>
            <p:cNvSpPr/>
            <p:nvPr/>
          </p:nvSpPr>
          <p:spPr>
            <a:xfrm>
              <a:off x="638640" y="3692880"/>
              <a:ext cx="2057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2"/>
            <p:cNvSpPr/>
            <p:nvPr/>
          </p:nvSpPr>
          <p:spPr>
            <a:xfrm>
              <a:off x="2691360" y="3704040"/>
              <a:ext cx="199296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3"/>
            <p:cNvSpPr/>
            <p:nvPr/>
          </p:nvSpPr>
          <p:spPr>
            <a:xfrm flipH="1">
              <a:off x="670680" y="3130920"/>
              <a:ext cx="546120" cy="453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4"/>
            <p:cNvSpPr/>
            <p:nvPr/>
          </p:nvSpPr>
          <p:spPr>
            <a:xfrm>
              <a:off x="4711680" y="3704040"/>
              <a:ext cx="272988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311200" y="38404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4467960" y="38404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20"/>
          <p:cNvSpPr/>
          <p:nvPr/>
        </p:nvSpPr>
        <p:spPr>
          <a:xfrm>
            <a:off x="228600" y="5029200"/>
            <a:ext cx="861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바탕"/>
              </a:rPr>
              <a:t>PER#_START_1992_JOB1=-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and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바탕"/>
              </a:rPr>
              <a:t> PER#_STOP_1992_JOB1=-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, so there are no “within job”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9"/>
          <p:cNvSpPr/>
          <p:nvPr/>
        </p:nvSpPr>
        <p:spPr>
          <a:xfrm>
            <a:off x="152280" y="304920"/>
            <a:ext cx="8763120" cy="67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3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8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LASTINT_WK#_199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3 interview is held the week of 7/4/93 (week 81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INT_WK is last year’s interview week +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REV_EMP#_1993_JOB#0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_WK#_1993_JOB#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5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_WK#_1993_JOB#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76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previous employer” variable indicates that this year’s job #2 is identical to last year’s job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es not “start” in week 756.  The last interview week is used as a pseudo-start week to indicate that this job is a continuation of a job reported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ded the week of 9/6/92 (week 767); this is the job’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p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3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3 Interview, continu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_WK#_1993_JOB#0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771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_WK#_1993_JOB#0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8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reports a new job that began the week of 10/4/9 (week 771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we refer to this new job as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Job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Job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es not “stop” in week 810.  The interview week is used as a pseudo-stop date to indicate that the job is ongoing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2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_WK#_1993_JOB#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.    (n=3,4,5)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_WK#_1993_JOB#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.     (n=3,4,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reports no other jobs held since the last interview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4"/>
          <p:cNvSpPr/>
          <p:nvPr/>
        </p:nvSpPr>
        <p:spPr>
          <a:xfrm>
            <a:off x="152280" y="609480"/>
            <a:ext cx="8763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of week 810, his work history looks like thi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5"/>
          <p:cNvGrpSpPr/>
          <p:nvPr/>
        </p:nvGrpSpPr>
        <p:grpSpPr>
          <a:xfrm>
            <a:off x="1440" y="1523880"/>
            <a:ext cx="9142200" cy="2669400"/>
            <a:chOff x="1440" y="1523880"/>
            <a:chExt cx="9142200" cy="2669400"/>
          </a:xfrm>
        </p:grpSpPr>
        <p:sp>
          <p:nvSpPr>
            <p:cNvPr id="140" name="Line 36"/>
            <p:cNvSpPr/>
            <p:nvPr/>
          </p:nvSpPr>
          <p:spPr>
            <a:xfrm>
              <a:off x="4150440" y="3719160"/>
              <a:ext cx="87336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7"/>
            <p:cNvSpPr/>
            <p:nvPr/>
          </p:nvSpPr>
          <p:spPr>
            <a:xfrm flipH="1">
              <a:off x="2971080" y="3032640"/>
              <a:ext cx="393480" cy="520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8"/>
            <p:cNvSpPr/>
            <p:nvPr/>
          </p:nvSpPr>
          <p:spPr>
            <a:xfrm flipH="1">
              <a:off x="1447200" y="2154240"/>
              <a:ext cx="1066680" cy="1414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1583640" y="16711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ob A begi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152280" y="2443320"/>
              <a:ext cx="1361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0 intervie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2666880" y="233100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1 intervie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1440" y="38559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5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1202760" y="382824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7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2622600" y="38556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0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3962160" y="23680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2 intervie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46"/>
            <p:cNvSpPr/>
            <p:nvPr/>
          </p:nvSpPr>
          <p:spPr>
            <a:xfrm flipH="1">
              <a:off x="4190760" y="3032640"/>
              <a:ext cx="387360" cy="520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3811320" y="38559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4649400" y="38559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6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5351760" y="1523880"/>
              <a:ext cx="121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ob A en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0"/>
            <p:cNvSpPr/>
            <p:nvPr/>
          </p:nvSpPr>
          <p:spPr>
            <a:xfrm flipH="1">
              <a:off x="5050800" y="2206440"/>
              <a:ext cx="1066680" cy="1414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1"/>
            <p:cNvSpPr/>
            <p:nvPr/>
          </p:nvSpPr>
          <p:spPr>
            <a:xfrm flipH="1">
              <a:off x="5924880" y="2233800"/>
              <a:ext cx="1066680" cy="1398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6444000" y="155124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ob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gi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5640120" y="38451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7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54"/>
            <p:cNvSpPr/>
            <p:nvPr/>
          </p:nvSpPr>
          <p:spPr>
            <a:xfrm flipH="1">
              <a:off x="7772400" y="3108600"/>
              <a:ext cx="387360" cy="520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392960" y="38451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162560" y="218880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3 intervie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Job B in progress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57"/>
            <p:cNvSpPr/>
            <p:nvPr/>
          </p:nvSpPr>
          <p:spPr>
            <a:xfrm flipH="1">
              <a:off x="380520" y="3052800"/>
              <a:ext cx="393480" cy="520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8"/>
            <p:cNvSpPr/>
            <p:nvPr/>
          </p:nvSpPr>
          <p:spPr>
            <a:xfrm>
              <a:off x="327600" y="3719160"/>
              <a:ext cx="11192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9"/>
            <p:cNvSpPr/>
            <p:nvPr/>
          </p:nvSpPr>
          <p:spPr>
            <a:xfrm>
              <a:off x="1446840" y="3719160"/>
              <a:ext cx="144720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0"/>
            <p:cNvSpPr/>
            <p:nvPr/>
          </p:nvSpPr>
          <p:spPr>
            <a:xfrm>
              <a:off x="2948760" y="3719160"/>
              <a:ext cx="120132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61"/>
            <p:cNvSpPr/>
            <p:nvPr/>
          </p:nvSpPr>
          <p:spPr>
            <a:xfrm>
              <a:off x="5925240" y="3719160"/>
              <a:ext cx="1829160" cy="0"/>
            </a:xfrm>
            <a:prstGeom prst="line">
              <a:avLst/>
            </a:prstGeom>
            <a:ln w="31680">
              <a:solidFill>
                <a:srgbClr val="00808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2"/>
            <p:cNvSpPr/>
            <p:nvPr/>
          </p:nvSpPr>
          <p:spPr>
            <a:xfrm>
              <a:off x="5078520" y="3719160"/>
              <a:ext cx="819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 Job Start Dates and Stop Dat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may wish to create their own variables identifying the “true” start &amp; stop weeks of each job hel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e might create the variab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RTx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start week of job x, where x indexes th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rough last job encountered in chronological order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OPx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stop week of job x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ENx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1 if job x is right-censored (in progress when the respondent is last interviewed) and 0 otherwise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304920" y="533520"/>
            <a:ext cx="861048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cc"/>
                </a:solidFill>
                <a:uFillTx/>
                <a:latin typeface="Arial"/>
              </a:rPr>
              <a:t>Work Histo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24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 the key employment-related work history variables in the NLSY79 and NLSY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24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e selected work history variables for one NLSY79 respondent to see how his employment activities are summariz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24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 alternative ways of measuring work experience and job mobility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12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stylized example where our respond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ASEID=15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seen from 1990 to 1993, these variables take on the following valu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276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28800" y="1600200"/>
          <a:ext cx="4419720" cy="124776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117800"/>
                <a:gridCol w="863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ob #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ART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OP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EN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74"/>
          <p:cNvSpPr/>
          <p:nvPr/>
        </p:nvSpPr>
        <p:spPr>
          <a:xfrm>
            <a:off x="380880" y="32004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follow our respondent from week 1 (1/1/78) to h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ast interview (week 1471, or 3/5/06) we get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828800" y="4495680"/>
          <a:ext cx="4419720" cy="197640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117800"/>
                <a:gridCol w="863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ob #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ART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OP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EN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07732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 the 2006 interview, other respondents report as many as 42 unique jobs (x=1-42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276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4"/>
          <p:cNvSpPr/>
          <p:nvPr/>
        </p:nvSpPr>
        <p:spPr>
          <a:xfrm>
            <a:off x="380880" y="3048120"/>
            <a:ext cx="876312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ditional information, se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NLSY79 APPENDIX 9: “LINKING EMPLOYERS THROUGH SURVEY YEA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839440" cy="66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’s weekly labor force status is described by the array of variables name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ATUS_WK_NUM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xxx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variables can take on the following valu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no information reported for week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not working (unemployed vs. OLF not determined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ssociated with employer (gaps missing; time                 unaccounted for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unemployed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out of labor force (OLF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ctive military service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xxn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employed (xx is round; nn is job number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Weekly Labor Force Statu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534520" cy="54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0 inter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Still looking at CASEID=15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65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64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65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65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65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is interviewed in week 658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is OLF at the interview date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4-week OLF spell is preceded by an 8-week unemployment spell that began in week 647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e will learn “next year,” this period of unemployment/OLF will continue for several more weeks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534160" cy="63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1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7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65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67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67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7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3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is interviewed in week 705.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 year’s” period of unemployment/OLF continued through week 673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he is now holding a job (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hat began in week 674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us array shows that from week 674 to the current interview week, he is employed o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is job #1 reported in 1991 (r13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534520" cy="477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2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75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70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75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4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is interviewed in week 755.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he has worked continuously o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nce the last interview date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us array shows that from the last interview week to the current interview week he is employed o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is job #1 reported in 1992 (r14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5345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3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8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75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STATUS_WK_NUM 767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15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76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77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77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TUS_WK_NUM8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5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ded in week 767 &amp;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Job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gan in week 77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us array shows that from the last interview week to week 767 he is employed o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is  job #2 reported in 1993 (r15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us array shows that from week 771 to the current interview week he is employed on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Job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is job #1 reported in 1993 (r15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us array shows that he was unemployed for the 3 weeks betwee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Job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52280" y="53352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he addition of the information in the status array, we know that this portion of the work history looks like th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7"/>
          <p:cNvGrpSpPr/>
          <p:nvPr/>
        </p:nvGrpSpPr>
        <p:grpSpPr>
          <a:xfrm>
            <a:off x="388080" y="1908000"/>
            <a:ext cx="8755560" cy="3453480"/>
            <a:chOff x="388080" y="1908000"/>
            <a:chExt cx="8755560" cy="3453480"/>
          </a:xfrm>
        </p:grpSpPr>
        <p:sp>
          <p:nvSpPr>
            <p:cNvPr id="185" name="Rectangle 68"/>
            <p:cNvSpPr/>
            <p:nvPr/>
          </p:nvSpPr>
          <p:spPr>
            <a:xfrm>
              <a:off x="916920" y="34401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5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9"/>
            <p:cNvSpPr/>
            <p:nvPr/>
          </p:nvSpPr>
          <p:spPr>
            <a:xfrm>
              <a:off x="1907280" y="34401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0"/>
            <p:cNvSpPr/>
            <p:nvPr/>
          </p:nvSpPr>
          <p:spPr>
            <a:xfrm>
              <a:off x="2974320" y="34401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1"/>
            <p:cNvSpPr/>
            <p:nvPr/>
          </p:nvSpPr>
          <p:spPr>
            <a:xfrm>
              <a:off x="4116960" y="34401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2"/>
            <p:cNvSpPr/>
            <p:nvPr/>
          </p:nvSpPr>
          <p:spPr>
            <a:xfrm>
              <a:off x="4955400" y="34401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6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73"/>
            <p:cNvSpPr/>
            <p:nvPr/>
          </p:nvSpPr>
          <p:spPr>
            <a:xfrm>
              <a:off x="5945760" y="34401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7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4"/>
            <p:cNvSpPr/>
            <p:nvPr/>
          </p:nvSpPr>
          <p:spPr>
            <a:xfrm>
              <a:off x="7707960" y="34916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5"/>
            <p:cNvSpPr/>
            <p:nvPr/>
          </p:nvSpPr>
          <p:spPr>
            <a:xfrm>
              <a:off x="388080" y="34401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76"/>
            <p:cNvSpPr/>
            <p:nvPr/>
          </p:nvSpPr>
          <p:spPr>
            <a:xfrm flipH="1">
              <a:off x="3276360" y="2671920"/>
              <a:ext cx="393480" cy="53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7"/>
            <p:cNvSpPr/>
            <p:nvPr/>
          </p:nvSpPr>
          <p:spPr>
            <a:xfrm>
              <a:off x="3124440" y="487656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ob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8"/>
            <p:cNvSpPr/>
            <p:nvPr/>
          </p:nvSpPr>
          <p:spPr>
            <a:xfrm>
              <a:off x="990720" y="19080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0 inter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9"/>
            <p:cNvSpPr/>
            <p:nvPr/>
          </p:nvSpPr>
          <p:spPr>
            <a:xfrm>
              <a:off x="2972160" y="1949760"/>
              <a:ext cx="137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1 inter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0"/>
            <p:cNvSpPr/>
            <p:nvPr/>
          </p:nvSpPr>
          <p:spPr>
            <a:xfrm>
              <a:off x="4267440" y="200736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2 inter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81"/>
            <p:cNvSpPr/>
            <p:nvPr/>
          </p:nvSpPr>
          <p:spPr>
            <a:xfrm flipH="1">
              <a:off x="4453560" y="2672280"/>
              <a:ext cx="387000" cy="53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2"/>
            <p:cNvSpPr/>
            <p:nvPr/>
          </p:nvSpPr>
          <p:spPr>
            <a:xfrm>
              <a:off x="6477120" y="4876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ob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3"/>
            <p:cNvSpPr/>
            <p:nvPr/>
          </p:nvSpPr>
          <p:spPr>
            <a:xfrm flipH="1">
              <a:off x="8030520" y="2699640"/>
              <a:ext cx="387000" cy="536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4"/>
            <p:cNvSpPr/>
            <p:nvPr/>
          </p:nvSpPr>
          <p:spPr>
            <a:xfrm>
              <a:off x="7543800" y="2085480"/>
              <a:ext cx="159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3 inter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5"/>
            <p:cNvSpPr/>
            <p:nvPr/>
          </p:nvSpPr>
          <p:spPr>
            <a:xfrm flipH="1">
              <a:off x="1295280" y="2673720"/>
              <a:ext cx="393480" cy="53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86"/>
            <p:cNvSpPr/>
            <p:nvPr/>
          </p:nvSpPr>
          <p:spPr>
            <a:xfrm rot="16200000">
              <a:off x="3121560" y="2835360"/>
              <a:ext cx="1148400" cy="3124080"/>
            </a:xfrm>
            <a:custGeom>
              <a:avLst/>
              <a:gdLst>
                <a:gd name="textAreaLeft" fmla="*/ 733680 w 1148400"/>
                <a:gd name="textAreaRight" fmla="*/ 1148760 w 1148400"/>
                <a:gd name="textAreaTop" fmla="*/ 0 h 3124080"/>
                <a:gd name="textAreaBottom" fmla="*/ 312444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326"/>
                  </a:lnTo>
                  <a:cubicBezTo>
                    <a:pt x="10800" y="10326"/>
                    <a:pt x="5400" y="10326"/>
                    <a:pt x="0" y="10326"/>
                  </a:cubicBezTo>
                  <a:cubicBezTo>
                    <a:pt x="5400" y="10326"/>
                    <a:pt x="10800" y="10326"/>
                    <a:pt x="10800" y="10326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87"/>
            <p:cNvSpPr/>
            <p:nvPr/>
          </p:nvSpPr>
          <p:spPr>
            <a:xfrm rot="16200000">
              <a:off x="6436080" y="3483000"/>
              <a:ext cx="1148400" cy="1828440"/>
            </a:xfrm>
            <a:custGeom>
              <a:avLst/>
              <a:gdLst>
                <a:gd name="textAreaLeft" fmla="*/ 733680 w 1148400"/>
                <a:gd name="textAreaRight" fmla="*/ 1148760 w 1148400"/>
                <a:gd name="textAreaTop" fmla="*/ 0 h 1828440"/>
                <a:gd name="textAreaBottom" fmla="*/ 182880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326"/>
                  </a:lnTo>
                  <a:cubicBezTo>
                    <a:pt x="10800" y="10326"/>
                    <a:pt x="5400" y="10326"/>
                    <a:pt x="0" y="10326"/>
                  </a:cubicBezTo>
                  <a:cubicBezTo>
                    <a:pt x="5400" y="10326"/>
                    <a:pt x="10800" y="10326"/>
                    <a:pt x="10800" y="10326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88"/>
            <p:cNvSpPr/>
            <p:nvPr/>
          </p:nvSpPr>
          <p:spPr>
            <a:xfrm rot="16200000">
              <a:off x="5246280" y="3834720"/>
              <a:ext cx="861480" cy="837720"/>
            </a:xfrm>
            <a:custGeom>
              <a:avLst/>
              <a:gdLst>
                <a:gd name="textAreaLeft" fmla="*/ 550440 w 861480"/>
                <a:gd name="textAreaRight" fmla="*/ 861840 w 861480"/>
                <a:gd name="textAreaTop" fmla="*/ 17280 h 837720"/>
                <a:gd name="textAreaBottom" fmla="*/ 82044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20"/>
                    <a:pt x="10800" y="1440"/>
                  </a:cubicBezTo>
                  <a:lnTo>
                    <a:pt x="10800" y="9360"/>
                  </a:lnTo>
                  <a:cubicBezTo>
                    <a:pt x="10800" y="10080"/>
                    <a:pt x="5400" y="10800"/>
                    <a:pt x="0" y="10800"/>
                  </a:cubicBezTo>
                  <a:cubicBezTo>
                    <a:pt x="5400" y="10800"/>
                    <a:pt x="10800" y="11520"/>
                    <a:pt x="10800" y="12240"/>
                  </a:cubicBezTo>
                  <a:lnTo>
                    <a:pt x="10800" y="20160"/>
                  </a:lnTo>
                  <a:cubicBezTo>
                    <a:pt x="10800" y="2088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9"/>
            <p:cNvSpPr/>
            <p:nvPr/>
          </p:nvSpPr>
          <p:spPr>
            <a:xfrm>
              <a:off x="4648320" y="47808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Unemploy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90"/>
            <p:cNvSpPr/>
            <p:nvPr/>
          </p:nvSpPr>
          <p:spPr>
            <a:xfrm rot="16200000">
              <a:off x="943200" y="3493800"/>
              <a:ext cx="861480" cy="1519560"/>
            </a:xfrm>
            <a:custGeom>
              <a:avLst/>
              <a:gdLst>
                <a:gd name="textAreaLeft" fmla="*/ 550440 w 861480"/>
                <a:gd name="textAreaRight" fmla="*/ 861840 w 861480"/>
                <a:gd name="textAreaTop" fmla="*/ 39600 h 1519560"/>
                <a:gd name="textAreaBottom" fmla="*/ 1479960 h 151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1"/>
            <p:cNvSpPr/>
            <p:nvPr/>
          </p:nvSpPr>
          <p:spPr>
            <a:xfrm>
              <a:off x="838440" y="4780800"/>
              <a:ext cx="17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Unemployment or OL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92"/>
            <p:cNvSpPr/>
            <p:nvPr/>
          </p:nvSpPr>
          <p:spPr>
            <a:xfrm>
              <a:off x="604080" y="3327840"/>
              <a:ext cx="6004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93"/>
            <p:cNvSpPr/>
            <p:nvPr/>
          </p:nvSpPr>
          <p:spPr>
            <a:xfrm>
              <a:off x="1232280" y="3327840"/>
              <a:ext cx="955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94"/>
            <p:cNvSpPr/>
            <p:nvPr/>
          </p:nvSpPr>
          <p:spPr>
            <a:xfrm>
              <a:off x="2187720" y="3327840"/>
              <a:ext cx="109188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95"/>
            <p:cNvSpPr/>
            <p:nvPr/>
          </p:nvSpPr>
          <p:spPr>
            <a:xfrm>
              <a:off x="3279960" y="3327840"/>
              <a:ext cx="111924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6"/>
            <p:cNvSpPr/>
            <p:nvPr/>
          </p:nvSpPr>
          <p:spPr>
            <a:xfrm>
              <a:off x="4426560" y="3327840"/>
              <a:ext cx="79164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97"/>
            <p:cNvSpPr/>
            <p:nvPr/>
          </p:nvSpPr>
          <p:spPr>
            <a:xfrm>
              <a:off x="5245920" y="3327840"/>
              <a:ext cx="928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98"/>
            <p:cNvSpPr/>
            <p:nvPr/>
          </p:nvSpPr>
          <p:spPr>
            <a:xfrm>
              <a:off x="6174360" y="3327840"/>
              <a:ext cx="1801800" cy="0"/>
            </a:xfrm>
            <a:prstGeom prst="line">
              <a:avLst/>
            </a:prstGeom>
            <a:ln w="31680">
              <a:solidFill>
                <a:srgbClr val="00808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Weekly Hours Worke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0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’s weekly work effort is described by the array of variables: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RS_WORKED_WK_NUMxxx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8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variables giv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ual weekly hou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orked 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 job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uring the particular week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3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0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65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64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65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is interviewed in week 658.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the respondent is unemployed or OLF from week 647 to week 658 (and beyond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urs array shows that he work zero hours during each week of the unemployment/OLF spells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534520" cy="32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 I: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 of Employment-Related Work History Variables in the NLSY79 and NLSY9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4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1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7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65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67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67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7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5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is interviewed in week 705.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urs array shows that he worked zero hours for the duration of “last year’s” unemp/OLF spell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the respondent bega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week 674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terviewed in week 705, the respondent reports his “usual weekly hours” o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be 50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urs array shows 50 hours for every week since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gan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2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75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70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75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5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dent is interviewed in week 755.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the respondent has worked o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nce the last interview.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terviewed in week 755, the respondent reports his “usual weekly hours” o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be 55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urs array shows 55 hours in every week since the last interview.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534520" cy="64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993 int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INT_WK#_199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8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75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76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5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76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77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77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RS_WORKED_WK_NUM8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terviewed in week 810, the respondent reports his “usual weekly hours” on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Job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hich ended in week 767) to be 50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terviewed in week 810, the respondent reports his “usual weekly hours” on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Job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hich began in week 771) to be 40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urs array shows that he worked zero hours during each week of the intervening unemployment spell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3840"/>
            <a:ext cx="7772400" cy="37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 III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suring Work Experien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Job Mobility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xamples from the NLSY79 (and YA)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. Measuring Work Experie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64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oss-sectional survey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data on actual work experience are scar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a result, we often use “Age-Schooling-6” as a proxy for work experien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interview date, the respondent reports hi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years of schooling 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pproximate his school exit date as ag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+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his experience as the time elapsed since that date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25" name="Group 38"/>
          <p:cNvGrpSpPr/>
          <p:nvPr/>
        </p:nvGrpSpPr>
        <p:grpSpPr>
          <a:xfrm>
            <a:off x="1143000" y="4800600"/>
            <a:ext cx="6324120" cy="1460880"/>
            <a:chOff x="1143000" y="4800600"/>
            <a:chExt cx="6324120" cy="1460880"/>
          </a:xfrm>
        </p:grpSpPr>
        <p:sp>
          <p:nvSpPr>
            <p:cNvPr id="226" name="Text Box 39"/>
            <p:cNvSpPr/>
            <p:nvPr/>
          </p:nvSpPr>
          <p:spPr>
            <a:xfrm>
              <a:off x="1143000" y="5701680"/>
              <a:ext cx="5799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r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0"/>
            <p:cNvSpPr/>
            <p:nvPr/>
          </p:nvSpPr>
          <p:spPr>
            <a:xfrm>
              <a:off x="1461960" y="5326920"/>
              <a:ext cx="49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1"/>
            <p:cNvSpPr/>
            <p:nvPr/>
          </p:nvSpPr>
          <p:spPr>
            <a:xfrm flipV="1">
              <a:off x="1231920" y="5346720"/>
              <a:ext cx="24840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42"/>
            <p:cNvSpPr/>
            <p:nvPr/>
          </p:nvSpPr>
          <p:spPr>
            <a:xfrm>
              <a:off x="1765800" y="5756400"/>
              <a:ext cx="1366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ssumed to begin scho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3"/>
            <p:cNvSpPr/>
            <p:nvPr/>
          </p:nvSpPr>
          <p:spPr>
            <a:xfrm>
              <a:off x="3518280" y="5756400"/>
              <a:ext cx="13651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ssumed to end scho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4"/>
            <p:cNvSpPr/>
            <p:nvPr/>
          </p:nvSpPr>
          <p:spPr>
            <a:xfrm>
              <a:off x="5805360" y="5729760"/>
              <a:ext cx="1661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viewed (report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g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&amp;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45"/>
            <p:cNvSpPr/>
            <p:nvPr/>
          </p:nvSpPr>
          <p:spPr>
            <a:xfrm flipH="1" flipV="1">
              <a:off x="3637080" y="5346720"/>
              <a:ext cx="285840" cy="38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6"/>
            <p:cNvSpPr/>
            <p:nvPr/>
          </p:nvSpPr>
          <p:spPr>
            <a:xfrm flipV="1">
              <a:off x="6161040" y="5346720"/>
              <a:ext cx="24840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47"/>
            <p:cNvSpPr/>
            <p:nvPr/>
          </p:nvSpPr>
          <p:spPr>
            <a:xfrm flipH="1" rot="16200000">
              <a:off x="1683360" y="4885920"/>
              <a:ext cx="163800" cy="593640"/>
            </a:xfrm>
            <a:custGeom>
              <a:avLst/>
              <a:gdLst>
                <a:gd name="textAreaLeft" fmla="*/ 104760 w 163800"/>
                <a:gd name="textAreaRight" fmla="*/ 164160 w 163800"/>
                <a:gd name="textAreaTop" fmla="*/ 15480 h 593640"/>
                <a:gd name="textAreaBottom" fmla="*/ 57816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48"/>
            <p:cNvSpPr/>
            <p:nvPr/>
          </p:nvSpPr>
          <p:spPr>
            <a:xfrm flipH="1" rot="16200000">
              <a:off x="2766960" y="4395960"/>
              <a:ext cx="163800" cy="1573560"/>
            </a:xfrm>
            <a:custGeom>
              <a:avLst/>
              <a:gdLst>
                <a:gd name="textAreaLeft" fmla="*/ 104760 w 163800"/>
                <a:gd name="textAreaRight" fmla="*/ 164160 w 163800"/>
                <a:gd name="textAreaTop" fmla="*/ 41040 h 1573560"/>
                <a:gd name="textAreaBottom" fmla="*/ 1532520 h 157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49"/>
            <p:cNvSpPr/>
            <p:nvPr/>
          </p:nvSpPr>
          <p:spPr>
            <a:xfrm flipH="1" rot="16200000">
              <a:off x="4935600" y="3801960"/>
              <a:ext cx="163800" cy="2761200"/>
            </a:xfrm>
            <a:custGeom>
              <a:avLst/>
              <a:gdLst>
                <a:gd name="textAreaLeft" fmla="*/ 104760 w 163800"/>
                <a:gd name="textAreaRight" fmla="*/ 164160 w 163800"/>
                <a:gd name="textAreaTop" fmla="*/ 72000 h 2761200"/>
                <a:gd name="textAreaBottom" fmla="*/ 2689200 h 276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0"/>
            <p:cNvSpPr/>
            <p:nvPr/>
          </p:nvSpPr>
          <p:spPr>
            <a:xfrm flipV="1">
              <a:off x="2063160" y="5346720"/>
              <a:ext cx="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51"/>
            <p:cNvSpPr/>
            <p:nvPr/>
          </p:nvSpPr>
          <p:spPr>
            <a:xfrm>
              <a:off x="1528920" y="4800600"/>
              <a:ext cx="5799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 y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2"/>
            <p:cNvSpPr/>
            <p:nvPr/>
          </p:nvSpPr>
          <p:spPr>
            <a:xfrm>
              <a:off x="2656440" y="4800600"/>
              <a:ext cx="5799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y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3"/>
            <p:cNvSpPr/>
            <p:nvPr/>
          </p:nvSpPr>
          <p:spPr>
            <a:xfrm>
              <a:off x="4468320" y="4800600"/>
              <a:ext cx="1365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-S-6 y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LS dat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we have many options for measuring work experience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need not “start the clock” on work experience at age S+6.  We can pick any date as the starting date 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also pick any date as the stopping date 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need not measure experience as “elapsed time.”  Instead, we can count the number of week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tual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orked, the (usual) number of hours worked, etc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960" y="304560"/>
            <a:ext cx="8915400" cy="65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ng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ing on one’s substantive focus, possibilities inclu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Le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be the actual date of school exit (e.g., first exit, last exit, or first exit lasting at least N months)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Le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be the date of college entry and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be the date of college exit; this allows us to measure work experience gained while in college.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Le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be a particular age (e.g., the 18th birthday).  This allows us to measure all respondents’ work experience from a uniform date regardless of their school enrollment behavior.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105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Le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be the job start date and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be the job stop date.  This allows us to measure experience with a particular employer.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43" name="Group 5"/>
          <p:cNvGrpSpPr/>
          <p:nvPr/>
        </p:nvGrpSpPr>
        <p:grpSpPr>
          <a:xfrm>
            <a:off x="1600200" y="2057400"/>
            <a:ext cx="5291280" cy="1452960"/>
            <a:chOff x="1600200" y="2057400"/>
            <a:chExt cx="5291280" cy="1452960"/>
          </a:xfrm>
        </p:grpSpPr>
        <p:sp>
          <p:nvSpPr>
            <p:cNvPr id="244" name="Text Box 6"/>
            <p:cNvSpPr/>
            <p:nvPr/>
          </p:nvSpPr>
          <p:spPr>
            <a:xfrm>
              <a:off x="1600200" y="2958480"/>
              <a:ext cx="5796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r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>
              <a:off x="1918800" y="2583720"/>
              <a:ext cx="497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"/>
            <p:cNvSpPr/>
            <p:nvPr/>
          </p:nvSpPr>
          <p:spPr>
            <a:xfrm flipV="1">
              <a:off x="1688760" y="2603520"/>
              <a:ext cx="24876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9"/>
            <p:cNvSpPr/>
            <p:nvPr/>
          </p:nvSpPr>
          <p:spPr>
            <a:xfrm>
              <a:off x="2222280" y="3012840"/>
              <a:ext cx="12067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gin scho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0"/>
            <p:cNvSpPr/>
            <p:nvPr/>
          </p:nvSpPr>
          <p:spPr>
            <a:xfrm>
              <a:off x="5258160" y="2971800"/>
              <a:ext cx="125712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tual school exit date (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 flipH="1" flipV="1">
              <a:off x="4915080" y="2628720"/>
              <a:ext cx="285840" cy="38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2"/>
            <p:cNvSpPr/>
            <p:nvPr/>
          </p:nvSpPr>
          <p:spPr>
            <a:xfrm flipH="1" rot="16200000">
              <a:off x="3121200" y="1756800"/>
              <a:ext cx="163800" cy="1365120"/>
            </a:xfrm>
            <a:custGeom>
              <a:avLst/>
              <a:gdLst>
                <a:gd name="textAreaLeft" fmla="*/ 104760 w 163800"/>
                <a:gd name="textAreaRight" fmla="*/ 164160 w 163800"/>
                <a:gd name="textAreaTop" fmla="*/ 35280 h 1365120"/>
                <a:gd name="textAreaBottom" fmla="*/ 1329840 h 136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3"/>
            <p:cNvSpPr/>
            <p:nvPr/>
          </p:nvSpPr>
          <p:spPr>
            <a:xfrm flipV="1">
              <a:off x="2520720" y="2603520"/>
              <a:ext cx="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4"/>
            <p:cNvSpPr/>
            <p:nvPr/>
          </p:nvSpPr>
          <p:spPr>
            <a:xfrm>
              <a:off x="2971800" y="2057400"/>
              <a:ext cx="579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y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5"/>
            <p:cNvSpPr/>
            <p:nvPr/>
          </p:nvSpPr>
          <p:spPr>
            <a:xfrm flipH="1" rot="16200000">
              <a:off x="4546440" y="2146680"/>
              <a:ext cx="163800" cy="571320"/>
            </a:xfrm>
            <a:custGeom>
              <a:avLst/>
              <a:gdLst>
                <a:gd name="textAreaLeft" fmla="*/ 104760 w 163800"/>
                <a:gd name="textAreaRight" fmla="*/ 164160 w 163800"/>
                <a:gd name="textAreaTop" fmla="*/ 14760 h 571320"/>
                <a:gd name="textAreaBottom" fmla="*/ 55656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6"/>
            <p:cNvSpPr/>
            <p:nvPr/>
          </p:nvSpPr>
          <p:spPr>
            <a:xfrm>
              <a:off x="4343760" y="2057400"/>
              <a:ext cx="579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y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7"/>
            <p:cNvSpPr/>
            <p:nvPr/>
          </p:nvSpPr>
          <p:spPr>
            <a:xfrm>
              <a:off x="3657600" y="2971800"/>
              <a:ext cx="1028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reak from scho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8"/>
            <p:cNvSpPr/>
            <p:nvPr/>
          </p:nvSpPr>
          <p:spPr>
            <a:xfrm flipV="1">
              <a:off x="4000680" y="2628720"/>
              <a:ext cx="1141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868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ng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ontinue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 In general, it is unwise to defin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the date the work history beg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/1/78 in the NLSY79, 1/1/94 in the NLSY97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dents are different ages at this d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 14-21 in NLSY79, 10-14 in NLSY97.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547560" indent="-27288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nger Rs may appear to have more cumulative experience than older Rs if we “start their clock” at an earlier date.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547560" indent="-27288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’ work experiences are not identified until they reach a given age (14-18 in the NLSY79, 14 in the NLSY97).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547560" indent="0">
              <a:lnSpc>
                <a:spcPct val="105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763120" cy="49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ng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nit of measur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ways to measure experience betwee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umulative number of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year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or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month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(or 4-week intervals)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or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week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n which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any experience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was gained.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umulative number of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years/months/week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                in which the individual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worked full-time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(e.g., usual hours</a:t>
            </a: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35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umulative number of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(usual) hours worked.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76312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86800" cy="59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5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XPER1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cumulative weeks between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whic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y experi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 gained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FS1-LFS1409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variables containing elements of the array STATUS_WK_NUMxxx for weeks 1 (1/1/78) through 1531 (4/29/06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he start and stop weeks between which we wish to measure work experience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rray status (1531) LFS1-LFS1531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XPER1=0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do k=T1 to T2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3" marL="158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f status(k)&gt;7 then EXPER1=EXPER1+1;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XPER1=EXPER1/52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this strategy counts military service and “unknown” weeks as 0.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42640"/>
            <a:ext cx="899172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NLSY79 &amp; NLSY97 Weekly Array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2280" y="1066680"/>
          <a:ext cx="8763120" cy="2819520"/>
        </p:xfrm>
        <a:graphic>
          <a:graphicData uri="http://schemas.openxmlformats.org/drawingml/2006/table">
            <a:tbl>
              <a:tblPr/>
              <a:tblGrid>
                <a:gridCol w="2362320"/>
                <a:gridCol w="3373560"/>
                <a:gridCol w="302724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NLSY79 Q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NLSY97 QNa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abor force statu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STATUS_WK_NUMxx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STATUS.year.w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ours worked per wee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HOURS_WORKED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WK_NUMxx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HOURS.year.w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ual job statu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JOB_WK_NUMxxxx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DUALJOB_NUM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DUAL_x_year.w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105"/>
          <p:cNvSpPr/>
          <p:nvPr/>
        </p:nvSpPr>
        <p:spPr>
          <a:xfrm>
            <a:off x="152280" y="4123440"/>
            <a:ext cx="89154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rray contains one variable per wee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LSY79:  Week 1 is January 1-7, 19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s followed from age 15-18, depending on birth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LSY97:  1</a:t>
            </a:r>
            <a:r>
              <a:rPr b="1" lang="en-US" sz="2400" spc="-1" strike="noStrike" baseline="30000">
                <a:solidFill>
                  <a:srgbClr val="8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week is 1994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Rs followed from age 1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XPER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mulative hou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orked between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RS1-HRS140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variables containing elements of the array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OURS_WORKED_WK_NUMxxx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weeks 1 (1/1/78) to 1531 (4/29/0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he start and stop wee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rray hrs (1531) HRS1-HRS1531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XPER2=0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do k=T1 to T2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3" marL="158400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f hrs(k)&gt;0 then EXPER2=EXPER2+HRS(k);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XPER2=EXPER2/2000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35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this strategy counts “unknown” weeks as HRS=0.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56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JO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 if a job is held at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JO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0 otherwi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 contrast to the preceding examples, this is not a measure of cumulative experienc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ART1-START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STOP1-STOP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user-created variables representing the start and stop dates of every job hel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ake the example concrete, assume X=42 (i.e., 42 is the maximum number of jobs reported by any R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date of interest (e.g., a given ag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rray STARTS (42) START1-START42;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rray STOPS (42) STOP1-STOP42;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JOB=0;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f T1&gt;0 then do k=1 to 42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3" marL="158400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f STARTS&lt;=T1&lt;=STOPS then JOB=1;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3, continu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9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the week of the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irth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JO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NLSY79 mothers &amp; their YA daugh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447920" y="2362320"/>
          <a:ext cx="5790960" cy="3690720"/>
        </p:xfrm>
        <a:graphic>
          <a:graphicData uri="http://schemas.openxmlformats.org/drawingml/2006/table">
            <a:tbl>
              <a:tblPr/>
              <a:tblGrid>
                <a:gridCol w="2106360"/>
                <a:gridCol w="1263960"/>
                <a:gridCol w="1263600"/>
                <a:gridCol w="1157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her holds job at age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1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8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8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447920" y="1523880"/>
          <a:ext cx="5790960" cy="878040"/>
        </p:xfrm>
        <a:graphic>
          <a:graphicData uri="http://schemas.openxmlformats.org/drawingml/2006/table">
            <a:tbl>
              <a:tblPr/>
              <a:tblGrid>
                <a:gridCol w="5790960"/>
              </a:tblGrid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ughter holds j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age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B. Cumulative Number of Jobs He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may wish to measur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ulative number of job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g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tween any two points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, from school exit to the interview date)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ulative number of job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tween any two points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ulative number of job-to-job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nsi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tween any two points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7631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510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JOBBEG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# of job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g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tween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JOBEND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# of job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tween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ART1-START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TOP1-STOP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user-created variables representing the start and stop dates of every job held;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EN1-CEN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user-created variables equal to 1 if the job is right-censored, and 0 otherwi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ake the example concrete, assum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x=4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i.e., 42 is the maximum number of jobs reported by any respond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he start and stop weeks between which we will obtain our job coun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7631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4, continu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38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rray STARTS (42) START1-START42;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rray STOPS (42) STOP1-STOP42;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rray CENS (42)  CEN1-CEN42;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JOBBEG=0;     JOBEND=0; 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do k=1 to 42;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f  T1&lt;=STARTS(k)&lt;=T2 then  JOBBEG=JOBBEG+1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f (T1&lt;=STOPS(k)&lt;=T2 and CENS=0) then JOBEND=JOBEND+1;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nd;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Other Employment Variables (NLSY79 &amp; NLSY97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143000"/>
          <a:ext cx="8534520" cy="5410080"/>
        </p:xfrm>
        <a:graphic>
          <a:graphicData uri="http://schemas.openxmlformats.org/drawingml/2006/table">
            <a:tbl>
              <a:tblPr/>
              <a:tblGrid>
                <a:gridCol w="2201760"/>
                <a:gridCol w="2522520"/>
                <a:gridCol w="38102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NLSY79 Q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NLSY97 Q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tart date (jo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START_WK#_ye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_JOB#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START_WEEK_syr.job# EMP_START_YEAR_syr.job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top date (jo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STOP_WK#_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_JOB#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END_WEEK_syr.job# EMP_END_YEAR_syr.job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tart date (within-job ga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PER#_START_ye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         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_JOB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GAP_START_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_syr.job.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GAP_START_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_syr.job.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top date (within-job ga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PER#_STOP_ye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_JOB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GAP_END_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_syr.job.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EMP_GAP_END_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바탕"/>
                        </a:rPr>
                        <a:t>_syr.job.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06200"/>
            <a:ext cx="87631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Other Employment Variables (NLSY7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280" y="990720"/>
          <a:ext cx="8686800" cy="4846680"/>
        </p:xfrm>
        <a:graphic>
          <a:graphicData uri="http://schemas.openxmlformats.org/drawingml/2006/table">
            <a:tbl>
              <a:tblPr/>
              <a:tblGrid>
                <a:gridCol w="4027680"/>
                <a:gridCol w="1104840"/>
                <a:gridCol w="355428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rvey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NLSY79 Q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t date   (period not working between job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BSTART_year_PERIOD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p date   (period not working between job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BSTOP_year_PERIOD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t date   (military servi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MIL_START#_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p date   (military servi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MIL_STOP#_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ek of the current interview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CURRINT__WK#_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ek of the last interview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LASTINT__WK#_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b number assigned to employer from last interview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PREV_EMP#_year_JOB#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7631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Other Employment Variables (NLSY9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8600" y="1066680"/>
          <a:ext cx="8686800" cy="5059440"/>
        </p:xfrm>
        <a:graphic>
          <a:graphicData uri="http://schemas.openxmlformats.org/drawingml/2006/table">
            <a:tbl>
              <a:tblPr/>
              <a:tblGrid>
                <a:gridCol w="4489560"/>
                <a:gridCol w="1073160"/>
                <a:gridCol w="31240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rvey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NLSY97 Q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weeks prior to DLI in which the 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MP_STATUS.year.wk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variable would have changed had this job been included in the last intervie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MP_BK_STATUS_sy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weeks prior to DLI that job bega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MP_BK_WKS_sy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hours prior to DLI that would have been included in the </a:t>
                      </a: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MP_HOURS.year.wk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array had this job been included in the last intervie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MP_BK_HOURS_sy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art II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ine Selected Work History Variables for one NLSY79 Respond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Respond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349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ill follow a single NLSY79 respondent  (CASEID=15) from 1990 to 1993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xamples show how selected work history variables convey this respondent’s employment activit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22:57:23Z</dcterms:created>
  <dc:creator>Rini Das</dc:creator>
  <dc:description/>
  <dc:language>en-US</dc:language>
  <cp:lastModifiedBy>audrey light</cp:lastModifiedBy>
  <dcterms:modified xsi:type="dcterms:W3CDTF">2009-07-10T19:15:41Z</dcterms:modified>
  <cp:revision>69</cp:revision>
  <dc:subject/>
  <dc:title>Overview of Employment-Related Event History Variables in the NLSY79 and NLSY97 </dc:title>
</cp:coreProperties>
</file>