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CBF-2F59-41B5-8D7F-F7BCAB81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702-590E-4801-B4AC-5BA94075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47E-2E66-4442-A8F8-1936B24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2B6-3AF2-4293-BDA8-B175EBD0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5B5-1EA5-47FF-9ECD-D6E67A8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68F-81DF-42D7-B32B-97FD87B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9F1-6291-46B3-B778-8C10FDD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DAD-590B-4E69-BCE5-19AEFC64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D9E-A5C0-4CE2-A278-55AB0D9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712-8037-4467-B432-A31A074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66B-0D4E-4C0F-BA1E-F885655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7EB-7513-432E-BC01-B100E54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607-37F7-4092-8485-292675897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oung Adult Surve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the Children of the NLSY79 Mothers into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5920" y="1968480"/>
          <a:ext cx="8370720" cy="29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968480"/>
                    <a:ext cx="837072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5920" y="1047600"/>
          <a:ext cx="837072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047600"/>
                    <a:ext cx="837072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tables show y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Mothers, Children and Young Adults interviewed through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survey points available for all YA respondents across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sample sizes for pooled 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about YA respondents interviewed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619200"/>
          <a:ext cx="818532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19200"/>
                    <a:ext cx="81853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01600" y="1003320"/>
          <a:ext cx="873936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003320"/>
                    <a:ext cx="87393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11440" y="0"/>
          <a:ext cx="57196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0"/>
                    <a:ext cx="5719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44560" y="2079720"/>
          <a:ext cx="5654880" cy="26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2079720"/>
                    <a:ext cx="565488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003400" y="0"/>
          <a:ext cx="5137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3400" y="0"/>
                    <a:ext cx="51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68400" y="0"/>
          <a:ext cx="5405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44560" y="625320"/>
          <a:ext cx="5654880" cy="56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625320"/>
                    <a:ext cx="565488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3:01:50Z</dcterms:created>
  <dc:creator>NLSUser</dc:creator>
  <dc:description/>
  <dc:language>en-US</dc:language>
  <cp:lastModifiedBy>keck</cp:lastModifiedBy>
  <dcterms:modified xsi:type="dcterms:W3CDTF">2009-07-12T23:07:44Z</dcterms:modified>
  <cp:revision>65</cp:revision>
  <dc:subject/>
  <dc:title>The Young Adult Survey:</dc:title>
</cp:coreProperties>
</file>