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F07-5B92-4D62-88B0-F2043243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5FC-C15D-41C8-AF91-E4B5BC6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AC2-C1A8-4B2C-83AB-A4106102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B7F-6457-4F63-8B53-D5569600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715-7A9C-4489-BF40-AB106A1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CF4-CBAB-4C11-B566-951F4AA3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DAF-9992-4768-B3CE-A6EB7C33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243-299D-4F8C-AD75-A259F7C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E24-FFD6-4E55-B4C4-E4DA8E69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E51-6B59-4424-9448-B58E0F6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AD6-DB80-44B5-B980-D73772C4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E67-4C93-4FEE-9B3E-F9C2909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AAB-54D0-4087-A113-A8977CC09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257800" y="6172200"/>
            <a:ext cx="350532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2160" y="911880"/>
            <a:ext cx="4457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ck Pier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C/Harris School Univ 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LSY Workshop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79120" y="1919160"/>
            <a:ext cx="681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line of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and Frami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5 minut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, Who, How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60 minut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emaining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720" y="2102040"/>
            <a:ext cx="80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and Fr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ehold Composition {Definition; this session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s househ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umber of adults and childr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R’s immedi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 living wit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and characteristic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usehold 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73720" y="1370520"/>
            <a:ext cx="743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LSY97 Respondents (by Round 10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 lived in Four Canonical Lif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youth in famil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cately independent, living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ly partnered, cohabiting or 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 role: Life-partnered and as a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6120" y="375480"/>
            <a:ext cx="8791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ght Stages of an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/ Problem / Iss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, objective of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y / Idea / The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way to address th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re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already known, been expl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ro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evi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ata, measures, statis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work,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tion of evi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it tell you re theory &amp;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 evidence to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b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strong, robust, relev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progress is replicable and incre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is best done with integrity, diligence, thoughtfulness hum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3:45:51Z</dcterms:created>
  <dc:creator>black-dan</dc:creator>
  <dc:description/>
  <dc:language>en-US</dc:language>
  <cp:lastModifiedBy>michael-robert</cp:lastModifiedBy>
  <dcterms:modified xsi:type="dcterms:W3CDTF">2009-07-10T20:33:16Z</dcterms:modified>
  <cp:revision>10</cp:revision>
  <dc:subject/>
  <dc:title>Transfer Program in the 1997 Cohort of the NLSY</dc:title>
</cp:coreProperties>
</file>