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3E794B-204E-40F1-B7BE-B13116623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93840" y="298440"/>
            <a:ext cx="4378320" cy="3282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3657600"/>
            <a:ext cx="5638680" cy="502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38088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3962520"/>
            <a:ext cx="5607000" cy="463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95280" y="457200"/>
            <a:ext cx="4351320" cy="3263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1280" y="4027320"/>
            <a:ext cx="5607000" cy="5050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3809880"/>
            <a:ext cx="609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30200" y="0"/>
            <a:ext cx="4335480" cy="32511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640" y="3327480"/>
            <a:ext cx="5919840" cy="5362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600200" y="228600"/>
            <a:ext cx="3611520" cy="2708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533520" y="3048120"/>
            <a:ext cx="6154560" cy="5432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486080" y="376200"/>
            <a:ext cx="4038480" cy="30290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23520" y="3560760"/>
            <a:ext cx="5607000" cy="5438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784520" y="152280"/>
            <a:ext cx="3149280" cy="23623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533520" y="2666520"/>
            <a:ext cx="6232320" cy="6172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2860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4572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267080"/>
            <a:ext cx="5607000" cy="433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928880" y="376200"/>
            <a:ext cx="3054240" cy="22906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544320" y="2743200"/>
            <a:ext cx="5841720" cy="6324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959120" y="457200"/>
            <a:ext cx="3149280" cy="23623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1280" y="2971800"/>
            <a:ext cx="6080040" cy="6019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59000" y="304920"/>
            <a:ext cx="4368600" cy="3276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1280" y="3657240"/>
            <a:ext cx="5607000" cy="4941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620720" y="220680"/>
            <a:ext cx="3463920" cy="2598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09480" y="2895120"/>
            <a:ext cx="5943600" cy="5867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90600" y="220680"/>
            <a:ext cx="4349880" cy="3262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1280" y="3638520"/>
            <a:ext cx="5684760" cy="5438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709640" y="29844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640" y="2971440"/>
            <a:ext cx="5851440" cy="563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09680" y="37620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640" y="3733560"/>
            <a:ext cx="5764320" cy="5265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625760" y="380880"/>
            <a:ext cx="3149280" cy="2362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1640" y="2895480"/>
            <a:ext cx="5927760" cy="5703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78000" y="696960"/>
            <a:ext cx="4454640" cy="33415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1640" y="4190760"/>
            <a:ext cx="5851440" cy="4647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919160" y="0"/>
            <a:ext cx="3306960" cy="2479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66200" y="2555640"/>
            <a:ext cx="6232680" cy="6365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2860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8723-ECB8-4E2B-9056-0FDA83A3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7905-ACB5-4A06-A97B-312AD084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CE5-26A4-4BC3-85F2-D5926B8C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C36-EDD1-4BA8-B8DA-75B4F297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3E9A-A1AF-45F4-92E1-6FFCA06A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5B8B-E356-49A1-8091-D1AF4EC2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2030-9506-4603-9D78-D0E2848D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5D12-1E2F-4FBF-9209-B6D364B6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9829-12AE-4A97-8721-AA9C1C78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4CCA-84CA-4FE8-AEF3-1C09930A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2BD0-DD5C-4E63-9C55-A032495A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DED-D648-459B-8856-FA83B368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B9B0-0A49-47D1-9F2F-0202D13A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57DC-DDAF-4CB7-A274-53AA26BA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8C75-5DD9-4B0E-AABE-E21DC98E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FBA1-4584-49E8-B490-5657E4BC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8169-F3D9-4D91-902D-33618234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916B0-9FF6-4764-B855-9FF3622B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D7EF6-C860-4488-9312-20A58A5D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198EE-CFD5-4C3A-AA18-03000EF3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50F38-46C3-4E94-ABF4-82A08315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A76A3-8D76-4342-AA74-773B40C4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5AD-292E-41EF-8530-C365AF42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F805E-150D-46C4-BC1C-B5C0AE19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EDA6B-CE51-49ED-8636-D1E0A537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D424F-59E7-4A61-B955-3954B847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4EA5D-A34E-4CB9-B944-F5E4845C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5067E-5437-4C98-BABC-DEDCBD67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92DD6-0D93-4869-B876-1DCDED2F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F9E89-BF28-43DA-AFFD-6D2D3F6B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A54-A731-40A0-A0D2-960B7558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EEFE-76C9-4673-B657-FA73910B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46FE-A28A-41DE-A341-8BBF05EB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B2A-541B-4E8A-AB7E-7B1DF885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421E-DDE7-4311-BA16-C54EA900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F62-4EA7-4302-848D-789E1426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E495-D1A0-48FD-A031-24C262601D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FA6E-8F62-4766-899E-151B507477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C356-4AB4-48C6-BE63-3DA268377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nlsinfo.org/childya/nlsdocs/tutorials/linking_mothers_and_children/linking_mothers_and_children_tutorial.html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nlsinfo.org/childya/nlsdocs/guide/ChildYA2006UsersGuide.pdf" TargetMode="Externa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nlsinfo.org/childya/nlsdocs/tableofcontents.htm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nlsbibliography.org/" TargetMode="External"/><Relationship Id="rId2" Type="http://schemas.openxmlformats.org/officeDocument/2006/relationships/hyperlink" Target="http://www.nlsbibliography.org/" TargetMode="External"/><Relationship Id="rId3" Type="http://schemas.openxmlformats.org/officeDocument/2006/relationships/hyperlink" Target="http://www.nlsbibliography.org/" TargetMode="External"/><Relationship Id="rId4" Type="http://schemas.openxmlformats.org/officeDocument/2006/relationships/hyperlink" Target="http://www.nlsinfo.org/childya/nlsdocs/tableofcontents.html" TargetMode="External"/><Relationship Id="rId5" Type="http://schemas.openxmlformats.org/officeDocument/2006/relationships/hyperlink" Target="http://www.nlsinfo.org/childya/nlsdocs/tableofcontents.html" TargetMode="External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nlsinfo.org/investigator/pages/weights.jsp?c=childya" TargetMode="External"/><Relationship Id="rId2" Type="http://schemas.openxmlformats.org/officeDocument/2006/relationships/hyperlink" Target="ftp://www.nlsinfo.org/pub/usersvc/CustomWeight/CustomWeightingProgramDocumentation.htm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Children of the NLSY79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14400" y="34290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LSY79 Young Adult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ula B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RR at The Ohi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ul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LSY79 Child &amp; Mother Sampl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46120" y="1523880"/>
          <a:ext cx="8343720" cy="426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3437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26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ome NLSY79 14 Year-Olds are Children; </a:t>
            </a:r>
            <a:br>
              <a:rPr sz="3300"/>
            </a:b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ome aren’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 effects: Comparable Qs in Child &amp; YA for        14 year o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9880" y="1008000"/>
          <a:ext cx="5058000" cy="65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008000"/>
                    <a:ext cx="5058000" cy="65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ung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ults are NLSY79 Children –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nly old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As have an assessment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As have a “child data”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As are represented in constructed variables from mother’s 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  Household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nal work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child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hild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 vs      Young Adul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8620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ed every two years while age 0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face to 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3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le if living in HH of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23920" y="1599840"/>
            <a:ext cx="3884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ed only while under age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eliance on phone 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questionnaire after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le regardless of res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eat Child Interviews: All ki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00280" y="1563840"/>
          <a:ext cx="7000560" cy="47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1563840"/>
                    <a:ext cx="700056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eat Interviews: Children 0-1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62120" y="1471680"/>
          <a:ext cx="7267320" cy="470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71680"/>
                    <a:ext cx="7267320" cy="47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ooling Samp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600200" y="1305000"/>
          <a:ext cx="529596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05000"/>
                    <a:ext cx="52959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LSY79 Assess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ssess key aspects of physical, cognitive, social and emot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assess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ed sc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indicators of child wellbeing – some scaled, some individual i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odes of assessment data coll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viewer-administrated (in Child Supple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her report (in Mother Supple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viewer observation including testing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gnitive: Interviewer-administered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9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30000"/>
              </a:lnSpc>
              <a:spcBef>
                <a:spcPts val="2475"/>
              </a:spcBef>
              <a:spcAft>
                <a:spcPts val="550"/>
              </a:spcAft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chsler Digit Span: Digits Forward/Back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30000"/>
              </a:lnSpc>
              <a:spcBef>
                <a:spcPts val="2200"/>
              </a:spcBef>
              <a:spcAft>
                <a:spcPts val="550"/>
              </a:spcAft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cCarthy Verbal Memory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30000"/>
              </a:lnSpc>
              <a:spcBef>
                <a:spcPts val="2200"/>
              </a:spcBef>
              <a:spcAft>
                <a:spcPts val="550"/>
              </a:spcAft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ory for Lo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9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hievement/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30000"/>
              </a:lnSpc>
              <a:spcBef>
                <a:spcPts val="2475"/>
              </a:spcBef>
              <a:spcAft>
                <a:spcPts val="550"/>
              </a:spcAft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abody Individual Assessment Test (PIAT) M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30000"/>
              </a:lnSpc>
              <a:spcBef>
                <a:spcPts val="2475"/>
              </a:spcBef>
              <a:spcAft>
                <a:spcPts val="550"/>
              </a:spcAft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AT Reading Recognition &amp; Comprehe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9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30000"/>
              </a:lnSpc>
              <a:spcBef>
                <a:spcPts val="1925"/>
              </a:spcBef>
              <a:spcAft>
                <a:spcPts val="550"/>
              </a:spcAft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PVT-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30000"/>
              </a:lnSpc>
              <a:spcBef>
                <a:spcPts val="1925"/>
              </a:spcBef>
              <a:spcAft>
                <a:spcPts val="550"/>
              </a:spcAft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dy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spcBef>
                <a:spcPts val="28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ocioemotional &amp; Behavioral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tor &amp; Social Develop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MSD) – from NH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mpera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What My Child is Like) – from Rothbart, Campos, and Kag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lf-Perception Profile for Childr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SPPC) – Harter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ehavior Problems Inde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(BP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62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ncidence &amp; severity of behavior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62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measure &amp; sub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hild moods; Risk aversion; Shyness;    Psych refer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NLSY79 main Yout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62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979 – Round 1; currently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23</a:t>
            </a:r>
            <a:r>
              <a:rPr b="0" lang="en-US" sz="25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roun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30 year sp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riginal sample: 12,686 men &amp; women age 14 - 2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versamples of Black &amp; Hispanic, low income whi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llowed annually through 1994; then biennial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mployment, education &amp; training primary foc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dded topics: fertility, health, attitudes, crime, HH composition, marriage &amp; cohabitation, mobil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986 – Started assessment of children of m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HOME-Shor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er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60000"/>
              </a:lnSpc>
              <a:spcBef>
                <a:spcPts val="17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otional and verbal respons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60000"/>
              </a:lnSpc>
              <a:spcBef>
                <a:spcPts val="17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nal accep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60000"/>
              </a:lnSpc>
              <a:spcBef>
                <a:spcPts val="17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ment with chi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60000"/>
              </a:lnSpc>
              <a:spcBef>
                <a:spcPts val="17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 of the enviro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60000"/>
              </a:lnSpc>
              <a:spcBef>
                <a:spcPts val="17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ce of materials for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60000"/>
              </a:lnSpc>
              <a:spcBef>
                <a:spcPts val="17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ety of st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Sc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70000"/>
              </a:lnSpc>
              <a:spcBef>
                <a:spcPts val="174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(imputation for mis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70000"/>
              </a:lnSpc>
              <a:spcBef>
                <a:spcPts val="174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otion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70000"/>
              </a:lnSpc>
              <a:spcBef>
                <a:spcPts val="174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gnitive St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2362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attern of Assessment Administr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1371600"/>
          <a:ext cx="8001000" cy="53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800100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Assessment Sco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8960" y="144756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s of scores are availab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50000"/>
              </a:lnSpc>
              <a:spcBef>
                <a:spcPts val="20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scores for each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ables &amp; appendices in users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4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they comput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50000"/>
              </a:lnSpc>
              <a:spcBef>
                <a:spcPts val="20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 in users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4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tation for missing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50000"/>
              </a:lnSpc>
              <a:spcBef>
                <a:spcPts val="20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, BPI, SP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4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ssessments are norm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50000"/>
              </a:lnSpc>
              <a:spcBef>
                <a:spcPts val="20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ormed scores for Temperament or SP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20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&amp; standardized scores for Digit Span (no pct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rms – Std vs %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spcAft>
                <a:spcPts val="751"/>
              </a:spcAft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scor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ed vs Percentile vs R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76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-interval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76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most common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76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compared across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76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arithmetically manipul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ile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76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inal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76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intu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76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tion against using to manipulate scores by differencing or taking an average to represent growth or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sponse for Interviewed Childre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07960" y="1333440"/>
          <a:ext cx="8699400" cy="497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333440"/>
                    <a:ext cx="869940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Young Adult assessment his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47712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Key points about Child assess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28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ll kids get all assessments - Administration pattern varies across years even for same assess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8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data “recouped” at later 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8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completion rates generally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8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ng data – differentiate valid, invalid, noninterviews by using child age &amp; interview status variables or child sampling we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amily Structure - HH Composi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nal Household compos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&amp; gender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ce of extended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si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ce of spouse/cohabiting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sed into child-specific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or children of mothers intervi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solidFill>
            <a:srgbClr val="6666ff">
              <a:alpha val="9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nal HH Composition: X-sectional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1532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-----------------------------------------------------------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# Members/Adults  in the HH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HH MEMBERS IN HOUSEHOLD OF MOTHER   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HHMEM200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ADULTS (AGE 18 +) IN HOUSEHOLD OF MOTHER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HADLT200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FEMALE ADULTS (AGE 18+) IN HOUSEHOLD OF MOTHER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HFADT200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ADULTS (AGE 18+) IN HH OF MOTHER WHO WORKED FULL TIME OR PT-TIME IN LAST YEAR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HADWK200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FEMALE ADULTS (AGE 18+) HH OF MOTHER WHO WORKED FULL TIME OR PT-TIME LAST YEAR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FADWK200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ducation level of HH member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ADULTS IN HH OF MOTHER WITH HIGHEST GRADE COMPLETED LESS THAN 12 YEARS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HGC0200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ADULTS IN HH OF MOTHER WITH HIGHEST GRADE COMPLETED = 12 - 13 YEARS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HGC12006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ADULTS IN HH OF MOTHER WITH HIGHEST GRADE COMPLETED = 14 - 15 YEARS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HGC22006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ADULTS IN HH OF MOTHER WITH HIGHEST GRADE COMPLETED = 16 YEARS OR MORE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HGC32006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ge distribution of HH member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HOUSEHOLD MEMBERS UNDER 18 IN HOUSEHOLD OF MOTHER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HCHLD2006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HOUSEHOLD MEMBERS AGED 0 - 2 IN HOUSEHOLD OF MOTHER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H0_22006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HOUSEHOLD MEMBERS AGED 3 - 5 IN HOUSEHOLD OF MOTHER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H3_52006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HOUSEHOLD MEMBERS AGED 6 - 11 IN HOUSEHOLD OF MOTHER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H6_112006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HOUSEHOLD MEMBERS AGED 12 - 17 IN HOUSEHOLD OF MOTHER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H12_172006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E OF YOUNGEST MEMBER UNDER 18 IN HOUSEHOLD OF MOTHER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HYST200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FEMALE HH MEMBERS UNDER 18 IN HOUSEHOLD OF MOTHER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HFCHD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FAMILY MEMBERS IN HOUSEHOLD OF MOTHER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FAMEM2006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ADULT FAMILY MEMBERS IN HOUSEHOLD OF MOTHER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DFMM2006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E OF YOUNGEST FAMILY MEMBER IN HOUSEHOLD OF MOTHER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FAMY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26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ildren/Spouse/Partner/Grandparents/Sibs in the HH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CHILDREN OF MOTHER IN HOUSEHOLD OF MOTHER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RSKID2006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E OF YOUNGEST CHILD OF MOTHER IN HOUSEHOLD OF MOTHER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RYST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SPOUSE OF MOTHER PRESENT IN HOUSEHOLD OF MOTHER?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OUSE2006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E OF SPOUSE OF MOTHER IN HOUSEHOLD OF MOTHER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ESPS2006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EST GRADE COMPLETED BY SPOUSE IN HOUSEHOLD OF MOTHER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GCSPS2006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PARTNER OF MOTHER PRESENT IN HOUSEHOLD OF MOTHER?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TNR2006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E OF PARTNER OF MOTHER IN HOUSEHOLD OF MOTHER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EPTR2006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EST GRADE COMPLETED BY PARTNER IN HOUSEHOLD OF MOTHER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GCPTR2006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MOTHER/STEP/GRANDMOTHER OF MOTHER PRESENT IN HOUSEHOLD OF MOTHER?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MHH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FATHER/STEP/GRANDFATHER OF MOTHER PRESENT IN HOUSEHOLD OF MOTHER?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DHH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BIOLOGICAL SIBLINGS OF MOTHER IN HOUSEHOL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BISIB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Structure – Child residence &amp; Father Cont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child-specific reports in mother’s intervi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FERTILITY section of mother int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 BIRTH RECORD area of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ce &amp; father contact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pa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reports of children or spouse/partner in the HH ro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posed to child-specific variables – reside in Child database for younger childr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ng Ad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verview of  the  Child  Surve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ildren born to NLSY79 mot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e-to-face interviews every 2 ye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 range from birth - 30’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ild assessment sample capped at age 14 starting in 199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ge sub-sam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 range of indica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cohort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amily Functioning - Paren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nting Items in the NLSY79 Child (starting 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agement in Parent-Child Activiti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hild rating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ly &amp; Monthly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Ratings of Parental Time/Involve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hild r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 activities that are import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Parent-Child Discuss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hild r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 over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n to children in 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discuss th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Parental Monitoring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s knowledge of where children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hild rating &amp; Mother r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Emotional Relationship with Parents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ings of closeness to parent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hild rating &amp; Mother rat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26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arly Childcare &amp; Maternal Employm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ld care in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 Years of Life – in Child dat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nal Work History f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mother’s work history timeline (“weekly array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rray contains one variable p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characteristics aggregated into 13-week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er data transposed and attached to child’s life timeline through ag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바탕"/>
              </a:rPr>
              <a:t>Mothe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ual weeks worked by mother at main job, 13 weeks before birth of 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 Narrow"/>
                <a:ea typeface="바탕"/>
              </a:rPr>
              <a:t>C</a:t>
            </a:r>
            <a:r>
              <a:rPr b="1" lang="en-US" sz="1600" spc="-1" strike="noStrike">
                <a:solidFill>
                  <a:srgbClr val="ff00ff"/>
                </a:solidFill>
                <a:latin typeface="Arial"/>
                <a:ea typeface="바탕"/>
              </a:rPr>
              <a:t>hil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al weeks worked by mother at main job, 1st qtr before birth of  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ead Start and Preschoo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d Start &amp; preschool - Child Interview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 first attend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ngth of time atte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her rating of satisfaction with Head Start progra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d Start – Mother’s main Youth interview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88 mothers – attended Head Start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94 respondents - attended Head Star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239400" y="273240"/>
            <a:ext cx="79261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search linking early childhood with Young Adult outcom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ing (2009) Long-term benefits of Head Start – impact of program participation on summary index of young adult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hildren in families with at least 2 eligible for Head Start (36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her inpu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main Youth file: AFQT, Total Net Family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ld inpu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PVT scores at age 3 &amp; intermediate factor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scores at age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dis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ng Adult outc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school graduation; College att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ness; 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en paren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39400" y="273240"/>
            <a:ext cx="79261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ming (2009) cont’d - Analy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-family differences mode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s sibs with differing program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stimates model w/ family specific wg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-benefit analysis comparing Head Start with other model pr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future wage gains using NLSY79 main Youth data w/ age 19 outc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detailed programs, variable listings and source code for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eming (2009) Variable appendix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012000 InSchool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012100 YrInSchool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014300 DropOut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015000 Repeat_YA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015500 HighGrade_Att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015600 HighGrade_Compl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211300 YA_Educ1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254200 InSchool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254300 YrInSchool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256700 DropOut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257400 Repeat_YA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257900 HighGrade_Att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258000 HighGrade_Compl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487900 InSchool1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488000 YrInSchool1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490400 DropOut1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491100 Repeat_YA1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491600 HighGrade_Att1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491700 HighGrade_Compl1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672700 YA_Age1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1676520"/>
            <a:ext cx="31240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0301500 HealthLim_YA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0301700 Health_Report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0605100 HealthLim_YA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0605300 Health_Report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0897900 HealthLim_YA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0898100 Health_Report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147500 HealthLim_YA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147800 Health_Report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381900 HealthLim_YA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382200 Health_Report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632300 HealthLim_YA1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632600 Health_Report1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629300 Asth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632700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632800 V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632900 Exerc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633000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me Y1633100 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name Y1211000 YA_NumK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name Y1456200 Homeless1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name Y1463100 Religion1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60720" y="2077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ther – Child/YA ID Struc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ther Case I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ild/YAdult ID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00001.00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00001.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68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12686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2-digit extension generally = birth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2666880"/>
            <a:ext cx="2438640" cy="76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52480" y="2743200"/>
            <a:ext cx="243864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2819520"/>
            <a:ext cx="251460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51814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39400" y="273240"/>
            <a:ext cx="81738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ttaching Mother info to Child/YA record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’S 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CHILD/YA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= mot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Unit = child or young ad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’s TNFI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itude (AFQT scor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b of Child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b of Child 01 &amp; 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www.nlsinfo.org/childya/nlsdocs/tutorials/linking_mothers_and_children/linking_mothers_and_children_tutori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24382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29718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320040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3581280"/>
            <a:ext cx="106704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ild Schooling in the NLSY79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ollment status; Current 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type; number of schools att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repetition; Problems at school; weap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evaluation of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rating b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ot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work &amp; computer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activities &amp; volunt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room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info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pendix H. NLSY79 Children: Survey Content 1986-20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www.nlsinfo.org/childya/nlsdocs/guide/ChildYA2006UsersGuide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ild School Survey &amp; School Na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848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hool survey data collected for schools attended 1993-199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characterist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ua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ition of student body &amp;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invol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’s schooling experi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ademic performance/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 activities &amp; special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scores from school transcrip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 names for children and young ad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ed in mother’s main Youth quex 1994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y confidential; linkable with school &amp; district data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ata Elements in the NLSY79 Chil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gnitiv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, social, and emotion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 and family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functioning, relationships, tran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&amp; prenatal/postnatal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teen and teen behaviors &amp; attitudes; peer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ing &amp; p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 adult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-specific information &amp; his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ow to find Child school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ther Supplement 1998: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CHOOL &amp; FAMILY BACKGRO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AS CHILD IN SPECIAL EDUCATION PROGRAM IN PAS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ld Supplement 2000-2004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her Supplement 2006-200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HILD BACKGROUND: WAS CHILD IN SPECIAL EDUCATION PROGRAM IN PAS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ld School Surv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CHOOLING #1: ENROLLMENT STATUS IN SPECIAL EDUCATION  1994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CHOOLING #1: ENROLLMENT STATUS IN SPECIAL ED 1993-1994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CHOOLING #2: ENROLLMENT STATUS IN SPECIAL EDUCATION 1994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CHOOLING #2: ENROLLMENT STATUS IN SPECIAL ED 1993-1994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hild Health Data in the 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Mother’s main Youth interview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th inf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thweight;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ation/pregnancy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 stay at bi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/postnatal c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visits for illness/injury in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ear; type of ill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’s pregnancy health behavi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at firs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ell c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i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 feeding &amp; immu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lth insur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care covered by employer or private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care covered by Medicai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atrist/psychologist/counselor visit covered by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133720"/>
            <a:ext cx="8381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ild Health – Child interview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010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her repo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ight &amp;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ye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check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dents &amp; inju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nesses &amp; hospit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ing health cond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ses (age at on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rating of child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ld repo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ance use (10 yrs 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thma series started in 2006 – Mom, Child, 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eight &amp; Weight – Moms, Kids, Y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3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eight &amp; Weight for Mom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:  1981, 1982, 1985, 1986, 1988-1990, 1992-200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ight:   1981, 1982, 19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ight &amp; Weight for Kids &amp; Y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9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ildren: 1986-2008 (report &amp; measure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9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oung Adults: 1994-2008 (self-repor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0000"/>
              </a:lnSpc>
              <a:spcBef>
                <a:spcPts val="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isk factor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1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V viewing; after school activities; substance 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1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juries; illness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71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ealth services access; prenatal care; mother behavio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cohort Health: NLSY79 Moms, Kids, Y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3520" y="925560"/>
          <a:ext cx="8001000" cy="623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25560"/>
                    <a:ext cx="8001000" cy="62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rvey Content: Children 10-1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6629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&amp;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hips and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king – Drinking – Drugs - Anti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ing an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 education &amp; sexual ac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V viewing &amp; compute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for pay, early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ommunity Context/Neighborhood Quality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perception of safety of neighborh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nteer work in neighborh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her rating of neighborhood problems/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her perception of neighborhoo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adult child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olescent rating of neighborhood/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d in same city all of adolescent’s 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d with neighborhood/social action grou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 job cleaning up neighborhoo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linking early adolescent behavior &amp; NLSY79 young adult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hey, Van Hulle, D’Onofrio, Rodgers (2008) – Does parental knowledge in early adolescence predict future delinquency during late adolesc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hildren age 12-13 at t1              YAs age 16-17 at t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her demograph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ge at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rth; total net family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ental knowled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hild &amp; mother reports on how much parents know about friends, whereabouts, teachers, homework, money, TV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ental limit se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who sets rules/limits; how much say in making rules; how often parents limit time/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er press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xtent of perceived pressure to commit crime, violence, skip school, use illegal sub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ighborhood disorganiz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rating of neighborhood problems;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2514600"/>
            <a:ext cx="762120" cy="173160"/>
          </a:xfrm>
          <a:prstGeom prst="rightArrow">
            <a:avLst>
              <a:gd name="adj1" fmla="val 50000"/>
              <a:gd name="adj2" fmla="val 1100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49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ahey, et al. (cont’d): Outcomes &amp; Analys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nqu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ichotomous outcome to identify “highly delinquent” at age 16 or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sampling weigh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mple clustering w/in sampling units &amp; families not mode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limi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itique of parental knowledge scales; limited measures of peer assoc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hild –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ung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ult Connection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spcAft>
                <a:spcPts val="300"/>
              </a:spcAft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child ca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A education/behavio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obesi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A health &amp; employ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ssive symptoms across adolescence and young adult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school &amp; achievem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A educational attainment &amp; labor force 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of attitudes, behaviors and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ursors of adolescent substanc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antisocial behavio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A delin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llenges of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LSY79 Child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birth co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eligibility constraints on child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 miss som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detail from and about fa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detail on classroom &amp; school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bling clusters – kinship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avigating the Child Instru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look at the Questionnai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o interviewer-respondent conver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/universe 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text &amp; order of questions (important for measu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www.nlsinfo.org/childya/nlsdocs/tableofcontent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ex ≠ The Codebook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 codebooks not hyperlinked to other docu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tims and confidential data appear in the Quex – but not in the code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d variables: In the codebook but not in the Qu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ild Supplement – Who got 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80880" y="1447920"/>
          <a:ext cx="8134560" cy="48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1345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Children of the NLSY79 – more inf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905120"/>
            <a:ext cx="838224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S Child-YA webpages: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http://www.bls.gov/nls/nlsy79ch.ht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LS annotated bibliography:   </a:t>
            </a:r>
            <a:r>
              <a:rPr b="0" lang="en-US" sz="2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www.nlsbibliography.org</a:t>
            </a:r>
            <a:r>
              <a:rPr b="0" lang="en-US" sz="22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LSY79 Child print bibs: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800" spc="-1" strike="noStrike" u="sng">
                <a:solidFill>
                  <a:srgbClr val="996666"/>
                </a:solidFill>
                <a:uFillTx/>
                <a:latin typeface="Arial"/>
                <a:hlinkClick r:id="rId5"/>
              </a:rPr>
              <a:t>www.nlsinfo.org/childya/nlsdocs/tableofcontent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&amp; Documentation: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http://www.nlsinfo.org/investigator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LS User Services:    usersvc@chrr.os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 (614) 442-736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:      614.442.73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Kinship data – Siblings &amp; Cousi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sizes: &gt;6000 full siblings; &gt;2000 half-sibl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ternal &amp; identical twins: &gt;125 pairs as of 2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dates through 2002 &amp; 2004 to fol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usins - How are they identifi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3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 of NLSY79 main Youth mothers who are sisters (cousi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3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 of NLSY79 main Youth mothers who are half-sisters (half cousi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3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 of NLSY79 main Youth mothers who are themselves cousins (quarter-cousi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26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ow representative is the NLSY79 Child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LSY79 Child sample, when weighted, is representative of American children of women born 1957-1964 and living in the U.S. in 1979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sample now encompasses ~ 95 percent of children ever be born to NLSY79 w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spcAft>
                <a:spcPts val="1500"/>
              </a:spcAft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weights based on mother sampling we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ment factor used to account for interview rates in various age, race, and sex grou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weights do not adjust for children interviewed who did not complete an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26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X-Sectional &amp; Custom Sampling Weigh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ross-sectional weights for @ survey yea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.g., CSAMWT1986, CSAMWT2006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1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ustom weights on the web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s://www.nlsinfo.org/investigator/pages/weights.jsp?c=child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ustom weights documentation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ftp://www.nlsinfo.org/pub/usersvc/CustomWeight/CustomWeightingProgramDocumentatio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33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rends in NLSY79 Mother Age &amp; Educ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9608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3T13:01:50Z</dcterms:created>
  <dc:creator>NLSUser</dc:creator>
  <dc:description/>
  <dc:language>en-US</dc:language>
  <cp:lastModifiedBy>baker</cp:lastModifiedBy>
  <dcterms:modified xsi:type="dcterms:W3CDTF">2009-07-12T23:19:11Z</dcterms:modified>
  <cp:revision>812</cp:revision>
  <dc:subject/>
  <dc:title>The Young Adult Survey:</dc:title>
</cp:coreProperties>
</file>